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82FF-C70E-4D3D-A0A2-AEC32F4D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B71C-0066-4C60-A704-2C46502B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FA7C-6A4D-4B58-B783-14FCCFE3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4CDF-758A-4A99-9138-84D44403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46B78-9341-4832-B75C-220DD48A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D3B5-6755-49A6-A148-3B33C1A64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F9E3E-B8C8-4E91-A05B-B1F596EA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B068-D73C-41BA-9065-9CC8DD953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561C-12BF-4FD4-A01F-27757E66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0FEB-6DDC-4B93-B9E1-2877DBB5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4AC13-43FC-474B-A9F9-51159B26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18B0-A54D-4373-B7BF-E3324480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84F1-8085-4CB6-AB8A-B276EB13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342F-EF92-4972-8291-4E129430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9887-D67C-4D37-A062-810B4066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C40A-E3A6-4C60-93FD-82A974CEF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26C9-B719-4DE8-9A66-9290A9A8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3DF-0A47-4D84-9D9D-B27B7B31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4E3-868A-4237-B48F-989DC4EA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B37-7949-4575-A665-9E5344045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5B1-17D8-4376-83F1-1AD4A77E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802-B9F6-4AFC-A4C4-2A09F2E7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B197-4563-481C-9364-1DAED0B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165C-B500-48E7-A2A1-F9328AFB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58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589d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589d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BB6A-BCF1-4759-B3FF-773625C17238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589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589d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589d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673F-380B-4F20-9E57-175904EEC879}" type="slidenum">
              <a:rPr b="0" lang="cs-CZ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n.cz/analyza/ern_cz/cz/?D=2" TargetMode="External"/><Relationship Id="rId2" Type="http://schemas.openxmlformats.org/officeDocument/2006/relationships/hyperlink" Target="http://www.czso.cz/csu/2005edicniplan.nsf/p/1372-05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uregio-egrensis.org/" TargetMode="External"/><Relationship Id="rId2" Type="http://schemas.openxmlformats.org/officeDocument/2006/relationships/hyperlink" Target="http://www.euroreg.cz/?content=page&amp;id=22" TargetMode="External"/><Relationship Id="rId3" Type="http://schemas.openxmlformats.org/officeDocument/2006/relationships/hyperlink" Target="http://www.euroregion-labe.cz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uro-glacensis.cz/" TargetMode="External"/><Relationship Id="rId2" Type="http://schemas.openxmlformats.org/officeDocument/2006/relationships/hyperlink" Target="http://www.europraded.cz/" TargetMode="External"/><Relationship Id="rId3" Type="http://schemas.openxmlformats.org/officeDocument/2006/relationships/hyperlink" Target="http://www.euroregion-silesia.cz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      </a:t>
            </a: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rojekt:  Inovace vybavení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3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ovéPole 9"/>
          <p:cNvSpPr/>
          <p:nvPr/>
        </p:nvSpPr>
        <p:spPr>
          <a:xfrm>
            <a:off x="5943600" y="1908000"/>
            <a:ext cx="1050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 PG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 20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ovéPole 17"/>
          <p:cNvSpPr/>
          <p:nvPr/>
        </p:nvSpPr>
        <p:spPr>
          <a:xfrm>
            <a:off x="2160720" y="903240"/>
            <a:ext cx="19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Euroregion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3. roč.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 Z_2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ovéPole 24"/>
          <p:cNvSpPr/>
          <p:nvPr/>
        </p:nvSpPr>
        <p:spPr>
          <a:xfrm>
            <a:off x="2160720" y="3429000"/>
            <a:ext cx="10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. ročník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4.2.201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, Německo a Rakou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Šumava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euregio.cz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, Polsko a Sloven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Beskydy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euroregion-beskydy.cz/                          http://www.tise.sk/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, Slovensko a Rakou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omoraví   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euregio-weinviertel.org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Úkol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berte si jeden Euroregion – nemusí být s českou účast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mezte jeho hran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rčete, kdy euroregion vznik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hledejte o něm základní informace (geografické) – rozloha, počet obyvatel, počet obcí, organizační                     struktura at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rčete hlavní činnosti a aktivity euroregion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hledejte významné projekty euroregion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plňte mapou a zajímavostm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pracujte v elektronické podob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únor 2013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shraniční spolupráce po obou stranách hran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olupráce měst, obcí a okres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lokální a regionální spoluprá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ůvodně vznik uvnitř Evropského společenstv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vní                                                                                      – vznik – 1958 – Gronau (Německo, Nizozemsko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 ČR – 199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iž  existuje přes 150 subjekt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v ČR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1"/>
              </a:rPr>
              <a:t>http://www.ern.cz/analyza/ern_cz/cz/?D=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2"/>
              </a:rPr>
              <a:t>http://www.czso.cz/csu/2005edicniplan.nsf/p/1372-0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 a Němec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Egrensis                                                                     </a:t>
            </a:r>
            <a:r>
              <a:rPr b="1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1"/>
              </a:rPr>
              <a:t>http://www.euregio-egrensis.org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Krušnohoří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2"/>
              </a:rPr>
              <a:t>http://www.euroreg.cz/?content=page&amp;id=2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Labe                                                                     </a:t>
            </a:r>
            <a:r>
              <a:rPr b="1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3"/>
              </a:rPr>
              <a:t>http://www.euroregion-labe.cz/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 a Pol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Glacensis                                                                        </a:t>
            </a:r>
            <a:r>
              <a:rPr b="1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1"/>
              </a:rPr>
              <a:t>http://www.euro-glacensis.cz/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raděd                                                       </a:t>
            </a:r>
            <a:r>
              <a:rPr b="1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2"/>
              </a:rPr>
              <a:t>http://www.europraded.cz/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Silesia                                                          </a:t>
            </a:r>
            <a:r>
              <a:rPr b="1" lang="cs-CZ" sz="2000" spc="-1" strike="noStrike" u="sng">
                <a:solidFill>
                  <a:srgbClr val="3366ff"/>
                </a:solidFill>
                <a:uFillTx/>
                <a:latin typeface="Verdana"/>
                <a:hlinkClick r:id="rId3"/>
              </a:rPr>
              <a:t>http://www.euroregion-silesia.cz/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Těšínské Slezsko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euroregion.inforeg.cz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 a Rakou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Silva Nortica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silvanortica.com/cs/section-1/zakladni-informace-o-ersn.htm?sub=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 a Slovens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Bílé Karpaty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erbbk.sk/</a:t>
            </a:r>
            <a:r>
              <a:rPr b="0" lang="cs-CZ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66"/>
                </a:solidFill>
                <a:latin typeface="Arial"/>
              </a:rPr>
              <a:t>Euroregiony ČR, Polsko a Německo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isa                               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ttp://www.neisse-nisa-nysa.org/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hchotovinska</cp:lastModifiedBy>
  <dcterms:modified xsi:type="dcterms:W3CDTF">2014-06-16T06:57:24Z</dcterms:modified>
  <cp:revision>21</cp:revision>
  <dc:subject/>
  <dc:title>Snímek 1</dc:title>
</cp:coreProperties>
</file>