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AB9-F3EB-4F84-83BD-559FCC22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8661-000C-4DC7-BC1B-D84F64F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65B6-FD93-4F5D-A2D3-7EFD5394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59B2-0FD4-4972-9720-086D4604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6093-3543-49D8-9674-650F89A8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3EE6-646C-4236-B632-016625B9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574D-9CAE-4E41-BDA1-DAFE1D29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10D8-9DBF-4209-B92E-CA399DB3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1589-BFAB-4C86-A59C-052DD30E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39F4-1971-45F3-BC7C-81C32E9D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AA3C-03B6-4056-B913-002D1A0E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DC77-5907-4D60-96B7-B1BD01480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F952-F555-4EEA-9C1F-05C7A8EB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4DF9-1547-461D-8701-822544E1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EE91-F4EF-4507-8079-648E2464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B52B-9832-41E3-9F05-BC6D318B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7E624-7120-401F-9DD3-0F11E07C1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B7FA-863D-478F-AB83-57E7BA23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E626-AD4D-4C40-B990-94F746DE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198-AF16-44FE-BB83-D92004CE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C0F-8B2C-4D51-825C-C6F06DB4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FE73-059A-4E6F-B684-D90BD0E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063-C2F3-47F5-98BD-C318C0C0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B0E3-7331-412B-B02A-A980F46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ca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66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66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7571-D2B4-4CC3-AB99-5C7D19A52AB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ca9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66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ca9cc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66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AB7B4-1484-4A17-B837-2FF94BBA2C87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uropa.eu/about-eu/countries/index_cs.htm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uropa.eu/about-eu/facts-figures/administration/index_cs.htm" TargetMode="External"/><Relationship Id="rId2" Type="http://schemas.openxmlformats.org/officeDocument/2006/relationships/hyperlink" Target="http://europa.eu/policies-activities/index_cs.ht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europa.eu/about-eu/facts-figures/economy/index_cs.htm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s.wikipedia.org/wiki/Evropsk&#225;_uni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dclipart.org/displayimage.php?album=search&amp;cat=0&amp;pos=1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uropa.eu/about-eu/eu-history/index_cs.ht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s.wikipedia.org/wiki/&#268;lensk&#233;_st&#225;ty_Evropsk&#233;_unie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cs.wikipedia.org/wiki/T&#345;i_pil&#237;&#345;e_Evropsk&#233;_unie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5943600" y="1908000"/>
            <a:ext cx="1292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P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9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ovéPole 17"/>
          <p:cNvSpPr/>
          <p:nvPr/>
        </p:nvSpPr>
        <p:spPr>
          <a:xfrm>
            <a:off x="2160720" y="90324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Evropská uni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 třetí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ovéPole 24"/>
          <p:cNvSpPr/>
          <p:nvPr/>
        </p:nvSpPr>
        <p:spPr>
          <a:xfrm>
            <a:off x="2160720" y="3429000"/>
            <a:ext cx="2698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. roční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8.1.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Kandidátské země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countrie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Orgány a instituce EU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stitu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vropský parla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european-parliament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vropská r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european-council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ada E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council-eu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dní dvů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court-justice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vropská kom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europa.eu/about-eu/institutions-bodies/european-commission/index_cs.ht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ráva a sídlo       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facts-figures/administration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lasti politiky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2"/>
              </a:rPr>
              <a:t>http://europa.eu/policies-activitie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konomika      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facts-figures/economy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emědělství                                 http://europa.eu/pol/agr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Životní prostředí                                 http://europa.eu/pol/env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zdělávání                                     http://europa.eu/quick-links/schools-universities/index_cs.htm#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Shengenský systém 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cs.wikipedia.org/wiki/Schengensk%C3%BD_pros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euro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legislation_summaries/economic_and_monetary_affair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Informační společnost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legislation_summaries/information_society/index_cs.htm#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Leden 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ovéPole 5"/>
          <p:cNvSpPr/>
          <p:nvPr/>
        </p:nvSpPr>
        <p:spPr>
          <a:xfrm>
            <a:off x="628560" y="514440"/>
            <a:ext cx="2648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dkazy na internetové adres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Evropská uni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Nový region v Evropě 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cs.wikipedia.org/wiki/Evropsk%C3%A1_u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obrázek 1" descr="europeanunion"/>
          <p:cNvPicPr/>
          <p:nvPr/>
        </p:nvPicPr>
        <p:blipFill>
          <a:blip r:embed="rId1"/>
          <a:stretch/>
        </p:blipFill>
        <p:spPr>
          <a:xfrm>
            <a:off x="1476360" y="1628640"/>
            <a:ext cx="3581280" cy="2384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11"/>
          <p:cNvSpPr/>
          <p:nvPr/>
        </p:nvSpPr>
        <p:spPr>
          <a:xfrm>
            <a:off x="455760" y="4182840"/>
            <a:ext cx="823428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 u="sng">
                <a:solidFill>
                  <a:srgbClr val="990099"/>
                </a:solidFill>
                <a:uFillTx/>
                <a:latin typeface="Verdana"/>
                <a:hlinkClick r:id="rId2"/>
              </a:rPr>
              <a:t>http://www.pdclipart.org/displayimage.php?album=search&amp;cat=0&amp;pos=1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Integrace – počátky a historie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.1944 – Benel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r.1947 – Marshallův plá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EC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5.5.1949 – Rada Evropy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istori EU                                                             </a:t>
            </a: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europa.eu/about-eu/eu-history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Evropská unie - počátky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951 – Montánní unie    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– Evropské společenství uhlí a ocel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ílem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olečný trh pro uhlí, koks, železnou rudu a oc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kládající členové                                                    – státy Beneluxu, Francie, Itálie, Německ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957 – Římské smlouvy –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 platnosti od 1.1.195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Rozšiřování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973  Dánsko, Irsko, Británie                           1981  Řecko                                                       1986  Španělsko, Potugals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 evropská 1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995 – Finsko, Švédsko, Rakousko</a:t>
            </a:r>
            <a:r>
              <a:rPr b="0" lang="cs-CZ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. 2004 – připojení – 10 zemí - Estonsko, ČR, Slovinsko, Maďarsko, Kypr,Malta, Lotyšsko, Litva, Slovensko, Pols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 evropská 2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007   Bulharsko, Rumuns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= evropská 2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Členské země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cs.wikipedia.org/wiki/%C4%8Clensk%C3%A9_st%C3%A1ty_Evropsk%C3%A9_uni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about-eu/countries/member-countries/index_cs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pa.eu/about-eu/countries/index_cs.htm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0066"/>
                </a:solidFill>
                <a:latin typeface="Arial"/>
              </a:rPr>
              <a:t>Maastrichtská</a:t>
            </a:r>
            <a:r>
              <a:rPr b="0" lang="cs-CZ" sz="3600" spc="-1" strike="noStrike">
                <a:solidFill>
                  <a:srgbClr val="660066"/>
                </a:solidFill>
                <a:latin typeface="Arial"/>
              </a:rPr>
              <a:t> smlouva</a:t>
            </a:r>
            <a:endParaRPr b="0" lang="en-US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depsáno 9.a 10 12.199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astrichtský chrám – tři pilíře                                                   1. – Rada, komise, HMU, společný trh                                          2. – Zahraniční politika, bezpečnost, lidská práva,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emokracie, právní stát                                                           3. – vnitro a just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990099"/>
                </a:solidFill>
                <a:uFillTx/>
                <a:latin typeface="Verdana"/>
                <a:hlinkClick r:id="rId1"/>
              </a:rPr>
              <a:t>http://cs.wikipedia.org/wiki/T%C5%99i_pil%C3%AD%C5%99e_Evropsk%C3%A9_un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hchotovinska</cp:lastModifiedBy>
  <dcterms:modified xsi:type="dcterms:W3CDTF">2014-06-16T06:58:00Z</dcterms:modified>
  <cp:revision>18</cp:revision>
  <dc:subject/>
  <dc:title>Snímek 1</dc:title>
</cp:coreProperties>
</file>