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927-EBC3-4F24-95E7-BED1B7E8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A39-FB56-493D-90BC-1CE71F5A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6AE-44B0-4C21-AAE2-26D982ED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AF4-280E-4385-8F05-14D73239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09CA-CBDB-4770-B677-C96074F4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04FF-8E88-4653-AA19-8B8B333E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A92D-D18B-4813-9EA2-8E9B9C5A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C2CF-043C-4C79-9B4D-A42F1427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3FE0-7955-4F3B-BEB2-90CF005C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0B80-2D3B-42F2-9608-AC200D9F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0124-2D23-4DA3-82C2-8761603A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242-9F05-4C01-B2F9-A48CED4B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EC88-2006-473B-BD16-F18C6BD7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BE5C-BD04-47FB-90C9-E09B55E1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F61C-53CF-4C0D-8407-4C40C767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6886-5477-4294-869C-30542CA2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4A13-FDAF-4F1C-AEFE-353C11BD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CAE-D87F-447E-B849-6A1D788D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A69-11BB-4CF0-8F94-6C54F12D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A7A-BD70-445E-800D-F910EA8D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7A5-7F41-4409-88E1-EBE35D20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7C1-22A0-4AC3-879C-5D80A91C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06A-B437-475C-B89B-3205EF7B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307-9CE9-40D1-8B3D-3E553BF3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a1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a1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E1A8-181D-48D9-92E9-6F146CBA6EE9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a1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17FE-9E12-410D-A23C-63B0753DEC1A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365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9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ocioekonomická sféra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8.2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Zahraniční obchod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le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export – vývoz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import –  dov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Příklad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Cestovní ruch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žby v cestovním ruchu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bytov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vov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ej – suvenýrů, map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vodcovské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pobytů, zájez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Druhy a formy cestovního ruchu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819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MARADA, Miroslav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9: pro základní školy a víceletá gymnázi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8. ISBN 978-807-2385-9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-9425-7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Doprava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misťování lidí, surovin, zboží,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Složky dopravy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dopravní cesty – např. silnice                                                                 - dopravní prostředky – např. lodě                                                          - dopravní zařízení – např. letiš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Druhy dopravy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evnins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lni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elezni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nitrozemská vod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trub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stská hrom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ořsk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zduš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lete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vláštní dru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řenos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Doprava a hospodářské sektory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Sektory hospodářství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rimér                                                                        - sekundér                                                                 - terciér                                                                           - kvarté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Služby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výrobní                                                                                - nevýrob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Příklady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ejna potravin                                           nemocnice                                                                soud                                                                               zimní stadion                                                         restaurace                                                         supermarket                                                                    policie                                                                      kino                                                                             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4:13Z</dcterms:modified>
  <cp:revision>21</cp:revision>
  <dc:subject/>
  <dc:title>Snímek 1</dc:title>
</cp:coreProperties>
</file>