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45F-0EC0-4EC6-8962-8CDE5551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012-E4CB-4FEA-ACEA-F6AB1C35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0B0-C408-4A58-9B31-8F0D67F5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BA6-AD51-4CDB-840D-FDE4188D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E6BD-F207-4A4E-B582-D1A09DCC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7833-A3D8-4D4A-9878-529780E4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26B9-20B7-4EE3-B3E3-1DF389B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7942-1C27-426B-9000-3ABE594D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5814-33E4-455B-BC2C-B5E05EF1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8439-DCFB-4E7F-9DC2-72613EE2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ECD4-127D-4A70-A033-B2917031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A20-842B-40D5-9F9E-E40E0E9D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BFF6-43AD-448A-BD0A-013A0B24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88B3-7415-45DA-8DD2-0FD1B9FF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D385-314A-4783-8F1E-A60C3C16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A85E-7A5B-4892-B5CA-3A49EB1D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F088-6275-40B2-B1EF-108311BE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74E-A887-49AD-A3C3-69A6C3F9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FA4-9E14-4428-B107-BD134CCA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36F-A0D2-44A0-AE3F-DD85A549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A69-B40E-4121-9E99-040ABC79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AD3-E158-4D1C-9650-33A5D54B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D77-3707-455E-B5DD-AAC4ED8F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B36-72A2-4C39-9457-8C290226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a1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a1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D3A0-B4D2-4734-B10A-4185C9709D50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a1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B435-9095-4C59-AED1-F60DCE9727A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 Inovace vybavení     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365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9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ocioekonomická sfé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6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Klasifikace sídel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ta                                                                          –  osada                                                                             –  vesnice                                                                                –  města                                                                                –  velkoměsta                                                                        –  aglomerace                                                                       –  konurb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galo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Průmysl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ěžební – paliv, rud, nerudných sur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raco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ěžk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třební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Zpracovatelský průmysl - těžký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nergetika – průmysl paliv a energetiky                                                           metalurgie – hutnictví 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 železa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 barevných kovů                                                                                  strojírenský průmysl – část                                           chemický průmysl –  č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99"/>
                </a:solidFill>
                <a:latin typeface="Arial"/>
              </a:rPr>
              <a:t>Zpracovatelský průmysl - spotřební</a:t>
            </a:r>
            <a:endParaRPr b="1" lang="en-US" sz="32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část strojírenského a chemického                                                   - potravinářský                                                      - textilní                                                                           - oděvní                                                                             - kožedělný                                                                             - polygrafický                                                                   - dřevozpracující                                                                      - papírenský                                                                                    - výroba skla, keramiky a porcelá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Zemědělství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stlinná výroba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vočišná výr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tenzivní    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nz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Rostlinná výroba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Živočišná výroba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oučást zemědělství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ol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sní a vodní hospodá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041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MARADA, Miroslav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9: pro základní školy a víceletá gymnázi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8. ISBN 978-807-2385-9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-9425-7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ocioekonomická sféra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dská činnost v přírodním prostředí – ve fyzickogeografic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dsk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99"/>
                </a:solidFill>
                <a:latin typeface="Arial"/>
              </a:rPr>
              <a:t>Socioekonomická a fyzickogeografická sféra</a:t>
            </a:r>
            <a:endParaRPr b="1" lang="en-US" sz="3200" spc="-1" strike="noStrike">
              <a:solidFill>
                <a:srgbClr val="cc3399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2617920" y="2362320"/>
          <a:ext cx="41338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7920" y="2362320"/>
                    <a:ext cx="41338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Geografie a ostatní věd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2916360" y="2997360"/>
          <a:ext cx="27208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997360"/>
                    <a:ext cx="27208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99"/>
                </a:solidFill>
                <a:latin typeface="Arial"/>
              </a:rPr>
              <a:t>Geografie obyvatelstva - charakteristiky</a:t>
            </a:r>
            <a:endParaRPr b="1" lang="en-US" sz="32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žení obyvatelstva podle 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kové slož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rodnostní slož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sové slož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bože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Růst počtu obyvatel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ý pohyb                    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orodnost                   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úmrt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chanický pohyb – stěhování – migrace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řistěhování – imigrace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vystěhování – emi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ídla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sto, kde se soustřeďuje činnost lidí, zboží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Typy sídel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3:55Z</dcterms:modified>
  <cp:revision>20</cp:revision>
  <dc:subject/>
  <dc:title>Snímek 1</dc:title>
</cp:coreProperties>
</file>