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FB8D-4BA6-42CB-A71C-F6B26F1F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443C-FDD4-4F3A-A7E8-7544024E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9FF1-7D81-48F9-8128-BD70CC19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633A-EBDB-4B99-85C2-2DFE8055B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10BA-8888-44F3-925C-D283E1C8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BB70-AB94-4546-810F-06146143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239F-5CCF-420A-98EB-1B13EFB6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29FE-0EB3-4F81-A7F8-91C0A1C7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4C56-F81D-4184-B390-E6210A29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3E03-468F-44ED-9A91-8F180972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38D3-1566-409C-9568-3FD29B61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B5F3-F4DA-41B7-850F-6F55BBE3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6C1A-6AFF-479A-9B55-492E3096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F30E-7367-4030-877C-2CAEE357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1D54-800C-431F-B05E-0594A724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2C33-9BB9-409D-B84F-8D485732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EE9F-6E3C-4134-818E-ACD08D40E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FFB6-B5C8-4451-BDDB-6CCDD594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B978-819D-43F5-9D2D-05A4CA98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3F4D-11F9-48A1-8022-D471DC29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26AE-AE6E-448E-BF5F-DE7E3552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B8B2-3312-4088-BC1B-724140E2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5C4B-28C9-43DD-B0B7-04CACB3B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F628-C118-42CB-AB88-2795910E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e632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e632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4B6C-C949-442E-BFB1-BCEBD2889548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e63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A5C8-53C7-4245-86F0-8BD79A9DC54E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           </a:t>
            </a: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rojekt: Inovace vybavení 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98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9"/>
          <p:cNvSpPr/>
          <p:nvPr/>
        </p:nvSpPr>
        <p:spPr>
          <a:xfrm>
            <a:off x="5943600" y="1908000"/>
            <a:ext cx="1765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zeměpi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12"/>
          <p:cNvSpPr/>
          <p:nvPr/>
        </p:nvSpPr>
        <p:spPr>
          <a:xfrm>
            <a:off x="5943600" y="218268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ovéPole 17"/>
          <p:cNvSpPr/>
          <p:nvPr/>
        </p:nvSpPr>
        <p:spPr>
          <a:xfrm>
            <a:off x="2160720" y="903240"/>
            <a:ext cx="1906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Fyzickogeografická sfé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ovéPole 18"/>
          <p:cNvSpPr/>
          <p:nvPr/>
        </p:nvSpPr>
        <p:spPr>
          <a:xfrm>
            <a:off x="2160720" y="116532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 _ Z_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ovéPole 23"/>
          <p:cNvSpPr/>
          <p:nvPr/>
        </p:nvSpPr>
        <p:spPr>
          <a:xfrm>
            <a:off x="2160720" y="316548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25"/>
          <p:cNvSpPr/>
          <p:nvPr/>
        </p:nvSpPr>
        <p:spPr>
          <a:xfrm>
            <a:off x="2160720" y="291456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14.2.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dvora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Únor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ovéPole 5"/>
          <p:cNvSpPr/>
          <p:nvPr/>
        </p:nvSpPr>
        <p:spPr>
          <a:xfrm>
            <a:off x="628560" y="514440"/>
            <a:ext cx="79041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ČERVENÝ, Pavel. </a:t>
            </a: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Zeměpis 6: pro základní školy a víceletá gymnázia: učebnice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 1. vyd. Plzeň: Fraus, 2003, 124 s. ISBN 80-723-8209-8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ff"/>
                </a:solidFill>
                <a:latin typeface="Arial"/>
              </a:rPr>
              <a:t>Fyzickogeografická sféra</a:t>
            </a: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pak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větli pojem fyzickogeografická sfé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jaké složky ji dělí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ff"/>
                </a:solidFill>
                <a:latin typeface="Arial"/>
              </a:rPr>
              <a:t>1. </a:t>
            </a:r>
            <a:r>
              <a:rPr b="1" i="1" lang="cs-CZ" sz="3200" spc="-1" strike="noStrike">
                <a:solidFill>
                  <a:srgbClr val="ff00ff"/>
                </a:solidFill>
                <a:latin typeface="Arial"/>
              </a:rPr>
              <a:t>Zapište ke každé sféře alespoň tři změny způsobené člověkem</a:t>
            </a:r>
            <a:endParaRPr b="1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tmosfé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ydrosfé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itosfé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edosfé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iosfé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ff"/>
                </a:solidFill>
                <a:latin typeface="Arial"/>
              </a:rPr>
              <a:t>2. Vysvětlete následují pojmy</a:t>
            </a: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moř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rá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nd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as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rodná pů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ff"/>
                </a:solidFill>
                <a:latin typeface="Arial"/>
              </a:rPr>
              <a:t>3. Schematicky zakreslete</a:t>
            </a: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loběh vody v přírod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yklonu pro severní polokou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ez Zemí a jeho vrst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nebné pásy severní poloko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škové stupně na Zemi – jak se mění lesy s nadmořskou výšk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ff"/>
                </a:solidFill>
                <a:latin typeface="Arial"/>
              </a:rPr>
              <a:t>4</a:t>
            </a:r>
            <a:r>
              <a:rPr b="1" i="1" lang="cs-CZ" sz="3600" spc="-1" strike="noStrike">
                <a:solidFill>
                  <a:srgbClr val="ff00ff"/>
                </a:solidFill>
                <a:latin typeface="Arial"/>
              </a:rPr>
              <a:t>. Sestavte správné dvojice pojmů</a:t>
            </a: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2362320"/>
          <a:ext cx="3805200" cy="3724200"/>
        </p:xfrm>
        <a:graphic>
          <a:graphicData uri="http://schemas.openxmlformats.org/drawingml/2006/table">
            <a:tbl>
              <a:tblPr/>
              <a:tblGrid>
                <a:gridCol w="1933560"/>
                <a:gridCol w="1871640"/>
              </a:tblGrid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lp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ho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alk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jez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Flori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ledov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Gibralt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ostr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Sicíl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ohoř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Sněžk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oloostr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atnajoku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růli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ff"/>
                </a:solidFill>
                <a:latin typeface="Arial"/>
              </a:rPr>
              <a:t>5. Sestavte správné dvojice pojmů</a:t>
            </a: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838080" y="2362320"/>
          <a:ext cx="4238640" cy="3724200"/>
        </p:xfrm>
        <a:graphic>
          <a:graphicData uri="http://schemas.openxmlformats.org/drawingml/2006/table">
            <a:tbl>
              <a:tblPr/>
              <a:tblGrid>
                <a:gridCol w="1862280"/>
                <a:gridCol w="2376360"/>
              </a:tblGrid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ledov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černoz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litosfé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el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očas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hlinit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r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Lauras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ůdní dru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okamžitý sta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ůdní ty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trop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řek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eleh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3:05:46Z</dcterms:created>
  <dc:creator>nonamed</dc:creator>
  <dc:description/>
  <dc:language>en-US</dc:language>
  <cp:lastModifiedBy>doma</cp:lastModifiedBy>
  <dcterms:modified xsi:type="dcterms:W3CDTF">2014-05-06T07:33:38Z</dcterms:modified>
  <cp:revision>12</cp:revision>
  <dc:subject/>
  <dc:title>Snímek 1</dc:title>
</cp:coreProperties>
</file>