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B52-C285-4C2D-95A1-B169E61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566-1A39-4EDE-8A37-D280633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501-91F6-4FE8-9AD0-F81BF8F9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CB3-8328-4E23-B8C7-1E58529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DE1-1355-434E-AAB2-429B4046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27D0-3385-4CA4-9B3C-0C30E755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675-8856-4C70-8C5A-CA1BDFDD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907-FAF1-4FC5-A2BF-16D24A4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A4B5-7AF6-4F66-A56F-D0717B3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08A8-A2C0-4EA6-A770-AB4C699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60D-A9F0-48E3-8DC6-785F0E8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FED-3DFA-4A28-8DD9-8E573D67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C0D4-8728-4FAE-B77E-701E36E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D745-C2D0-404C-B070-1F431E1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21EE-B99D-4639-B563-C2F07821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DD0-F8BB-4ACB-ACC8-876EDD7C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9BEA-002F-4CCE-AFE8-A286FB96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4D2-0962-41D2-8E1B-F59264A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49C-A04D-4509-9F31-7F3D590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ED3-34E6-4675-9299-D8D2C866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ACE-AF7E-4128-9E06-ADEDB5D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45C-83EC-430F-A98A-77EE5C7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195-7858-4B15-A9A2-5B0EFCEB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99E-7427-497E-8700-323929C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348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348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02A8-DC55-4CEE-8F48-F901101085E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48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7527-9C9D-4130-A920-839230C5D038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dvorakova@gymta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logie.vsb.cz/loziska/loziska/loziska_cr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Oil_producing_countries_map.pn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508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erostné surovi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2400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2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Železná rud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%C5%BDelezn%C3%A1_r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Vzácné kov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í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Zlato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Zlato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ěžba a zásoby                            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http://i.idnes.cz/12/033/cl5/JB421b6f_g5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tavební materiá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á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pe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uroviny pro sklářský průmys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lářské pí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eramické jí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o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Suroviny pro chemický průmysl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 u="sng">
                <a:solidFill>
                  <a:srgbClr val="969696"/>
                </a:solidFill>
                <a:uFillTx/>
                <a:latin typeface="Arial - 16"/>
                <a:ea typeface="Arial"/>
                <a:hlinkClick r:id="rId1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04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Nerostné surovin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bohatstv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né člově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dělení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čerpatelné  – obnovitelné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– neobnovitel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yčerpa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Ložiska  nerostů v ČR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geologie.vsb.cz/loziska/loziska/loziska_c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Energetické zdroje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h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ní pl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an, th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ternativ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op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centi </a:t>
            </a:r>
            <a:r>
              <a:rPr b="0" lang="cs-CZ" sz="2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cs.wikipedia.org/wiki/Soubor:Oil_producing_countries_map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ové zásoby http://cs.wikipedia.org/wiki/Soubor:Oil_Reserve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opa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z http://cs.wikipedia.org/wiki/Soubor:Oil_export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voz http://cs.wikipedia.org/wiki/Soubor:Oil_imports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80808"/>
                </a:solidFill>
                <a:latin typeface="Arial"/>
              </a:rPr>
              <a:t>Rudy</a:t>
            </a:r>
            <a:endParaRPr b="1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elezná r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dy barevných kovů                                                      - Cu, Co, Ni, Zn, Chrom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22Z</dcterms:modified>
  <cp:revision>19</cp:revision>
  <dc:subject/>
  <dc:title>Snímek 1</dc:title>
</cp:coreProperties>
</file>