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743-D72C-40BF-88F8-47561B52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244-F195-4D11-8DB2-0239DFA5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0B9-0F15-4869-9ACE-E45FCAAF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12D-A5C7-4193-AA7B-9324B2B4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D4F2-F97B-44EE-9A04-420773F5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CADC-9960-4BB6-9A04-E3C68A9F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71F2-1229-480B-86F8-7D3868FE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2B01-7DB9-40C5-A75A-62F68F87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1A2C-E676-4F5D-836B-92C531CB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B1AF-BBE2-4CF3-A077-B842803C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74E2-D29D-4F03-B31E-30BADCB2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ED2-E1FF-43A7-99B9-E2DB62B3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E96A-F15C-45CD-8F97-5ED2736C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3658-A7CF-4FF9-BB63-9F470B0B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B58D-5491-4326-800C-6254A841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6020-EDBE-46D8-A520-F3B1B559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8948-AE82-4AD5-ACFE-B29A3835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9F2-6D85-4D94-A47F-335980D8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562-AEC6-4BBB-A2A8-A3D3E7DD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FBE-F08D-4AF7-9CAB-8110A3EC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A63-1559-4A8D-AF2E-7291E5AB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868-51FD-42A5-9523-FEFFA85D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3930-F12B-472B-BCB0-30167D95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650-6BEB-4109-81E0-D74D6A4A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1f33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1f33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CBAF-1B86-40EB-AABE-CFE9C09EA49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1f3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FD9D-296D-4310-ACD6-827617E104A3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.aktualne.centrum.cz/29/82/298276-svetove-zasoby-vody.png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ndeo.cz/spotreba-vody" TargetMode="External"/><Relationship Id="rId2" Type="http://schemas.openxmlformats.org/officeDocument/2006/relationships/hyperlink" Target="http://www.gymkh.cz/storage/slavicek/voda/spotreba_svet.jp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303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o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5.2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Arial"/>
              </a:rPr>
              <a:t>Světový rybolov a produktivita moří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1899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Lovené ryb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79041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228600" indent="-22860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ČERVENÝ, Pavel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6: pro základní školy a víceletá gymnázia: učebnice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3, 124 s. ISBN 80723-8209-8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-9425-7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Vod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rodní zdroj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tšina – sla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využití – většinou pouze slad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Kde jsou zásoby sladké vod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dov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z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e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bníky, vodní nádr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 povr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Světové zásoby vod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img.aktualne.centrum.cz/29/82/298276-svetove-zasoby-vody.p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Spotřeba vod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ondeo.cz/spotreba-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gymkh.cz/storage/slavicek/voda/spotreba_svet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www.ctenarska-gramotnost.cz/wp-content/uploads/2012/12/11-Spotreba_vody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Přístup k pitné vodě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ucebnice2.enviregion.cz/userFiles/voda_pic/pristup-k-vode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Nedostatek vod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www.defenceandstrategy.eu/galerie/obrazky/imager.php?img=129797&amp;x=570&amp;y=3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thi.uloz.to/9/7/3/973cc5800dfe6ac2621bf61bc81b7c7e.800x600.p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Rybolov – světová loviště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www.herber.webz.cz/www_ocean/08-rybolov.html#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3:04Z</dcterms:modified>
  <cp:revision>20</cp:revision>
  <dc:subject/>
  <dc:title>Snímek 1</dc:title>
</cp:coreProperties>
</file>