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39D-8BBF-4375-BC01-7A4B915B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909-798F-4AB2-BE63-319F9F5F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51A-14A2-4099-B04F-7B740668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CA2-1316-4AFE-AF7B-1AA7A4C5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85D1-0021-4E5B-BA70-4279FDF9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A638-8834-4E16-8545-704E3B77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CC75-E227-42F2-8D84-3FD8C70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E063-17AF-4655-A5B9-F28DE148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2F2-8A45-494B-A3BC-758A185C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4C60-CA83-458F-AAFE-BEC26F0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8AE0-9C27-4674-8473-6C6CA59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4EE-48D8-45A1-BF60-2FDE3EE7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D7A5-33E2-4E91-907B-700D6D8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762-5A2C-44FB-8B35-F775DBE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E5AF-BFDF-428E-8F86-725944B8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D8AE-7169-4346-9CB0-F8D416FD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AB12-51EB-4F0E-8C69-A2E41307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D3E-866F-4C52-A4C2-E4C6B7E2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FAB-5B9C-4121-90CC-6E6B3993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227-5F01-4051-83D0-34E0D1FA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A10-2900-46F9-85BA-958D22C5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E6F-6C3E-4F57-B8D8-86531C1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C21-8F1A-4B24-96F0-AD374D1D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38C-DFD6-4BBC-A7C1-81A8B208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48d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48d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EAAB-F311-407D-B1BC-53C83E8010A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48d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DA70-3A66-4EFC-8863-EE5E6579E2B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414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5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Problém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ácení lesů                              http://www.amazonskepralesy.cz/priciny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žá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Dřevo – surovina pro průmysl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¾ pochází z oblasti mírného pá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ětší producenti – skandinávské země a K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oblasti tropické – Brazílie a Austrá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Výrobky ze dřeva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atina, prk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by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ulóza, papí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Dřevozpracující průmysl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1930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6154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Les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hatství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vodní a nově vysaze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novitelný přírodní zd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mezistromy.cz/cz/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Lesy – původní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mírném pásu = taj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tropickém pásu = tropický deštný p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Tajga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hličnaté stromy – smrky, modří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ěrem k jihu – přibývá listnatých stro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ě vysazován                                                              – hlavně smrk – rychleji ro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Tajga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Soubor:Taiga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Tropický deštný prales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ěkolikapatrová vegetace                                           – až do výšky 7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ácná dřeva – mahagon, eben, ba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alování lesa                                                                    – získávání půdy pro zeměděl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Tropický deštný les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cs.wikipedia.org/wiki/Soubor:Tropicke_lesy_sveta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9966"/>
                </a:solidFill>
                <a:latin typeface="Arial"/>
              </a:rPr>
              <a:t>Význam lesa</a:t>
            </a:r>
            <a:endParaRPr b="1" lang="en-US" sz="36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ivňuje atmosféru                                              foto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braňuje erozi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sto života živočichů a rost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ba dřeva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2:46Z</dcterms:modified>
  <cp:revision>17</cp:revision>
  <dc:subject/>
  <dc:title>Snímek 1</dc:title>
</cp:coreProperties>
</file>