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462-196E-4B42-AB8C-3F80C8EB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67C-80BF-452A-BA35-F2254644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B47-73E1-4F76-96FB-753D2F84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ABE-5C16-404D-9425-EB620F55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8EB-A9A1-473D-A8B3-F3324C12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C6C4-C5B4-426C-B654-35926EA5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8AA5-23D3-4ADE-A978-3CD9418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0997-670E-42E4-9E3C-A57EBECE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DEDD-DCA6-4941-A805-C1EB3EE6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882-467A-4894-8E59-F59CC574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37AF-FDC9-4890-95A8-7AD807F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E5B-5A31-4214-A8ED-34E9765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2F2-2291-439A-A7E0-FE92FCCA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10D-4FF7-4CEB-ABC8-0012DD4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C345-EDE0-4D14-8C91-FC13434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80A3-D893-4854-83B3-B736915A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6903-977C-42FD-BEC7-B9ACF26D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84A-140A-46E5-B698-69FFE8A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C6C-7357-41F2-A319-5B949462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D7B-5E46-488E-B63B-6F348E1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60C-7CCF-4925-A5DB-B17B027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3B-68D2-4BC2-8025-F90659E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7A2-A8EC-4612-A716-85CFAD8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6BE-A11C-46E1-BE04-0BAD3BCC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6D9F-B453-4831-849F-D996E86969CB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142-18EA-41C2-BD1D-2E7BE6DB9C1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6041880" y="1908000"/>
            <a:ext cx="1409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205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Bioklimatické pásy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9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7. Sestavte podle předcházejícího vzoru charakteristiky pro oblasti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omoří                                                                  Oblast 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7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Bioklimatické pásy 2 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1. Opište si následující pás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lhký tropický pás                                                                       Savany                                                                   Pouště – subtropické                                                Step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Tund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cccc00"/>
                </a:solidFill>
                <a:latin typeface="Arial"/>
              </a:rPr>
              <a:t>2. </a:t>
            </a: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Přiřaďte oblasti správné místo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em obratníků                                                             kolem polárního kruhu                                                                    mezi rovníkem a obratníky                                              mírný pás                                                                        mírný pás - chladnější                                                                          oblast kolem r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cccc00"/>
                </a:solidFill>
                <a:latin typeface="Arial"/>
              </a:rPr>
              <a:t>3. Přiřaďte oblasti správnou podnebnou charakteristiku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trémní sucho                                                        málo srážek                                                     období sucha a dešťů                                                   tuhá zima, krátké léto                                                       vydatné srážky, vysoké teploty                                            zimy chladné, léta teple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4. Přiřaďte oblasti správné rostlin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obab, trnovník, akát                                      jehličnany - smrk, modřín                  mechy, lišejníky, tráva                                              orchidej, liány, bambus                                   bez vegetace                                                                trávy, místy ke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5. Přiřaďte oblasti správné živočich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raboš, zajíc, sysel                             papoušek, leopard, opice                                 plazi, štíři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uleň, lachtan, sob, los, medvěd                                                 vlk, medvěd                                                            zebra, žiraf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cc00"/>
                </a:solidFill>
                <a:latin typeface="Arial"/>
              </a:rPr>
              <a:t>6. P</a:t>
            </a:r>
            <a:r>
              <a:rPr b="1" i="1" lang="cs-CZ" sz="3600" spc="-1" strike="noStrike">
                <a:solidFill>
                  <a:srgbClr val="cccc00"/>
                </a:solidFill>
                <a:latin typeface="Arial"/>
              </a:rPr>
              <a:t>řiřaďte oblasti správné charakteristiky</a:t>
            </a:r>
            <a:endParaRPr b="1" lang="en-US" sz="36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hnitý povrch                                                            oázy                                                               prérie, pampy                                                               prales                                                                     Sahel                                                                           zmrzlá pů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2:30Z</dcterms:modified>
  <cp:revision>21</cp:revision>
  <dc:subject/>
  <dc:title>Snímek 1</dc:title>
</cp:coreProperties>
</file>