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533D-73AF-404F-BC9D-19944715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3C7-E99C-482E-A5FA-83EDC330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30B-83E3-4C44-9B2B-187D7302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5B0B-335D-4D2A-BB62-CBA20D1D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5F34-4579-496F-A9F0-25058BA7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287C-87A7-442F-AC5D-D0FD41F3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86AE-78E5-423F-A096-FC35E890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DDAC-7AE5-45FD-9496-E2EF5566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E159-1111-4044-A6B4-82B5B94F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35C8-D5EA-4930-B8CA-A02814DF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C714-4FF3-4B42-A3F8-296EFA43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117-5F67-4C25-BE7E-41997D65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8A8C-3142-440A-9006-5E19551D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24E3-033A-449E-BFF9-3AB53B1F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561F-BF44-4E13-9B97-FF09AA9E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8FC6-0CAC-4B8E-A1D3-DDBFDF8B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C5EB-AAA9-4D33-8BF1-FFE3847A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E00A-5650-49EC-9A04-B2F6C93E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8CEE-3F0F-4C09-84D4-39DEE5CF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9C2E-64F2-4C5C-9B51-3E33524E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60A6-A4DB-45D1-8CA8-D093E6C1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2F1-3DF6-420B-B1C3-B34143F9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3FF-9D48-4DAE-84CC-6F53971F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FA23-7050-4628-8306-E836E29D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7F4D-A58A-4B08-A8BA-47F337BAABB3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7713-A24A-4BD2-825B-DB1A2CA5C73C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dvorakova@gymta.cz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 Inovace vybavení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2207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1403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Bioklimatické pás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4.1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7. pás stepí 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ihozápadní Evropa,  východní Asie, centrální části Severní Amer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chodné pásmo mezi pouštěmi a lesy mírných šíř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dostatek vlá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ídké porosty – trávy, keře                                                        při dešti – se zazelená a bohatě rozkv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odavci, kurovi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cc00"/>
                </a:solidFill>
                <a:latin typeface="Arial"/>
              </a:rPr>
              <a:t>8. pásy pouští a polopouští mírného pásu 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ngolsko                                                                                      Karakum, Kyzylkum                                                                                   - s chladnými zimami, málo sráž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9. pás jehličnatých lesů 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 severní polokouli – Aljaška, oblast  Skandinávie  a A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tinentální i oceánské k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z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mrk, borovice, modř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j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10. pásy tunder 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 severní i jižní poloko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rsné k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es - hranice rozšíření lesa  - stromy přechází do křovin                                                                             trpasličí břízy, křovinaté vr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bytek tepla -  bylinný podrost – mechy, lišejní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ivočišstvo – ptáci, sobi, losy polární li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 u="sng">
                <a:solidFill>
                  <a:srgbClr val="99ff33"/>
                </a:solidFill>
                <a:uFillTx/>
                <a:latin typeface="Arial - 16"/>
                <a:ea typeface="Arial"/>
                <a:hlinkClick r:id="rId1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led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5"/>
          <p:cNvSpPr/>
          <p:nvPr/>
        </p:nvSpPr>
        <p:spPr>
          <a:xfrm>
            <a:off x="628560" y="514440"/>
            <a:ext cx="797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ČERVENÝ, Pavel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 6: pro základní školy a víceletá gymnázia: učebnice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lzeň: Fraus, 2003, 124 s. ISBN 80-723-8209-8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Školní atlas světa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2. vyd. Praha: Kartografie Praha, 2007, 1 atlas (175 s.). ISBN 978-80-7011-925-9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Bioklimatické pásy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rodní oblasti Ze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1. pás trop. deštných lesů 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kolo rovníku                                                                     srážky – až 5000 mm – i 12000 – záp. Indie                                                               - vyrovnané počasí během dne                                                             - vysoká vlhkost – 90%                                                                                      - vegetace – vysoké bujné, husté lesy                                                             – pestré složení – na 1 ha – až 400 druhů,                                                             4 - 5 pater                                                                                                                   - živočišstvo – hl. v korunách stromů  světlo                                                                       ptactvo, hmyz, op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2. pás trop. opadavých a poloopadavých lesů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va pásy 10 – 25°s.š. aj.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dobí deště a sucha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ižší str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kácené oblasti -  plantá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dloužením doby sucha  lesy přechází do křovinatých až travnatých poros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avana – travnatá plocha a nízké stromy, keře            býložravci – kopytníci, šelmy                                                           antilopy, zebry, žirafy, hy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3. pásy trop. pouští a polopouští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ště - Saharská, Libyjská, Kalahari, Arabský poloostrov, oblast střední  Asie, Atacama, oblast střední Austrá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álo srážek – 400 mm – až 11 měsíců su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lké kolísání teplot mezi dnem a no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ůdy – bez humu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getace – místy  – málo druhů – suchomilné trávy, sukulety                                                                                                            oázy – vystupuje podzemní voda – palma datlová, velb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4. pásy středomořské 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okolo Středozemního moře, západní  pobřeží Severní    Ameriky, okolo Kapského města                                                                                - suché léto, vlhká z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vegetace – zelené i opadavé stromy, sucho – křoviny                              dub korkový, cypřiš, jalovce                                                                                                           Kapsko - mečí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5. pásy lesů vlhkých subtropů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chodná forma mezi trop. a opadavými lesy                            - nejde o pásy – jihovýchodní Asie, Florida, Kalifor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6. pásy opadavých listnatých lesů 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ední Evropa, Asie, Amer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 jižní  polokouli – sporad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statek sráž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getace – dub, habr, buk, je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2:12Z</dcterms:modified>
  <cp:revision>22</cp:revision>
  <dc:subject/>
  <dc:title>Snímek 1</dc:title>
</cp:coreProperties>
</file>