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454-434D-425A-AFDF-DD1673ED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49C-5DE4-4437-AE5F-3411DE0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881-22E7-4DBD-9331-7D703439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657-A5C8-4BD8-9737-65772E29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431-2473-4CBB-AD03-A45FFC82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28AF-510E-4CCE-8B93-1D8BFA5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FC86-A492-4EB0-9E4E-B7857A5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392-B0E0-4D7E-8D6B-3F7DA1D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565A-1870-4A22-99A7-D45A032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E7A-513B-4DCB-84E5-2EE77D8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FFCB-0686-4F71-879E-4CB9E80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9F1-FD30-464D-BE36-3538F67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B59B-D155-4718-83F7-D70837E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C361-5EFB-40CC-88AF-6D48455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3E5-1E1B-4BED-97E9-E88669FD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D2B-2AD0-4C77-B545-72CA056D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9A1-1630-4129-AAC6-70B48F16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88F-C2EC-43B3-9E96-17AA60E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848-D1DF-4D3E-A8F3-90A348E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9FD-5998-4523-B2B1-D0B8789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B6D-E6B7-403B-83EF-61C7D37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748-B11C-4E81-9298-9E6BA25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8B9-D118-4670-B986-49AD5AB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F0B-8B6A-4513-9D1E-B69CA0D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9C4-867D-4348-87D9-6634A28F4BA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AC4-E238-4CF9-BB35-53F4B346707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220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792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4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oblasti  rostlinstva  je rozdělen povrch plan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aké se nacház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Zoogeografické oblasti Země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oblasti  živočišstva  je rozdělen povrch plan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aké se nacház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á zvířata žijí u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Zoogeografické oblasti – Evropa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Biosféra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hrn rostlinstva a živočišstva na Z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Rostlinná pásma na Zem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 rostlinné pásmo se nachází v oblasti, kde lež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e rozložení pásem na jižní poloko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Výškové stupně na Zem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výškové stupně najdeme v našich hor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na Zemi najdeme všechna výšková pá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3"/>
          <p:cNvGraphicFramePr/>
          <p:nvPr/>
        </p:nvGraphicFramePr>
        <p:xfrm>
          <a:off x="2441520" y="2428920"/>
          <a:ext cx="448632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428920"/>
                    <a:ext cx="44863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Vegetační stupně ve stř. Evropě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Fytogeografické oblast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47Z</dcterms:modified>
  <cp:revision>20</cp:revision>
  <dc:subject/>
  <dc:title>Snímek 1</dc:title>
</cp:coreProperties>
</file>