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4DE-8838-40E7-8E6E-E2C46AD1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909-B4A6-42B7-9607-F20950D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D65-60D2-4AF2-AB1E-3EAE7C64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ED7-C55B-4B0B-B348-51A2E728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2192-031F-4521-820B-02884F9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F68-1AB1-451E-87D5-9CC3907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6020-BF18-46D0-A39B-C9685BCE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F4C2-D62C-4E65-AB65-D3112E21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F2FE-552F-4161-93D5-DFB5C00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8AB-15DE-46C9-A328-1FE41BB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6CF-C01B-418F-B422-69163B0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83B-E6A7-4018-9902-15A4CA20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DED4-CCDA-4B87-8488-807E99B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CEC3-82D6-4460-86B2-0831AE2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5DDA-D37C-468A-8F31-E5B94D1A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F208-B4D4-4387-A973-3AD35ADD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51CE-E940-457B-B656-266FECB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8E1-CBEE-457E-B5A3-8B6E36A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7E7-9173-4A50-843C-A3DF967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2E3-A13A-4C0C-A680-1F52B33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5C4-1DE5-4628-8AC0-8E0BFA56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E3A-60D6-4A18-8D81-90188A5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0F2-F62B-489C-9F4C-943BB9D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872-7069-42F1-AA42-340C822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932-31CB-47E9-83F9-79B31511CAD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81e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C59-20F2-45B4-B1D2-CEDA4D71FC4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547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tmosfér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emský povrch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ětrná strana hor                                           srážkový s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 znázorněné teploty a množství srážek během 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 – př.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áns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inent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2760480" cy="3722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2"/>
          <a:stretch/>
        </p:blipFill>
        <p:spPr>
          <a:xfrm>
            <a:off x="5003640" y="2708280"/>
            <a:ext cx="26989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Klimadiagramy – úkol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 průběhy teplot a rozložení množství srážek během roku pro klima oceánské a pevni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, jak se budou lišit klimadiagramy pro rovníkovou oblast a pro arktickou ob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– úkol - 1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sešitu vlep slepou mapu kontin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znač v mapě podnebné p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každý podnebný pás urči množství srážek, teploty, převládající větry, které jsou pro danou oblast charakteris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ávěr – úkol - 2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klimatické rekordy na Zem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utní maxima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solutní minima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yšší úhrn srážek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nižší úhrn srážek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yšší rychlost vě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395280" y="514440"/>
            <a:ext cx="8280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dnebí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co ovlivňuje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ěpisná šíř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od moř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obecný oběh atmosfé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ánské prou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mořská výš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mský pov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Zeměpisná šířka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rovníku k pólům ubývá intenzity slunečního zá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nás – severní mírný pás – střídání čtyř ročn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né pá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Podnebné pás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547640" y="2362320"/>
            <a:ext cx="4896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zdálenost od moře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entální – pevninské podnebí  Oceánské 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nás – přechod mezi oceánským a pevninským podneb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Všeobecný oběh atmosfér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187280" y="2362320"/>
            <a:ext cx="71298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Oceánské proudy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é                                                                stud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najděte v  atlase teplý a studený proud Atlan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a81e8"/>
                </a:solidFill>
                <a:latin typeface="Arial"/>
              </a:rPr>
              <a:t>Nadmořská výška </a:t>
            </a:r>
            <a:endParaRPr b="1" lang="en-US" sz="3600" spc="-1" strike="noStrike">
              <a:solidFill>
                <a:srgbClr val="1a81e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výškou klesá tepl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ška ovlivňuje množství srážek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Kde na světě budou největší podnebné rozdíly mezi podhůřím a vrcholky 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05Z</dcterms:modified>
  <cp:revision>25</cp:revision>
  <dc:subject/>
  <dc:title>Snímek 1</dc:title>
</cp:coreProperties>
</file>