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83A-7449-43F3-AA20-65423BE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72D-B1FD-4266-8B59-0D26D27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531-BAF0-4ED1-A818-5D6871B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659-988C-4E2E-8E50-B43EDCD0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4AA8-3894-4F95-A4EE-DB343ACB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710E-4FB1-4F3E-A825-B0D64F77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3AC5-C1DE-4FFA-BCCC-950C4979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E198-4B40-4BE7-BFC5-D4E9758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398-228D-4F63-9296-F95A126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2181-CE7A-4E60-8020-BE990B96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280-CC01-49C0-84B9-EB7EBAD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FA2-B830-496F-BE04-0A3CE1B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A00-1A13-4584-ACF7-A91B1DD8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D45E-305D-4527-8C2C-52322D3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8689-BA59-4D65-AB17-273DD836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7E1B-8A70-46D6-9895-374036A3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D96D-890A-4123-AD96-7BEC2F76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5B5-10D5-45C4-9080-C2653D03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92D-527B-472F-BEC4-9F2D534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2CE-50F9-4A3F-9A35-84E84E97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F80-CCB1-4B09-82ED-269416A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32E-AC0F-4E15-AD71-3D4D910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B7C-9CB3-4F42-AD96-FDAD150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6CE-C1BD-47F9-9543-0279B5B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691-3EFC-4CA9-98DF-7A78ECD9435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243-0C51-478B-9CE9-16A9723C9E2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508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tmosfér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3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uchové hmoty a front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uchové hmoty a front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ové hmoty se liší                                                  – teplotou, tlakem a vlh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hraní vzduchových hmot – vznikají atmosférické fronty – neustále v pohybu – vlní se a vznikají tlakové útvary – cyklóny a anticykl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1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yklóna                                                                           – tlaková níže – teplejší, lehčí vzduch                    anticyklóna                                                            – tlaková výše – chladnější, těžší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větrů v cyklóně a anticykló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8756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Cyklóna a anticyklón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03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 a vývoj cykló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46120" y="3141720"/>
            <a:ext cx="85978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- opakován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i pojmy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osféra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oposféra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así 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nebí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ptická mapa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ová výše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laková n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                  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čeho je tvořena atmosféra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é jsou vrstvy atmosféry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veličiny se měří pro předpověď počasí            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á meteorologická stanice je nám nejbl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2 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8047080" cy="12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pedagogické nakladatelství, 1997, 94 s. ISBN 80-85937-73-5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Vysvětli pojem 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ynný obal Země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ový obal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Složení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 – z čeho je atmosféra slož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38685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rstvy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039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 – jaké jsou vrstvy atmosf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4106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Hranice atmosféry a troposféra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do jaké výšky dosahuje atm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0 0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je trop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dní část atm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výšky 11 km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 9 km – póly, 17 km – rovní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a podneb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vysvětli pojmy počasí a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así – okamžitý stav atm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í – dlouhodobý režim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– předpověď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se sleduje a měří na meteorologických stanicích  a  využívá pro předpověď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Teplota, tlak, srážky, směr a rychlost vět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Úkol – která meteorologická stanice je nám nejblíž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Churáňov, Temelí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časí – předpověď - 2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jak se nazývá předpovědní mapa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noptická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domácí – synoptickou mapu vyhledej v novinách nebo na internetu a vlep do seš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42Z</dcterms:modified>
  <cp:revision>17</cp:revision>
  <dc:subject/>
  <dc:title>Snímek 1</dc:title>
</cp:coreProperties>
</file>