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0B970-C6ED-40FC-82F9-7E7B6ABD1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42F0-762D-4BEB-8197-8ABA5B7D4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1F61-E68B-466E-976C-FE2E11F6F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0FBE3-A3E3-479F-BD37-18F35C0DE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FE3E1-1C37-4DC7-B386-D5563D6582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C1AC-C562-41F2-B4F7-4D9C6D9AF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B1BBD-8D60-4E49-A169-1882015D1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F7BA0-2AE6-43DC-8F2A-CA2C7C85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7825B-C7D7-49AA-BFFD-F745A08C7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0EC84-55A5-41DC-8D55-28B2E8993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AF78D-444B-4339-B5CC-4903002AC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BEE14-4C5E-4A41-BD14-CBB6467A2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05C2-95D8-4FD8-89B5-36FD221FB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80568-1B27-4E65-A359-E330D30CF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430FB-6F5E-4ADB-80DD-752470F26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E549-2197-4190-BE69-053DD4F4C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D258E-B88E-4804-8503-2CE5480B8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7E93-686C-4C76-9454-136D07A85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37C68-9034-499E-A514-07EE06A09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914EA-CB1B-4D3C-B977-9EB71369C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A7B95-3EE6-437D-B54C-80B8501B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2674-6272-43BB-8523-266C31076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CD9D4-B567-4CD5-997C-E8EE6ED3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7DA9E-A91D-41C8-8083-C0848CBA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1f33f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EA807-A936-4D58-91FA-6624A4E08B6C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1f33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D69637-D24D-4879-AE88-28B2D10C9D81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646280" y="171360"/>
            <a:ext cx="5851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rojekt: Inovace vybavení     Registrační číslo projektu CZ.1.07/1.5.00/34.032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  <a:ea typeface="Arial"/>
              </a:rPr>
              <a:t>Jakékoliv další používání podléhá autorskému zákonu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Sa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943600" y="1908000"/>
            <a:ext cx="1628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ředmět: zeměp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Zařazení materiálu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Šablon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943600" y="2182680"/>
            <a:ext cx="1235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Číslo DUM: 08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ení materiálu ve výuce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Datum ověření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Ověřující učitel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20509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Hydrosféra 4 - opaková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novace a zkvalitnění výuky prostřednictvím ICT (III/2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ročník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32 _Z_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1187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Třída: pri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13316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11.12.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alinit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množství solí rozpuštěných ve v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Povodí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zemí, ze kterého je voda  odváděna do určité 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Úmoří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území, ze kterého je voda odváděna do určitého moř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Jezero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Přírodní sníženina zaplněná vod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ybní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- Umělá vodní nádr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Oběh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0" name="Picture 4" descr=""/>
          <p:cNvPicPr/>
          <p:nvPr/>
        </p:nvPicPr>
        <p:blipFill>
          <a:blip r:embed="rId1"/>
          <a:stretch/>
        </p:blipFill>
        <p:spPr>
          <a:xfrm>
            <a:off x="1692360" y="2421000"/>
            <a:ext cx="557532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2" name="Picture 3" descr=""/>
          <p:cNvPicPr/>
          <p:nvPr/>
        </p:nvPicPr>
        <p:blipFill>
          <a:blip r:embed="rId1"/>
          <a:stretch/>
        </p:blipFill>
        <p:spPr>
          <a:xfrm>
            <a:off x="838080" y="2565360"/>
            <a:ext cx="8055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Rozložení vody na Zem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4" name="Picture 3" descr=""/>
          <p:cNvPicPr/>
          <p:nvPr/>
        </p:nvPicPr>
        <p:blipFill>
          <a:blip r:embed="rId1"/>
          <a:stretch/>
        </p:blipFill>
        <p:spPr>
          <a:xfrm>
            <a:off x="838080" y="2708280"/>
            <a:ext cx="769320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Vlastnosti oceánské vod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                                                           Teplota                                                                   Pohy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Činnost řek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158" name="Picture 3" descr=""/>
          <p:cNvPicPr/>
          <p:nvPr/>
        </p:nvPicPr>
        <p:blipFill>
          <a:blip r:embed="rId1"/>
          <a:stretch/>
        </p:blipFill>
        <p:spPr>
          <a:xfrm>
            <a:off x="838080" y="2362320"/>
            <a:ext cx="7479000" cy="326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Autor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Mgr. Ivana Dvořáková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Gymnázium Pierra de Coubertina, Táb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idvorakova@gymta.c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prosinec 201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ovéPole 3"/>
          <p:cNvSpPr/>
          <p:nvPr/>
        </p:nvSpPr>
        <p:spPr>
          <a:xfrm>
            <a:off x="2217600" y="2514600"/>
            <a:ext cx="470880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  <a:ea typeface="Arial"/>
              </a:rPr>
              <a:t>Seznam použité literatury a pramenů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ovéPole 5"/>
          <p:cNvSpPr/>
          <p:nvPr/>
        </p:nvSpPr>
        <p:spPr>
          <a:xfrm>
            <a:off x="628560" y="514440"/>
            <a:ext cx="7975800" cy="8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DEMEK, Jaromír, Vít VOŽENÍLEK a Miroslav VYSOUDIL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Geografie pro střední škol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SPN -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edagogické nakladatelství, 1997, 94 s. ISBN 80-85937-73-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822240"/>
                <a:tab algn="l" pos="1644480"/>
                <a:tab algn="l" pos="2467080"/>
                <a:tab algn="l" pos="3289320"/>
                <a:tab algn="l" pos="4111560"/>
                <a:tab algn="l" pos="4933800"/>
                <a:tab algn="l" pos="5756400"/>
                <a:tab algn="l" pos="6578640"/>
                <a:tab algn="l" pos="7400880"/>
                <a:tab algn="l" pos="8223120"/>
                <a:tab algn="l" pos="9045720"/>
                <a:tab algn="l" pos="9867960"/>
                <a:tab algn="l" pos="106902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OBOTOVÁ, Miromila a Karel SOBOTA. </a:t>
            </a:r>
            <a:r>
              <a:rPr b="0" i="1" lang="cs-CZ" sz="1200" spc="-1" strike="noStrike">
                <a:solidFill>
                  <a:srgbClr val="000000"/>
                </a:solidFill>
                <a:latin typeface="Arial"/>
              </a:rPr>
              <a:t>Zeměpisný náčrtník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1. vyd. Praha: Nakladatelství České geografické společnosti, 1996, 25 l. ISBN 80-901942-5-7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Urči – doplň – konkrétní názv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 – Antarktický, Fedčenkův                  Evropské řeky – Rýn, Dunaj                              Ostrova – Sicílie, Britské ostrovy                               Hlubokomořského příkopu – Mariánský, Jávský                                                                 Rybníka v ČR – Svět, Horusický                         Přehrady v ČR – Orlík, Kamý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Hydrosféra 4</a:t>
            </a:r>
            <a:br>
              <a:rPr sz="5400"/>
            </a:br>
            <a:r>
              <a:rPr b="1" lang="cs-CZ" sz="5400" spc="-1" strike="noStrike">
                <a:solidFill>
                  <a:srgbClr val="000000"/>
                </a:solidFill>
                <a:latin typeface="Arial"/>
              </a:rPr>
              <a:t>opakování</a:t>
            </a:r>
            <a:endParaRPr b="1" lang="en-US" sz="5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cc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1. Vysvětli pojm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ydrosfé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alinita – slan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vod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Úmoř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eze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2. Schematicky načrtn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ěh vody v přírod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ozložení vody na Ze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3. Urč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lastnosti oceánské 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Jaká je činnost řek během horního, středního a dolního t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4.Urči – doplň – konkrétní názvy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edov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Evropské ře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str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ubokomořského příko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Rybníka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hrady v Č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Správné odpovědi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000cc"/>
                </a:solidFill>
                <a:latin typeface="Arial"/>
              </a:rPr>
              <a:t>Hydrosféra</a:t>
            </a:r>
            <a:endParaRPr b="1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féra fyzickogeografické sféry                Vodní obal Země                                                               Voda -  v oceánech a mořích                                    - na pevninách - ledovce, jezera, řeky, sníh…      - pod povrchem                                                      - v atmosféře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12T03:05:46Z</dcterms:created>
  <dc:creator>nonamed</dc:creator>
  <dc:description/>
  <dc:language>en-US</dc:language>
  <cp:lastModifiedBy>doma</cp:lastModifiedBy>
  <dcterms:modified xsi:type="dcterms:W3CDTF">2014-05-06T07:30:24Z</dcterms:modified>
  <cp:revision>17</cp:revision>
  <dc:subject/>
  <dc:title>Snímek 1</dc:title>
</cp:coreProperties>
</file>