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368E-61DE-4DCF-846F-882B4A9634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DC76-A346-47A4-B0CF-E1CF2859D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6575-4421-4317-A8E9-4A1C62066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9C14-159D-4AA6-9205-50252962C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A23B4-7C3A-4D96-9E0E-68EE2D87A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06CE-C26E-4ECB-8268-AA2670D5B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BF3A-1E2C-4ACA-9653-54B3A1E94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DFADE-2FDD-4826-8B30-C5700545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CB68B-8469-4C57-B751-A1A96C08B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EF5DC-A7BC-4562-8EED-33F76212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89026-AC29-4392-819C-FDB82511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AE77-496F-49AE-96F0-4F019C7DE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62BA7-5D62-4D56-8667-936B79C5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F857D-6EF2-4874-9906-F1985C3EA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71E79-5050-4732-B9CF-6D6B4C364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E1F99-687F-4924-985B-CAFC2297B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B4DB0-1C18-4FF7-BF50-76B4E05F0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6557-6048-4EAC-A7C3-EA2410D5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CC69-DAC1-4B4B-B094-311396A3C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39E8B-F1DA-4470-B6D1-A9B0F4C9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2E46-2FB0-4B7F-BD1B-29497BEDB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18C3-39D1-41AA-9C5D-4139C20CD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971D-0C09-4560-BAF8-5BBBD9C7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F2CB-CE25-4155-BA75-6657CDD31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83D2B-16EE-49B8-A450-9ACD40883664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0A21D-0BAC-444E-9985-A16FD124BEB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365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95640" y="836640"/>
            <a:ext cx="23763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3 – voda pevn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</a:t>
            </a:r>
            <a:r>
              <a:rPr b="0" lang="cs-CZ" sz="1000" spc="-1" strike="noStrike">
                <a:solidFill>
                  <a:srgbClr val="000000"/>
                </a:solidFill>
                <a:latin typeface="Arial"/>
              </a:rPr>
              <a:t>_Z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8222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4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Jeze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rodní sníženina zaplněná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jezero Bajkal, Kaspické moře, Velká kanadská jezera – Hořejší, Huronské, Ontrario, Michiganské, Erij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ník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lé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budované v minulo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ě v jižních Čechá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rybník Svět a Horus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řehradní nádrž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mělé vodní nádrž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přehrady na Vltav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ipno I a II, Hněvkovice, Kořensko, Orlík, Kamýk, Slapy, Štěchovice, Vrané, Štv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odpovrchová vod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itná vo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užívaná k léč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– urči – najdi v mapě nejznámější lázně v ČR, na západě územ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arlovy Vary, Františkovy  Lázně, Mariánské Lázn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732816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SzPct val="75000"/>
              <a:buFont typeface="Arial"/>
              <a:buAutoNum type="arabicPeriod"/>
              <a:tabLst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3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voda pevnin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Ledovc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in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evninský le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apř. Antarktic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orský ledov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např. Fedčenkův - Pamí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Řek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ramen a ústí – odkud kam řeka teče                                        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ústí – jiná řeka, jezero, moř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řítoky – zprava a zl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povodí – území, ze kterého je voda        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váděna do určité ř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úmoří – území, ze kterého je voda odváděna do  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určitého moř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rozvodí – hranice mezi povodí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 a přiřaď pro řeku Vltava  – na Šumavě, u Mělníka, Lužnice, Berounka,    Sázava, Otava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men                                                                      ústí                                                                             přítoky zprava                                                    přítoky zle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urči – najdi v mapě a přiřaď pro řeku Vltava  – na Šumavě, u Mělníka, Lužnice, Berounka,    Sázava, Otav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ramen – na Šumavě                                                                     ústí   - u Mělníka                                                                          přítoky zprava  - Lužnice, Sázava                                                  přítoky zleva – Otava, Berou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Činnost ře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79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06Z</dcterms:modified>
  <cp:revision>18</cp:revision>
  <dc:subject/>
  <dc:title>Snímek 1</dc:title>
</cp:coreProperties>
</file>