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CB2F-9429-484F-959B-3905D83EE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0B03-066B-4A5A-8C98-16258A8AB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585A-EAF5-4D43-8574-E9EF0BC88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2226-EB58-439D-812E-0ADF58D3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347F-759A-4A85-B458-AD5EA2BE1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66F36-6D50-4751-B5BF-96622F678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CA009-0F3B-4D13-9DAC-851A45A29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0C988-9E98-4C72-9273-7DFA6577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F4D25-F9B0-45CA-BD43-A439AF132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476A8-3B4C-447C-A71A-E458E9E1E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98D80-DA83-4A61-8115-368A36E22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3B67-E911-435B-AE01-89CB31C09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96E0B-EB6F-4EE1-B6F6-D6F1BB2C1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E0C10-F776-4E66-A0D7-61B93144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9FACB-7EDA-42A5-B2A7-2EB34A5D7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FDF38-1850-42AB-A25F-95EAF4E6E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A9600-0E7D-46B7-B486-5F11471D09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1872-461D-4381-A6B4-67AEC356B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70E6-D2AF-44E6-A1FB-E5D931999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2829D-86AB-4652-AC22-AFD285D8D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36B8-74DE-4A7F-BC9F-E689867D8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D4A-8A75-4BE0-A550-17F1F71E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9DCE-5C00-4C77-9E8E-34B7B061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B1F5-122B-4452-8EEE-3BF94E6AF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C449A-FDD4-4761-A250-255408DE199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1f3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1F168-B20F-4DAD-A7D7-8B6024015D05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Inovace vybavení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2200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3490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Hydrosféra 2 – oceány a moř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1331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29.11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Oceánské dno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9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69320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-  urči - vyhledej v map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ubokomořský přík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Marián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ředooceánský hřb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Středoatlant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r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př. Britské ostrov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Vlastnosti oceánské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linita = slanost….v prom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nožství solí rozpuštěných ve v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pl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hlavní zdroj - sluneční zářen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vlnění, příboj, tsunami, dmutí, mořské prou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kol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ajdi studený a teplý proud Atlanti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studený – např. Kanárský, Benguelský                    -  teplý – např. Golfský, Brazilsk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sinec 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5"/>
          <p:cNvSpPr/>
          <p:nvPr/>
        </p:nvSpPr>
        <p:spPr>
          <a:xfrm>
            <a:off x="628560" y="514440"/>
            <a:ext cx="851544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EMEK, Jaromír, Vít VOŽENÍLEK a Miroslav VYSOUDIL. </a:t>
            </a:r>
            <a:r>
              <a:rPr b="0" i="1" lang="cs-CZ" sz="1100" spc="-1" strike="noStrike">
                <a:solidFill>
                  <a:srgbClr val="000000"/>
                </a:solidFill>
                <a:latin typeface="Arial"/>
              </a:rPr>
              <a:t>Geografie pro střední školy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. 1. vyd. Praha: SPN – pedagogické nakladatelství, 1997, 94 s. ISBN 80-85937-73-5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Hydrosféra 2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oceány a moře</a:t>
            </a:r>
            <a:endParaRPr b="1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cc"/>
                </a:solidFill>
                <a:latin typeface="Arial"/>
              </a:rPr>
              <a:t>Pro primu víceletého gymná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Hydrosfér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oučást  fyzickogeografické sfé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dní obal Zem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oda -  v oceánech a mořích                                    - na pevninách - ledovce, jezera, řeky, sníh…      - pod povrchem                                                      - v atmosféře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Oběh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29" name="Picture 4" descr=""/>
          <p:cNvPicPr/>
          <p:nvPr/>
        </p:nvPicPr>
        <p:blipFill>
          <a:blip r:embed="rId1"/>
          <a:stretch/>
        </p:blipFill>
        <p:spPr>
          <a:xfrm>
            <a:off x="1042920" y="2378160"/>
            <a:ext cx="6305760" cy="447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ozložení vody na Ze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838080" y="2565360"/>
            <a:ext cx="8055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ozložení vody na Ze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3" name="Picture 3" descr=""/>
          <p:cNvPicPr/>
          <p:nvPr/>
        </p:nvPicPr>
        <p:blipFill>
          <a:blip r:embed="rId1"/>
          <a:stretch/>
        </p:blipFill>
        <p:spPr>
          <a:xfrm>
            <a:off x="838080" y="2708280"/>
            <a:ext cx="76932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Oceán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35" name="Picture 3" descr=""/>
          <p:cNvPicPr/>
          <p:nvPr/>
        </p:nvPicPr>
        <p:blipFill>
          <a:blip r:embed="rId1"/>
          <a:stretch/>
        </p:blipFill>
        <p:spPr>
          <a:xfrm>
            <a:off x="1332000" y="2362320"/>
            <a:ext cx="5099040" cy="39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Moře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okrajová  - např. Norské                                                                      - meziostrovní – např. Středozemní                                                         - vnitřní – např. Baltsk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kol                                                              - Oceány a moře ukaž na map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29:47Z</dcterms:modified>
  <cp:revision>20</cp:revision>
  <dc:subject/>
  <dc:title>Snímek 1</dc:title>
</cp:coreProperties>
</file>