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C52A-5147-4951-927D-296C81EBE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D63B-D271-47FC-BE76-36926872C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1ECB3-63B5-45A6-B3CF-B6F326A84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5F23-31A0-420E-963D-9EB648F95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F4540-852B-45A8-BF2C-48EB9ECEE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AFD7A-E7E0-4782-A30C-FC501270E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8F88D-1DAD-4EFE-9A04-827D1027E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345BF-9932-4EFF-855E-6F09AE45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6D477-B039-4A7B-B208-5C020CC12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78366-AA33-4475-B934-24719DB9E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61F6-27FD-43AA-B537-E543EF679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B224D-E2A2-44E1-8FE4-96FADF1C8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C72A0-82B0-429D-9005-320CC043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71F65-85ED-47A9-8B2F-AAA9B0AA4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69142-03E5-4DD7-A0D9-D863D0F6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D05C-ADDE-4B51-8B9D-E6E903753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B37BC-B5E7-4B21-9C90-D76F8B502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F9E3-5F99-4412-AE8D-657A8C61D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17BB3-2C6F-42CA-A421-AB59BE279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B7417-5E03-4FF6-B52D-B56DF3FC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F373A-0831-46CE-A0DC-338579F2B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9816-ED30-4576-BA8A-92DE18BE1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955F-A7BC-4013-BFF6-94F432E6C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548F-B504-4A88-BB36-A68101F7B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2a4c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2a4c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D663-AA56-4956-B34B-54348E464FA2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2a4c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81042-5480-45D4-8C59-ED498834DE25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ovéPole 1"/>
          <p:cNvSpPr/>
          <p:nvPr/>
        </p:nvSpPr>
        <p:spPr>
          <a:xfrm>
            <a:off x="1547640" y="171360"/>
            <a:ext cx="59500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Projekt: Inovace vybavení      Registrační číslo projektu: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98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véPole 7"/>
          <p:cNvSpPr/>
          <p:nvPr/>
        </p:nvSpPr>
        <p:spPr>
          <a:xfrm>
            <a:off x="331920" y="903240"/>
            <a:ext cx="19429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ovéPole 9"/>
          <p:cNvSpPr/>
          <p:nvPr/>
        </p:nvSpPr>
        <p:spPr>
          <a:xfrm>
            <a:off x="5429160" y="1908000"/>
            <a:ext cx="1565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Předmět:  zeměp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12"/>
          <p:cNvSpPr/>
          <p:nvPr/>
        </p:nvSpPr>
        <p:spPr>
          <a:xfrm>
            <a:off x="5286240" y="2182680"/>
            <a:ext cx="189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    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Číslo DUM: 0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ovéPole 17"/>
          <p:cNvSpPr/>
          <p:nvPr/>
        </p:nvSpPr>
        <p:spPr>
          <a:xfrm>
            <a:off x="2160720" y="903240"/>
            <a:ext cx="11160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Hydrosféra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ovéPole 18"/>
          <p:cNvSpPr/>
          <p:nvPr/>
        </p:nvSpPr>
        <p:spPr>
          <a:xfrm>
            <a:off x="2160720" y="116532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Třída: 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32 </a:t>
            </a:r>
            <a:r>
              <a:rPr b="0" lang="cs-CZ" sz="1100" spc="-1" strike="noStrike">
                <a:solidFill>
                  <a:srgbClr val="000000"/>
                </a:solidFill>
                <a:latin typeface="Century Schoolbook"/>
              </a:rPr>
              <a:t>_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Z</a:t>
            </a:r>
            <a:r>
              <a:rPr b="0" lang="cs-CZ" sz="1100" spc="-1" strike="noStrike">
                <a:solidFill>
                  <a:srgbClr val="000000"/>
                </a:solidFill>
                <a:latin typeface="Century Schoolbook"/>
              </a:rPr>
              <a:t>_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ovéPole 23"/>
          <p:cNvSpPr/>
          <p:nvPr/>
        </p:nvSpPr>
        <p:spPr>
          <a:xfrm>
            <a:off x="2160720" y="3165480"/>
            <a:ext cx="198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ovéPole 24"/>
          <p:cNvSpPr/>
          <p:nvPr/>
        </p:nvSpPr>
        <p:spPr>
          <a:xfrm>
            <a:off x="2160720" y="3429000"/>
            <a:ext cx="6616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25"/>
          <p:cNvSpPr/>
          <p:nvPr/>
        </p:nvSpPr>
        <p:spPr>
          <a:xfrm>
            <a:off x="2160720" y="2914560"/>
            <a:ext cx="10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22.11.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99"/>
                </a:solidFill>
                <a:latin typeface="Arial"/>
              </a:rPr>
              <a:t>Jižní Amerika -  největší řeku a jejích 6 přítoků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mazon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toky zprava – Madeira, Tapajos,    společné ústí – Xingů, Tocant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ítoky zleva – Negro, Putumayo, Maraň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99"/>
                </a:solidFill>
                <a:latin typeface="Arial"/>
              </a:rPr>
              <a:t>Afrika – nejmenší průměrné roční srážky – urči kolik mm a místo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l – Dakh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0,5 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99"/>
                </a:solidFill>
                <a:latin typeface="Arial"/>
              </a:rPr>
              <a:t>salinita v okolí jižní Austráli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35 prom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99"/>
                </a:solidFill>
                <a:latin typeface="Arial"/>
              </a:rPr>
              <a:t>název mořského proudu omývajícího východní Asii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plý mořský proud                                  Kuro – š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udený mořský proud                                     Oja - šio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99"/>
                </a:solidFill>
                <a:latin typeface="Arial"/>
              </a:rPr>
              <a:t>Cesta po vodě z Tábora do Sydney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ř. Lužnice – Vltava – Labe – severní moře – Calaiská úžina – Lamanšský průliv – Atlantik – Gibraltar – Středozemní moře – Suez – Rudé moře – průliv Bab al Mandab - Adenský záliv – Indický oceán – Tasmanovo moř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idvorakova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Listopad 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ovéPole 3"/>
          <p:cNvSpPr/>
          <p:nvPr/>
        </p:nvSpPr>
        <p:spPr>
          <a:xfrm>
            <a:off x="2217600" y="2514600"/>
            <a:ext cx="470880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</a:rPr>
              <a:t>Seznam použité literatury a pramenů: -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000000"/>
                </a:solidFill>
                <a:latin typeface="Arial"/>
              </a:rPr>
              <a:t>Hydrosféra 1</a:t>
            </a:r>
            <a:r>
              <a:rPr b="1" lang="cs-CZ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99"/>
                </a:solidFill>
                <a:latin typeface="Arial"/>
              </a:rPr>
              <a:t>Pro primu víceletého gymnáz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99"/>
                </a:solidFill>
                <a:latin typeface="Arial"/>
              </a:rPr>
              <a:t>1. Vyhledej v atlas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větové oceá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99"/>
                </a:solidFill>
                <a:latin typeface="Arial"/>
              </a:rPr>
              <a:t>2. Vyhledej v atlas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 Severní  Americe 7 velkých jez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 Jižní Americe největší řeku a jejích 6 přítoků – rozděl na levé a pravé příto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 Africe – nejmenší průměrné roční srážky – urči kolik mm a mí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alinitu - slanost v okolí jižní Austrá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zev mořského proudu omývající východní As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99"/>
                </a:solidFill>
                <a:latin typeface="Arial"/>
              </a:rPr>
              <a:t>3. Vyhledej v atlase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Cestu po vodě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 nás z České republiky, z Tábora do Austrálie, do Sydne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zapiš, které řeky, moře, průlivy, průplavy či oceány během své cesty navštíví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99"/>
                </a:solidFill>
                <a:latin typeface="Arial"/>
              </a:rPr>
              <a:t>Řešení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99"/>
                </a:solidFill>
                <a:latin typeface="Arial"/>
              </a:rPr>
              <a:t>Světové oceány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ichý oce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ndický oce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tlantský oce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everní ledový oceá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99"/>
                </a:solidFill>
                <a:latin typeface="Arial"/>
              </a:rPr>
              <a:t>Severní  Amerika -  7 velkých jezer</a:t>
            </a:r>
            <a:endParaRPr b="1" lang="en-US" sz="3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lká kanadská jezera – Hořejší, Michiganské, Huronské, Erijské a On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elké medvědí, Otroč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03:05:46Z</dcterms:created>
  <dc:creator>nonamed</dc:creator>
  <dc:description/>
  <dc:language>en-US</dc:language>
  <cp:lastModifiedBy>doma</cp:lastModifiedBy>
  <dcterms:modified xsi:type="dcterms:W3CDTF">2014-05-06T07:29:25Z</dcterms:modified>
  <cp:revision>16</cp:revision>
  <dc:subject/>
  <dc:title>Snímek 1</dc:title>
</cp:coreProperties>
</file>