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2A3D3-2595-4D11-9A47-DFE68A1E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A0C9B-AF4B-423E-BEEF-B10D27451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231-6B9D-4C6E-A7B3-4136D94AB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9C1A-09DA-46BF-8231-324F436A6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D2A3C-37DA-4A41-B3B6-8DD37C8C5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81FA-EFDD-4834-96A0-034197E81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A729B-EE85-41A3-B329-0CB83ED9E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1C5DC-29FE-44EF-9062-D50B9A980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CFD41-9431-4219-8BB4-79AF1997DA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1DCE5-3BB5-42BC-919F-81E6215D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36327-B45E-47D4-AB8A-C2002CA7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78A5-9E3D-4A27-A8F1-31F81B46B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78FAB-6FC1-4E11-B1C1-E4B54D24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65C633-7CCE-4A06-A5A5-DCAA3C0D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6759-68B4-41F3-B2B9-A7721C716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24767-2916-49B7-952E-63BA92681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352B0-9D42-4A72-9C8B-C442FACD9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695C-0962-435F-9312-627275389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D8918-5AF6-470B-8CCD-8458E06C3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C5BB-2521-4D3F-AA60-AD9C7F2EC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1E3A2-3E2D-4009-B280-513419A3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0C225-82E3-403D-B4DC-45E434134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2A64-FDB2-4F27-9ADD-F5D8C0F9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F54F-6D96-4938-8F8F-9008665D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ae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aeae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666699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3A43-FAAA-4426-922E-1EC984A62522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aeae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666699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6699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6699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6699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6666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66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cs-CZ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7CE3-5D7C-49C3-9753-4745420C71CD}" type="slidenum">
              <a:rPr b="1" lang="cs-CZ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ovéPole 1"/>
          <p:cNvSpPr/>
          <p:nvPr/>
        </p:nvSpPr>
        <p:spPr>
          <a:xfrm>
            <a:off x="1492200" y="171360"/>
            <a:ext cx="59500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ojekt: Inovace vybavení      Registrační číslo projektu: CZ.1.07/1.5.00/34.0325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6" name="TextovéPole 2"/>
          <p:cNvSpPr/>
          <p:nvPr/>
        </p:nvSpPr>
        <p:spPr>
          <a:xfrm>
            <a:off x="708120" y="434880"/>
            <a:ext cx="77277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íjemce: Gymnázium Pierra de Coubertina, Tábor, Náměstí Františka Křižíka 860, 390 01 Tábor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pic>
        <p:nvPicPr>
          <p:cNvPr id="97" name="Obrázek 3" descr="Logolink OPVK - oříznutý.jpg"/>
          <p:cNvPicPr/>
          <p:nvPr/>
        </p:nvPicPr>
        <p:blipFill>
          <a:blip r:embed="rId1">
            <a:alphaModFix amt="0"/>
          </a:blip>
          <a:stretch/>
        </p:blipFill>
        <p:spPr>
          <a:xfrm>
            <a:off x="1436760" y="5292720"/>
            <a:ext cx="6272280" cy="1208160"/>
          </a:xfrm>
          <a:prstGeom prst="rect">
            <a:avLst/>
          </a:prstGeom>
          <a:ln w="0">
            <a:noFill/>
          </a:ln>
        </p:spPr>
      </p:pic>
      <p:sp>
        <p:nvSpPr>
          <p:cNvPr id="98" name="TextovéPole 4"/>
          <p:cNvSpPr/>
          <p:nvPr/>
        </p:nvSpPr>
        <p:spPr>
          <a:xfrm>
            <a:off x="789120" y="4869000"/>
            <a:ext cx="7565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Tento výukový materiál vznikl v rámci Operačního programu Vzdělání pro konkurenceschopnost.</a:t>
            </a:r>
            <a:endParaRPr b="0" lang="en-US" sz="9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99" name="TextovéPole 5"/>
          <p:cNvSpPr/>
          <p:nvPr/>
        </p:nvSpPr>
        <p:spPr>
          <a:xfrm>
            <a:off x="0" y="4354560"/>
            <a:ext cx="93042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Materiál je určen k bezplatnému používání pro potřeby výuky a vzdělávání na všech typech škol a školských zařízení.</a:t>
            </a:r>
            <a:endParaRPr b="0" lang="en-US" sz="9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900" spc="-1" strike="noStrike">
                <a:solidFill>
                  <a:srgbClr val="000000"/>
                </a:solidFill>
                <a:latin typeface="Times New Roman - 14"/>
              </a:rPr>
              <a:t>Jakékoliv další používání podléhá autorskému zákonu.</a:t>
            </a:r>
            <a:endParaRPr b="0" lang="en-US" sz="9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0" name="TextovéPole 6"/>
          <p:cNvSpPr/>
          <p:nvPr/>
        </p:nvSpPr>
        <p:spPr>
          <a:xfrm>
            <a:off x="320760" y="1165320"/>
            <a:ext cx="17143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Autor materiálu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1" name="TextovéPole 7"/>
          <p:cNvSpPr/>
          <p:nvPr/>
        </p:nvSpPr>
        <p:spPr>
          <a:xfrm>
            <a:off x="331920" y="903240"/>
            <a:ext cx="19429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Název materiálu:</a:t>
            </a: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	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2" name="TextovéPole 8"/>
          <p:cNvSpPr/>
          <p:nvPr/>
        </p:nvSpPr>
        <p:spPr>
          <a:xfrm>
            <a:off x="320760" y="217188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Sada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3" name="TextovéPole 9"/>
          <p:cNvSpPr/>
          <p:nvPr/>
        </p:nvSpPr>
        <p:spPr>
          <a:xfrm>
            <a:off x="5643720" y="1908000"/>
            <a:ext cx="135072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ředmět:  zeměpis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4" name="TextovéPole 10"/>
          <p:cNvSpPr/>
          <p:nvPr/>
        </p:nvSpPr>
        <p:spPr>
          <a:xfrm>
            <a:off x="320760" y="1646280"/>
            <a:ext cx="19875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Zařazení materiálu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5" name="TextovéPole 11"/>
          <p:cNvSpPr/>
          <p:nvPr/>
        </p:nvSpPr>
        <p:spPr>
          <a:xfrm>
            <a:off x="320760" y="1908000"/>
            <a:ext cx="1028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Šablona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6" name="TextovéPole 12"/>
          <p:cNvSpPr/>
          <p:nvPr/>
        </p:nvSpPr>
        <p:spPr>
          <a:xfrm>
            <a:off x="5572080" y="2182680"/>
            <a:ext cx="1606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 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Číslo DUM: 04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7" name="TextovéPole 13"/>
          <p:cNvSpPr/>
          <p:nvPr/>
        </p:nvSpPr>
        <p:spPr>
          <a:xfrm>
            <a:off x="320760" y="2651040"/>
            <a:ext cx="2765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>
                <a:solidFill>
                  <a:srgbClr val="000000"/>
                </a:solidFill>
                <a:latin typeface="Arial - 16"/>
              </a:rPr>
              <a:t>Ověření materiálu ve výuce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8" name="TextovéPole 14"/>
          <p:cNvSpPr/>
          <p:nvPr/>
        </p:nvSpPr>
        <p:spPr>
          <a:xfrm>
            <a:off x="320760" y="2914560"/>
            <a:ext cx="15541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Datum ověření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09" name="TextovéPole 15"/>
          <p:cNvSpPr/>
          <p:nvPr/>
        </p:nvSpPr>
        <p:spPr>
          <a:xfrm>
            <a:off x="320760" y="3429000"/>
            <a:ext cx="77616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Třída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0" name="TextovéPole 16"/>
          <p:cNvSpPr/>
          <p:nvPr/>
        </p:nvSpPr>
        <p:spPr>
          <a:xfrm>
            <a:off x="320760" y="3178080"/>
            <a:ext cx="157644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Ověřující učitel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1" name="TextovéPole 17"/>
          <p:cNvSpPr/>
          <p:nvPr/>
        </p:nvSpPr>
        <p:spPr>
          <a:xfrm>
            <a:off x="2160720" y="903240"/>
            <a:ext cx="82224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tosféra 2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2" name="TextovéPole 18"/>
          <p:cNvSpPr/>
          <p:nvPr/>
        </p:nvSpPr>
        <p:spPr>
          <a:xfrm>
            <a:off x="2160720" y="116532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3" name="TextovéPole 19"/>
          <p:cNvSpPr/>
          <p:nvPr/>
        </p:nvSpPr>
        <p:spPr>
          <a:xfrm>
            <a:off x="1120680" y="1908000"/>
            <a:ext cx="46627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novace a zkvalitnění výuky prostřednictvím ICT (III/2)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4" name="TextovéPole 20"/>
          <p:cNvSpPr/>
          <p:nvPr/>
        </p:nvSpPr>
        <p:spPr>
          <a:xfrm>
            <a:off x="7246800" y="1908000"/>
            <a:ext cx="1622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ročník  prima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5" name="TextovéPole 21"/>
          <p:cNvSpPr/>
          <p:nvPr/>
        </p:nvSpPr>
        <p:spPr>
          <a:xfrm>
            <a:off x="1120680" y="2171880"/>
            <a:ext cx="241452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32 </a:t>
            </a:r>
            <a:r>
              <a:rPr b="0" lang="cs-CZ" sz="1100" spc="-1" strike="noStrike">
                <a:solidFill>
                  <a:srgbClr val="666699"/>
                </a:solidFill>
                <a:latin typeface="Century Schoolbook"/>
              </a:rPr>
              <a:t>_ </a:t>
            </a: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Z</a:t>
            </a:r>
            <a:r>
              <a:rPr b="0" lang="cs-CZ" sz="1100" spc="-1" strike="noStrike">
                <a:solidFill>
                  <a:srgbClr val="666699"/>
                </a:solidFill>
                <a:latin typeface="Century Schoolbook"/>
              </a:rPr>
              <a:t>_ 1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6" name="TextovéPole 22"/>
          <p:cNvSpPr/>
          <p:nvPr/>
        </p:nvSpPr>
        <p:spPr>
          <a:xfrm>
            <a:off x="7246800" y="2149560"/>
            <a:ext cx="118908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7" name="TextovéPole 23"/>
          <p:cNvSpPr/>
          <p:nvPr/>
        </p:nvSpPr>
        <p:spPr>
          <a:xfrm>
            <a:off x="2160720" y="3165480"/>
            <a:ext cx="1600200" cy="41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8" name="TextovéPole 24"/>
          <p:cNvSpPr/>
          <p:nvPr/>
        </p:nvSpPr>
        <p:spPr>
          <a:xfrm>
            <a:off x="2160720" y="3429000"/>
            <a:ext cx="6616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prima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19" name="TextovéPole 25"/>
          <p:cNvSpPr/>
          <p:nvPr/>
        </p:nvSpPr>
        <p:spPr>
          <a:xfrm>
            <a:off x="2160720" y="2914560"/>
            <a:ext cx="971280" cy="24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20.11.2012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orušení uložených vrstev zemské kůr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jevy vnitřních sil Země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Zvětrávání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měny na zemském povrchu způsobené vnějšími silami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Vrása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42" name="Object 3"/>
          <p:cNvGraphicFramePr/>
          <p:nvPr/>
        </p:nvGraphicFramePr>
        <p:xfrm>
          <a:off x="3333600" y="2362320"/>
          <a:ext cx="2700360" cy="372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3600" y="2362320"/>
                    <a:ext cx="2700360" cy="372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graphicFrame>
        <p:nvGraphicFramePr>
          <p:cNvPr id="145" name="Object 3"/>
          <p:cNvGraphicFramePr/>
          <p:nvPr/>
        </p:nvGraphicFramePr>
        <p:xfrm>
          <a:off x="2513160" y="3048120"/>
          <a:ext cx="4343400" cy="2352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13160" y="3048120"/>
                    <a:ext cx="43434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Ostrov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Britské ostrovy, Kréta, Madagaskar, Cejlon,    Nový Zéland, Grónsko,…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Sopk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Etna, Vesuv, Fudžisan, Popocatépetl, Mauna Loa, Hekla,…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Sopky na území ČR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Činné sopky u nás nejsou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Pohoří v ČR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Krkonoše, Šumava, Orlické hory, Beskydy, Jizerské hory,…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Pohoří ve světě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př.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    </a:t>
            </a: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Alpy, Himaláje, Andy,…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Volný tvar 1"/>
          <p:cNvSpPr/>
          <p:nvPr/>
        </p:nvSpPr>
        <p:spPr>
          <a:xfrm>
            <a:off x="2617920" y="3576600"/>
            <a:ext cx="3908160" cy="1405080"/>
          </a:xfrm>
          <a:custGeom>
            <a:avLst/>
            <a:gdLst>
              <a:gd name="textAreaLeft" fmla="*/ 0 w 3908160"/>
              <a:gd name="textAreaRight" fmla="*/ 3908520 w 3908160"/>
              <a:gd name="textAreaTop" fmla="*/ 0 h 1405080"/>
              <a:gd name="textAreaBottom" fmla="*/ 1405440 h 1405080"/>
            </a:gdLst>
            <a:ahLst/>
            <a:rect l="textAreaLeft" t="textAreaTop" r="textAreaRight" b="textAreaBottom"/>
            <a:pathLst>
              <a:path w="4342131" h="1562101">
                <a:moveTo>
                  <a:pt x="0" y="1562100"/>
                </a:moveTo>
                <a:lnTo>
                  <a:pt x="0" y="0"/>
                </a:lnTo>
                <a:lnTo>
                  <a:pt x="4342130" y="0"/>
                </a:lnTo>
                <a:lnTo>
                  <a:pt x="4342130" y="1562100"/>
                </a:lnTo>
                <a:lnTo>
                  <a:pt x="0" y="15621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ctr">
            <a:noAutofit/>
          </a:bodyPr>
          <a:p>
            <a:endParaRPr b="0" lang="en-US" sz="18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1" name="TextovéPole 2"/>
          <p:cNvSpPr/>
          <p:nvPr/>
        </p:nvSpPr>
        <p:spPr>
          <a:xfrm>
            <a:off x="2811600" y="3714840"/>
            <a:ext cx="35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Autor: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Mgr. Ivana Dvořáková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Gymnázium Pierra de Coubertina, Tábor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idvorakova@gymta.cz@gymta.cz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 - 16"/>
              </a:rPr>
              <a:t>Listopad 2012</a:t>
            </a:r>
            <a:endParaRPr b="0" lang="en-US" sz="11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2" name="TextovéPole 4"/>
          <p:cNvSpPr/>
          <p:nvPr/>
        </p:nvSpPr>
        <p:spPr>
          <a:xfrm>
            <a:off x="206280" y="182520"/>
            <a:ext cx="4434120" cy="2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 - 20"/>
              </a:rPr>
              <a:t>Seznam použité literatury a pramenů: --</a:t>
            </a:r>
            <a:endParaRPr b="0" lang="en-US" sz="14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6000" spc="-1" strike="noStrike">
                <a:solidFill>
                  <a:srgbClr val="666699"/>
                </a:solidFill>
                <a:latin typeface="Arial"/>
              </a:rPr>
              <a:t>Litosféra</a:t>
            </a:r>
            <a:endParaRPr b="1" lang="en-US" sz="60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 primu víceletého gymnázia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1. Vysvětli pojm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rása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rásnění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větrávání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2. Schematicky zakresli 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rásu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Zlom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3. Odpověz na následující otázky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ostrov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sopk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Najdeme na území ČR sopk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pohoří u nás v ČR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Jaké znáš pohoří ve světě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Řešení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Vrása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hnutí části zemské kůr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666699"/>
                </a:solidFill>
                <a:latin typeface="Arial"/>
              </a:rPr>
              <a:t>Vrásnění</a:t>
            </a:r>
            <a:endParaRPr b="1" lang="en-US" sz="3600" spc="-1" strike="noStrike">
              <a:solidFill>
                <a:srgbClr val="666699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ces, při kterém vznikají vrásy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Vznikají pohoří 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666699"/>
                </a:solidFill>
                <a:latin typeface="Arial"/>
              </a:rPr>
              <a:t>Projevy vnitřních sil Země</a:t>
            </a:r>
            <a:endParaRPr b="0" lang="en-US" sz="2800" spc="-1" strike="noStrike">
              <a:solidFill>
                <a:srgbClr val="66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31T23:13:54Z</dcterms:created>
  <dc:creator>nonamed</dc:creator>
  <dc:description/>
  <dc:language>en-US</dc:language>
  <cp:lastModifiedBy>doma</cp:lastModifiedBy>
  <dcterms:modified xsi:type="dcterms:W3CDTF">2014-05-06T07:29:02Z</dcterms:modified>
  <cp:revision>17</cp:revision>
  <dc:subject/>
  <dc:title>lito</dc:title>
</cp:coreProperties>
</file>