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158413" cy="76215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15BD5-C3CE-4C85-9B6A-6BBA85B58EE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B1F68-E05A-480C-A301-A111CC6827F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3B15D-FF30-4DE7-8835-CF104E866A2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EE743-7BF7-4E04-A1C7-57480C3AA04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B3245-81CB-40A5-9779-BA66D8BACE6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CA77D-280A-439C-A3B2-7ECDFFD7F7F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B5218-58A9-459E-ACD5-80B23E6F25A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D7E59-AD8A-4151-8955-3B3583D27B9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2C866-5575-44DF-89B3-55C87EFEBD0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6BA82-E035-4B50-8BEA-01B5338E09E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FF1ED-197A-42FB-B0D3-1FB9FB3117B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3CE2A-C125-4D1C-8B2A-1FE5392B73E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AA075-3381-4042-93DA-3A9F80C8F28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BACCC-E04E-402B-8C82-8BB2C518DF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914256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08920"/>
            <a:ext cx="914256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D300E-A7F5-47EC-A389-FBE9D446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000" y="17827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089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000" y="44089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159A-BC37-4EC4-A3D8-02B9B716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294372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782720"/>
            <a:ext cx="294372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0600" y="1782720"/>
            <a:ext cx="294372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08920"/>
            <a:ext cx="294372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4408920"/>
            <a:ext cx="294372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0600" y="4408920"/>
            <a:ext cx="294372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64C3-0AB9-4433-9B0B-13CF60EE03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82720"/>
            <a:ext cx="91425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A58E-B686-405B-B6B0-84FBAA8A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91425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8CF8-6062-4D28-8C3F-488A7C74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446148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720"/>
            <a:ext cx="446148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3651-3CC4-420C-BC07-3F61ECF6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9E76-E803-49FF-873B-8905785A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3120"/>
            <a:ext cx="914256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1A58-6093-4596-8307-0BDA3704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000" y="1782720"/>
            <a:ext cx="446148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089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E049-9160-490B-A68F-0FDD98EA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446148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000" y="17827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000" y="44089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77270-DBD9-4684-9AFE-D23A4EA2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000" y="17827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08920"/>
            <a:ext cx="914256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C7E4B-1EC4-4DD3-823B-9337B52D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7600" y="7062840"/>
            <a:ext cx="236844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5.11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471840" y="7062840"/>
            <a:ext cx="32162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281720" y="7062840"/>
            <a:ext cx="23688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DA53E-C66A-48A8-83BF-3E4A6B69480F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507960" y="1782720"/>
            <a:ext cx="91425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766880" y="190440"/>
            <a:ext cx="656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rojekt: Inovace vybavení    Registrační číslo projektu: CZ.1.07/1.5.00/34.03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7320" y="482760"/>
            <a:ext cx="8585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říjemce: Gymnázium Pierra de Coubertina, Tábor, Náměstí Františka Křižíka 860, 390 01 Tá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595520" y="5880240"/>
            <a:ext cx="6968880" cy="1342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876240" y="5410080"/>
            <a:ext cx="84074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-88920" y="4838760"/>
            <a:ext cx="103377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55680" y="1295280"/>
            <a:ext cx="19047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Autor materiál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68280" y="1003320"/>
            <a:ext cx="21589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Název materiálu:</a:t>
            </a: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55680" y="2413080"/>
            <a:ext cx="86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016680" y="2120760"/>
            <a:ext cx="21589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Předmět: tělesná vých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55680" y="1828800"/>
            <a:ext cx="2209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355680" y="2120760"/>
            <a:ext cx="1143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6087960" y="2425680"/>
            <a:ext cx="1887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Číslo DUM: 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355680" y="2946240"/>
            <a:ext cx="307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55680" y="3238560"/>
            <a:ext cx="1727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atum ověřen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355680" y="3809880"/>
            <a:ext cx="86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Tří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55680" y="3530520"/>
            <a:ext cx="1752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Ověřující učit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2400480" y="1003320"/>
            <a:ext cx="422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Testování fázických sval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400480" y="1295280"/>
            <a:ext cx="177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1244520" y="2120760"/>
            <a:ext cx="5181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8051760" y="2120760"/>
            <a:ext cx="1803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ročník: první až čtvrt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1244520" y="2413080"/>
            <a:ext cx="2683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32_Tv_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8051760" y="2387520"/>
            <a:ext cx="1320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2400480" y="3517920"/>
            <a:ext cx="177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2400480" y="3809880"/>
            <a:ext cx="736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1.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2516040" y="3238560"/>
            <a:ext cx="11239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29.1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valy noh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7960" y="1782720"/>
            <a:ext cx="3524400" cy="18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poloha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d na lavičc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ehno vodorov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03280" y="4422600"/>
            <a:ext cx="4895640" cy="23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pakovaně vztyk a sed na jedné no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á se nedotýká země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up vzpříme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ívky 6 x, chlapci 10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751280" y="1440000"/>
            <a:ext cx="1968480" cy="2822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7199280" y="3654360"/>
            <a:ext cx="2048040" cy="35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elkový svalový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359568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poloh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por na prav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pravo lež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47640" y="5184720"/>
            <a:ext cx="395136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nožit a upažit lev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drž 10 vteřin dí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 vteřin chlap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4608360" y="1576440"/>
            <a:ext cx="3910320" cy="2440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4886280" y="4287960"/>
            <a:ext cx="3538440" cy="29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1"/>
          <p:cNvSpPr/>
          <p:nvPr/>
        </p:nvSpPr>
        <p:spPr>
          <a:xfrm>
            <a:off x="2908440" y="3973680"/>
            <a:ext cx="4343400" cy="156204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3124080" y="4127400"/>
            <a:ext cx="396252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Au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oudova@gymta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říje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463840" y="2793960"/>
            <a:ext cx="5232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203040"/>
            <a:ext cx="492768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 - 20"/>
              </a:rPr>
              <a:t>Seznam použité literatury a pramenů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délník 1"/>
          <p:cNvSpPr/>
          <p:nvPr/>
        </p:nvSpPr>
        <p:spPr>
          <a:xfrm>
            <a:off x="228600" y="785880"/>
            <a:ext cx="9244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kopová, M., Zítko, M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ákladní gymnastik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2. vyd. Praha : Univerzita Karlova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arkovská, H., Jarkovská, M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silování s vlastním tělem 417krát jinak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raha : Grada publishing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ázické sv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07960" y="17827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konávají pohy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jí horší cévní zásob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aleji regeneruj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jí sklon k ochabnu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jich méně než svalů posturální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960" y="234720"/>
            <a:ext cx="914400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ázické sv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3280" y="15224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Ohybače krku a hlav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většená krční lordoza, předsunutí br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Fixátory lopatek a zádové svaly–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věšená ramena, kulatá páteř, odstávající lop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Břišní sval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měna sklonu pánve, bederní lordóz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valy hýžďové –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většení sklonu pán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valy nohou –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propnutí v kolenním kloub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ování fázických sva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55600" y="1793880"/>
            <a:ext cx="9360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vičí se ve dvoj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všech cviků se hodnotí provedení a výdrž v dané polo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en cvič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uhý hodnotí a zapisuje provedení do tabulky, měří č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rávné provedení = 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ybné provedení nebo v nedostatečném rozsahu = popis odlišn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hybače krku a hl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79280" y="1573200"/>
            <a:ext cx="3384360" cy="15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poloh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 pokrč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5003" b="0"/>
          <a:stretch/>
        </p:blipFill>
        <p:spPr>
          <a:xfrm>
            <a:off x="5094360" y="1581120"/>
            <a:ext cx="4120920" cy="1731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5100480" y="3981600"/>
            <a:ext cx="4052880" cy="17319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30040" y="3498840"/>
            <a:ext cx="45230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 výdechem předklon hlavy až do hrudního předkl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drž 20 vteř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lní fixátory lopatek, svaly ramen a trup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6880" y="3936600"/>
            <a:ext cx="9506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ik a vzpor – neprohýbat, lopatky se nepřibližují, 5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66720" y="5327640"/>
            <a:ext cx="3797280" cy="141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5659560" y="5191200"/>
            <a:ext cx="3411360" cy="1576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20720" y="2376360"/>
            <a:ext cx="609912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ákladní poloh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por klečmo (dívky), ležmo (chlap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079640" y="7056360"/>
            <a:ext cx="21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rávné pro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459480" y="7018200"/>
            <a:ext cx="20401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ybné pro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valy zádov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1640" y="1728360"/>
            <a:ext cx="49644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poloha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por klečmo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aně u ko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31640" y="4824360"/>
            <a:ext cx="3959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aně zkřižmo na ramena, výdrž 20 vteř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896000" y="1689120"/>
            <a:ext cx="3717720" cy="212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896000" y="4535640"/>
            <a:ext cx="3765240" cy="23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řišní sv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7960" y="1611000"/>
            <a:ext cx="33796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poloh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 přednoži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uce v tý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20720" y="4680000"/>
            <a:ext cx="34815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ustit nohy – 45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drž 30 vteř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4319640" y="1663560"/>
            <a:ext cx="2440080" cy="2584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4748040" y="4680000"/>
            <a:ext cx="39643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valy hýžďov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36320" y="1576080"/>
            <a:ext cx="496404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poloha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 na břiš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že skrčit upažmo dovnitř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žit č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76360" y="4230720"/>
            <a:ext cx="41101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nožit jednu no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drž 20 vteř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rohýbat v bedr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688000" y="1800360"/>
            <a:ext cx="3552840" cy="1118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5759280" y="3959280"/>
            <a:ext cx="3791160" cy="141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7056360" y="5838840"/>
            <a:ext cx="2544840" cy="15764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5759280" y="3527280"/>
            <a:ext cx="210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rávné pro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896000" y="6408720"/>
            <a:ext cx="2039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ybné pro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chotovinska</cp:lastModifiedBy>
  <dcterms:modified xsi:type="dcterms:W3CDTF">2014-06-10T12:51:24Z</dcterms:modified>
  <cp:revision>12</cp:revision>
  <dc:subject/>
  <dc:title>Snímek 1</dc:title>
</cp:coreProperties>
</file>