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844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1CFBA2-34C7-4010-82F9-C2D6876F2666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520D1-C64C-4BF2-8DB4-5BF4A6D03B4E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DFB455-D0EE-4C45-92FC-1001DDE7596C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91C9A-D225-4CEF-9BD0-0B4D99DF06ED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AC3151-6093-41B8-923D-3E2B6ABD301E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67526-95B0-4C0C-AF8A-7B30DB91560B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BFFF0-6444-4F11-B70B-452B30EC242D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34C17D-C815-480A-B980-3B7CF73BDBF5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DC8514-E66D-4CAA-AC74-97CF7BA16BD0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1CA46-36FB-47E7-AA27-858DF53832D3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3ABE1-3444-42ED-8D25-5D5ABD6D2D54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8A695-725D-4AF0-BC55-16585F485175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EAE37-B593-4E10-97F1-1CE4D4CA9842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0B2D-0D47-439B-BB4F-BA851FA95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E204-143C-45A8-AF9B-F7902244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F1D5-D87A-4DCA-A7A0-8AEE264A0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7D35-A22F-446B-A751-43C0E2E11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72C2-F866-4E46-ABF8-815376A8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B4CE-5EFB-4FED-B618-24840A5D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EF9A-B83C-4987-AD60-734AD519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C7D1-157F-4B0D-BA0E-2D7F1123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9429-3F9A-473D-BB25-C00649AC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7A0A-BEF4-4174-ADDF-62B11C55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9B84-067E-4E54-9E7A-83D0889F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45C0-2C73-4371-B77F-FEA18C25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11182-9E2C-4AC0-9FFF-8311F73A0589}" type="slidenum">
              <a:rPr b="0" lang="cs-CZ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1714680" y="209520"/>
            <a:ext cx="6502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- 16"/>
              </a:rPr>
              <a:t>Projekt: Inovace vybavení    Registrační číslo projektu:  CZ.1.07/1.5.00/34.032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787320" y="482760"/>
            <a:ext cx="85852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- 16"/>
              </a:rPr>
              <a:t>Příjemce: Gymnázium Pierra de Coubertina, Tábor, Náměstí Františka Křižíka 860, 390 01 Táb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1595520" y="5880240"/>
            <a:ext cx="6968880" cy="13428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876240" y="5410080"/>
            <a:ext cx="840744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- 14"/>
              </a:rPr>
              <a:t>Tento výukový materiál vznikl v rámci Operačního programu Vzdělání pro konkurenceschopnost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0" y="4838760"/>
            <a:ext cx="1033776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- 14"/>
              </a:rPr>
              <a:t>Materiál je určen k bezplatnému používání pro potřeby výuky a vzdělávání na všech typech škol a školských zařízení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- 14"/>
              </a:rPr>
              <a:t>Jakékoliv další používání podléhá autorskému zákon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55680" y="1295280"/>
            <a:ext cx="19047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 - 16"/>
              </a:rPr>
              <a:t>Autor materiálu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68280" y="1003320"/>
            <a:ext cx="21589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9280"/>
                <a:tab algn="l" pos="144288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879120"/>
                <a:tab algn="l" pos="1032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 - 16"/>
              </a:rPr>
              <a:t>Název materiálu:</a:t>
            </a:r>
            <a:r>
              <a:rPr b="1" lang="cs-CZ" sz="1200" spc="-1" strike="noStrike">
                <a:solidFill>
                  <a:srgbClr val="000000"/>
                </a:solidFill>
                <a:latin typeface="Arial - 16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355680" y="2413080"/>
            <a:ext cx="863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Sada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5688000" y="2136600"/>
            <a:ext cx="3960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Předmět: tělesná výchova     ročník: první až čtvrtý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355680" y="1828800"/>
            <a:ext cx="22096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 - 16"/>
              </a:rPr>
              <a:t>Zařazení materiálu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55680" y="2120760"/>
            <a:ext cx="1143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Šablona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5759280" y="2387520"/>
            <a:ext cx="22161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Číslo DUM: 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355680" y="2946240"/>
            <a:ext cx="307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 - 16"/>
              </a:rPr>
              <a:t>Ověření materiálu ve výuc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355680" y="3238560"/>
            <a:ext cx="17272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Datum ověření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355680" y="3809880"/>
            <a:ext cx="863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Třída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355680" y="3530520"/>
            <a:ext cx="17524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Ověřující učitel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17"/>
          <p:cNvSpPr/>
          <p:nvPr/>
        </p:nvSpPr>
        <p:spPr>
          <a:xfrm>
            <a:off x="2400480" y="1003320"/>
            <a:ext cx="33588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Testování posturálních svalů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18"/>
          <p:cNvSpPr/>
          <p:nvPr/>
        </p:nvSpPr>
        <p:spPr>
          <a:xfrm>
            <a:off x="2400480" y="1295280"/>
            <a:ext cx="17776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Mgr. Lea Doudová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19"/>
          <p:cNvSpPr/>
          <p:nvPr/>
        </p:nvSpPr>
        <p:spPr>
          <a:xfrm>
            <a:off x="1244520" y="2120760"/>
            <a:ext cx="51818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Inovace a zkvalitnění výuky prostřednictvím ICT (III/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1244520" y="2413080"/>
            <a:ext cx="9399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32_Tv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8051760" y="2387520"/>
            <a:ext cx="1320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3"/>
          <p:cNvSpPr/>
          <p:nvPr/>
        </p:nvSpPr>
        <p:spPr>
          <a:xfrm>
            <a:off x="2400480" y="3517920"/>
            <a:ext cx="17776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Mgr. Lea Doudová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24"/>
          <p:cNvSpPr/>
          <p:nvPr/>
        </p:nvSpPr>
        <p:spPr>
          <a:xfrm>
            <a:off x="2400480" y="3809880"/>
            <a:ext cx="7365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1. 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25"/>
          <p:cNvSpPr/>
          <p:nvPr/>
        </p:nvSpPr>
        <p:spPr>
          <a:xfrm>
            <a:off x="2400480" y="3238560"/>
            <a:ext cx="17748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22. 11. 20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cc99"/>
                </a:solidFill>
                <a:latin typeface="Arial"/>
              </a:rPr>
              <a:t>Trojhlavý sval lýtkov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092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řep na celých chodidl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1224000" y="2459160"/>
            <a:ext cx="1871640" cy="3373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5400720" y="2376360"/>
            <a:ext cx="3132000" cy="33735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576360" y="5975280"/>
            <a:ext cx="334800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rávné proveden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odidla jsou celá na podložc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da jsou narovnaná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ava v prodloužení trup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5543640" y="5973840"/>
            <a:ext cx="284148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hybné proveden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odidla jsou na špičkách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da jsou shrben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cc99"/>
                </a:solidFill>
                <a:latin typeface="Arial"/>
              </a:rPr>
              <a:t>Zadní strana steh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02920" y="1481040"/>
            <a:ext cx="907092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h, přednožit jednu no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1008000" y="2217600"/>
            <a:ext cx="3373560" cy="2389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2"/>
          <a:stretch/>
        </p:blipFill>
        <p:spPr>
          <a:xfrm>
            <a:off x="1008000" y="5000760"/>
            <a:ext cx="3373560" cy="21985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4778280" y="2365200"/>
            <a:ext cx="4503960" cy="16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rávné proveden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dnožená noha i noha na podlož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ou napnuté v koleni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edra jsou přitisknuta k podložc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dnožená noha je v pravém nebo vetší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hlu k natažené no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4896000" y="5110200"/>
            <a:ext cx="468756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hybné proveden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a nebo obě nohy jsou pokrčené v koleni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dnožená noha svírá s nohou nataženo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nší úhel než 9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1"/>
          <p:cNvSpPr/>
          <p:nvPr/>
        </p:nvSpPr>
        <p:spPr>
          <a:xfrm>
            <a:off x="2886120" y="3941640"/>
            <a:ext cx="4308480" cy="1549440"/>
          </a:xfrm>
          <a:custGeom>
            <a:avLst/>
            <a:gdLst>
              <a:gd name="textAreaLeft" fmla="*/ 0 w 4308480"/>
              <a:gd name="textAreaRight" fmla="*/ 4308840 w 4308480"/>
              <a:gd name="textAreaTop" fmla="*/ 0 h 1549440"/>
              <a:gd name="textAreaBottom" fmla="*/ 1549800 h 154944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bfbfb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098880" y="4094280"/>
            <a:ext cx="3930480" cy="10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Auto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Mgr. Lea Doudová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Gymnázium Pierra de Coubertina, Táb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doudova@gymtac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říjen 20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227160" y="201600"/>
            <a:ext cx="488772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 - 20"/>
              </a:rPr>
              <a:t>Seznam použité literatury a pramenů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647640" y="792000"/>
            <a:ext cx="88567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Skopová, M., Zítko, M. </a:t>
            </a:r>
            <a:r>
              <a:rPr b="0" i="1" lang="cs-CZ" sz="1200" spc="-1" strike="noStrike">
                <a:solidFill>
                  <a:srgbClr val="000000"/>
                </a:solidFill>
                <a:latin typeface="Arial - 16"/>
              </a:rPr>
              <a:t>Základní gymnastika</a:t>
            </a: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.  Praha : Univerzita Karlova,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Jarkovská, H., Jarkovská,  </a:t>
            </a:r>
            <a:r>
              <a:rPr b="0" i="1" lang="cs-CZ" sz="1200" spc="-1" strike="noStrike">
                <a:solidFill>
                  <a:srgbClr val="000000"/>
                </a:solidFill>
                <a:latin typeface="Arial - 16"/>
              </a:rPr>
              <a:t>Posilování s vlastním tělem 417krát jinak.. </a:t>
            </a: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 Praha : Grada publishing,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Fotografická dokumentace autorky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cc99"/>
                </a:solidFill>
                <a:latin typeface="Arial"/>
              </a:rPr>
              <a:t>Posturální sva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502920" y="1368000"/>
            <a:ext cx="9070920" cy="4576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marL="457200"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22212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držují vzpřímenou polohu tě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22212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važuje u nich statická vytrvalostní činno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22212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ují poma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22212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jí tendenci se zkraco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22212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sou uloženy blíže osy těla než svaly fázick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142920"/>
            <a:ext cx="907092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Projevy zkrácení posturálních sval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576000" y="1312920"/>
            <a:ext cx="9070920" cy="5672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marL="343080" indent="0">
              <a:lnSpc>
                <a:spcPct val="93000"/>
              </a:lnSpc>
              <a:spcAft>
                <a:spcPts val="100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1) šíjové sval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krční hyperlordó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0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2) horní část trapézového svalu a zdvihač lopatk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malý úklon hl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0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3) prsní sval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odstávání lopatek, kulatá zá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0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4) zádové svalstvo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oblast beder) – zvýšená bederní lordó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0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) přitahovač stehn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nedostatečné unož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0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6) trojhlavý sval lýtkový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nelze udělat dřep na celých chodidl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0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7) zadní strana stehe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pokrčená kolena v hlubokém předklo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Testování posturálních sval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vičí se ve dvoji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en cvič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ruhý hodnotí a zapisuje provedení do tabulk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rávné provedení =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ybné provedení nebo v nedostatečném rozsahu = popis odliš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cc99"/>
                </a:solidFill>
                <a:latin typeface="Arial"/>
              </a:rPr>
              <a:t>Šíjové sva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2920" y="1440000"/>
            <a:ext cx="90709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přímený stoj nebo sed, předklon hla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576360" y="2262240"/>
            <a:ext cx="2651040" cy="3786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3672000" y="2262240"/>
            <a:ext cx="2663640" cy="3786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3"/>
          <a:stretch/>
        </p:blipFill>
        <p:spPr>
          <a:xfrm>
            <a:off x="6888240" y="2232000"/>
            <a:ext cx="2687400" cy="37861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936720" y="6191280"/>
            <a:ext cx="18604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ýchozí poloh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3543480" y="6189840"/>
            <a:ext cx="300960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rávné proveden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átěř se plynule ohýbá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rada směřuje na prsní k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7056360" y="6189840"/>
            <a:ext cx="233532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hybné provedení</a:t>
            </a:r>
            <a:r>
              <a:rPr b="0" lang="cs-CZ" sz="1800" spc="-1" strike="noStrike">
                <a:solidFill>
                  <a:srgbClr val="ffcc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rada je předsunuta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áteř není ohnu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ffcc99"/>
                </a:solidFill>
                <a:latin typeface="Arial"/>
              </a:rPr>
              <a:t>Horní část trapézového svalu a zdvihač lopat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31640" y="1728720"/>
            <a:ext cx="9071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oj nebo sed, úklon hla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7178760" y="2793960"/>
            <a:ext cx="2365200" cy="3038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3797280" y="2793960"/>
            <a:ext cx="2322360" cy="3038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720720" y="2879640"/>
            <a:ext cx="2209680" cy="30384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876240" y="6126120"/>
            <a:ext cx="18604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ýchozí poloh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70280" y="6075360"/>
            <a:ext cx="277020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rávné proveden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klon hlavy je větší ne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°, ramena se nezvedaj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6912000" y="6048360"/>
            <a:ext cx="302400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hybné provedení</a:t>
            </a:r>
            <a:r>
              <a:rPr b="0" lang="cs-CZ" sz="1800" spc="-1" strike="noStrike">
                <a:solidFill>
                  <a:srgbClr val="ffcc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klon je doprováz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dklonem či záklonem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vedají se ram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cc99"/>
                </a:solidFill>
                <a:latin typeface="Arial"/>
              </a:rPr>
              <a:t>Prsní sva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02920" y="1409760"/>
            <a:ext cx="9070920" cy="606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h, vzpažit pokrč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496800" y="2455920"/>
            <a:ext cx="5622840" cy="2224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503280" y="5165640"/>
            <a:ext cx="5622840" cy="19623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6551640" y="2664000"/>
            <a:ext cx="268920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rávné proveden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volněné paže leží celo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ochou na podložc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edra jsou přitisknu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 podlož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6696000" y="5184720"/>
            <a:ext cx="269100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hybné proveden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že se nedotýkají celo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ochou podložky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áteř je v bederní obla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hnu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cc99"/>
                </a:solidFill>
                <a:latin typeface="Arial"/>
              </a:rPr>
              <a:t>Zádové svalst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502920" y="1701360"/>
            <a:ext cx="90709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ed na židli, ohnutý předk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503280" y="2376360"/>
            <a:ext cx="2436840" cy="3851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3456000" y="2362320"/>
            <a:ext cx="2519280" cy="2966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3"/>
          <a:stretch/>
        </p:blipFill>
        <p:spPr>
          <a:xfrm>
            <a:off x="6696000" y="2376360"/>
            <a:ext cx="2598840" cy="29908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803160" y="6413400"/>
            <a:ext cx="18608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ýchozí poloh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384720" y="5641920"/>
            <a:ext cx="315576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rávné proveden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átěř je obloukovitě vyhrben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ava u ko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6840360" y="5613480"/>
            <a:ext cx="284004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hybné proveden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áteř je vyhrbena v obla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rudníku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dostatečný předkl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cc99"/>
                </a:solidFill>
                <a:latin typeface="Arial"/>
              </a:rPr>
              <a:t>Přitahovače steh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679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h roznožný, osa chodidel kolmo k podlož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576360" y="2448000"/>
            <a:ext cx="3373200" cy="2112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2"/>
          <a:stretch/>
        </p:blipFill>
        <p:spPr>
          <a:xfrm>
            <a:off x="576360" y="4896000"/>
            <a:ext cx="4500360" cy="22176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4608360" y="2808360"/>
            <a:ext cx="3084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rávné proveden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sah pohybu je 9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° a ví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5256360" y="5184720"/>
            <a:ext cx="384480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hybné proveden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sah pohybu je méně než 9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sa chodidel není kolmo k podlož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7T09:55:48Z</dcterms:created>
  <dc:creator/>
  <dc:description/>
  <dc:language>en-US</dc:language>
  <cp:lastModifiedBy>doma</cp:lastModifiedBy>
  <dcterms:modified xsi:type="dcterms:W3CDTF">2014-05-11T18:03:43Z</dcterms:modified>
  <cp:revision>17</cp:revision>
  <dc:subject/>
  <dc:title>Snímek 1</dc:title>
</cp:coreProperties>
</file>