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954CD-63EA-42A6-AEAF-3F3234F89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18BD-A822-455A-93F8-63685F7C2B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EFBFD-B952-4B74-B6CB-DE7BD19BF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00CD0-5A2C-43F6-B4F0-A5FA7605FD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48D6-D3D3-480A-AEB0-457A1D8756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A12D-0CD7-4BE4-B3DB-E560E450A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E836C-019A-425D-BF79-06DDAE761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B7BD-2267-4414-BE5D-CD6A729C2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600" y="44089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C14A0-9428-46E8-985B-1D2312A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156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62A-8644-4709-8B6A-53B114B8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2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8800" y="17827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6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2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8800" y="4408920"/>
            <a:ext cx="29430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8CF3-FF46-4AD7-A0C0-BE674C57A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D371-A658-4051-AF83-08DBF979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464C-44C4-42A4-9E89-24D2CF7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A737-CA30-4027-81B2-00F8881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E5CA-78A9-4109-998F-650B107D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0" y="303120"/>
            <a:ext cx="91407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4B24-0936-442E-A355-23AF7A60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068B-7CA8-447A-979D-4F1F353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1560" y="44089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3884-B7E7-43E7-8FA3-0962CD85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60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560" y="1782720"/>
            <a:ext cx="446040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600" y="4408920"/>
            <a:ext cx="91407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432D-6DD5-4B5A-818D-98E2E9A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60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471840" y="7062840"/>
            <a:ext cx="321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27992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BC894-DD50-417D-9B03-ECD0BAA55B8B}" type="slidenum">
              <a:rPr b="0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7600" y="303120"/>
            <a:ext cx="91407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7600" y="1782720"/>
            <a:ext cx="91407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14680" y="190440"/>
            <a:ext cx="6500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CZ.1.07/1.5.00/34.03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7320" y="482760"/>
            <a:ext cx="8583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1680"/>
            <a:ext cx="6968880" cy="1343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76240" y="5410080"/>
            <a:ext cx="840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4838760"/>
            <a:ext cx="103363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</a:t>
            </a:r>
            <a:r>
              <a:rPr b="1" lang="cs-CZ" sz="1000" spc="-1" strike="noStrike">
                <a:solidFill>
                  <a:srgbClr val="ff0000"/>
                </a:solidFill>
                <a:latin typeface="Times New Roman - 14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943600" y="2120760"/>
            <a:ext cx="2519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602400" y="2425680"/>
            <a:ext cx="1371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5680" y="2946240"/>
            <a:ext cx="30718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400480" y="1003320"/>
            <a:ext cx="1919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osilování – pojm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44520" y="2120760"/>
            <a:ext cx="5180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8051760" y="2120760"/>
            <a:ext cx="1803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44520" y="2413080"/>
            <a:ext cx="1282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400480" y="3809880"/>
            <a:ext cx="736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kvi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409840" y="3238560"/>
            <a:ext cx="1090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3. 10.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215640"/>
            <a:ext cx="91425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Rozdělení svalů podle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448000"/>
            <a:ext cx="9142200" cy="23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Agon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konává pohyb v určitém s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5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Antagon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ůsobí proti agonist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7320" indent="-320400">
              <a:lnSpc>
                <a:spcPct val="15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Synergist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spolupracuje s agonist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92000" y="5472000"/>
            <a:ext cx="8783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terý sval byl u přednožování na stroji  agonistou a který antagonist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599240" y="3378240"/>
            <a:ext cx="1785960" cy="133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8520" y="303120"/>
            <a:ext cx="9361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Rozdělení svalů podle směru pohyb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944720"/>
            <a:ext cx="9142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hyb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flexory) – ohnutí v klo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Na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extenzory) – napnutí v klo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Od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abduktory) – odtahují končetiny od tru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řitahovač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adduktory) – přitahují končetiny k tru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Rotáto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tační pohy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7960" y="1122120"/>
            <a:ext cx="9142560" cy="61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é svaly (z hlediska pohybu) byly posilovány na těchto strojíc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86440" y="2952720"/>
            <a:ext cx="2832120" cy="2127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623880" y="2984400"/>
            <a:ext cx="2832120" cy="2127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719520" y="2952720"/>
            <a:ext cx="2832120" cy="2127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755720" y="253368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923000" y="246060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136000" y="2460600"/>
            <a:ext cx="344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onista – čtyřhlavý stehen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tagonista – dvojhlavý stehen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flex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extenz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adduktory a abduk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/>
            <a:ahLst/>
            <a:rect l="l" t="t" r="r" b="b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adadeb"/>
          </a:solidFill>
          <a:ln w="12600">
            <a:solidFill>
              <a:srgbClr val="adad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124080" y="4127400"/>
            <a:ext cx="39625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8600" y="203040"/>
            <a:ext cx="4927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98400" y="571680"/>
            <a:ext cx="923760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Základní gymnastika.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Praha: Univerzita Karlova, 200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 s vlastním tělem 417krát jina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 Praha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Jarkovská, H. </a:t>
            </a:r>
            <a:r>
              <a:rPr b="0" i="1" lang="cs-CZ" sz="1200" spc="-1" strike="noStrike">
                <a:solidFill>
                  <a:srgbClr val="000000"/>
                </a:solidFill>
                <a:latin typeface="Arial - 16"/>
              </a:rPr>
              <a:t>Posilování: kondiční kruhový trénink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 Praha: Grada publishing,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a</cp:lastModifiedBy>
  <dcterms:modified xsi:type="dcterms:W3CDTF">2014-05-11T18:01:51Z</dcterms:modified>
  <cp:revision>16</cp:revision>
  <dc:subject/>
  <dc:title>Prezentace aplikace PowerPoint</dc:title>
</cp:coreProperties>
</file>