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577-10A0-46F2-B9DA-F4654835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AD7-32C2-4BA2-8953-5E5E13DF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586-58F8-4CD7-A70F-DAEE2F0E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443-E34C-4893-A9E2-87B196B7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5DF-AD4F-4CEC-8390-AAE1C9BC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874-00B2-4C4E-8D8A-2750EB0A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95F-8962-487E-867A-9D197270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ED5-29D7-4E84-832D-16D7D6AD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F8C-873C-4FE3-AD1F-6B9FBB0F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BBA-3CD8-4E25-A2A0-28BD0E5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4EF-99CF-491D-ABAE-AC3710C8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509-0DFC-44C6-BF9E-C1378C4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577-FA56-45AB-85B9-97AC3AD400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395280" y="2349360"/>
            <a:ext cx="777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7"/>
          <p:cNvSpPr/>
          <p:nvPr/>
        </p:nvSpPr>
        <p:spPr>
          <a:xfrm>
            <a:off x="2160720" y="903240"/>
            <a:ext cx="37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ozdní středověk – chronolo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prava na 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21"/>
          <p:cNvSpPr/>
          <p:nvPr/>
        </p:nvSpPr>
        <p:spPr>
          <a:xfrm>
            <a:off x="1187280" y="2349360"/>
            <a:ext cx="2414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NL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7.6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5574600" y="3159000"/>
            <a:ext cx="22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hDr. František Mrázek, CSc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bdélník 1"/>
          <p:cNvSpPr/>
          <p:nvPr/>
        </p:nvSpPr>
        <p:spPr>
          <a:xfrm>
            <a:off x="395280" y="981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hronolog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22 – povstání sedláků ve Flandr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47 – 1351 – morová epidemie v Evrop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58 – povstání v Paříží vedené Etiennem Marc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58 – povstání sedláků (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e francouzštině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„jacquerrie“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Jacques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e střední Fran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37 – 1453 – Stoletá válka mezi Francií a Angl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78 – 1417 – Velké schizma, dvoj a poté trojpapež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415 – 1436 – husitská revolu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453 – Turci dobývají Konstantinop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délník 2"/>
          <p:cNvSpPr/>
          <p:nvPr/>
        </p:nvSpPr>
        <p:spPr>
          <a:xfrm>
            <a:off x="468360" y="40464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 základě chronologie vysvětlete termín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Krize pozdního středověku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bdélník 1"/>
          <p:cNvSpPr/>
          <p:nvPr/>
        </p:nvSpPr>
        <p:spPr>
          <a:xfrm>
            <a:off x="611280" y="1557360"/>
            <a:ext cx="828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hronolog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22 – povstání sedláků ve Flandr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47 – 1351 – morová epidemie v Evrop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58 – povstání v Paříží vedené Etiennem Marc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58 – povstání sedláků (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e francouzštině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„jacquerrie“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Jacques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e střední Fran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37 – 1453 – stoletá válka mezi Francií a Angl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78 – 1417 – Velké schizma, dvoj a poté trojpapež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415 – 1436 – husitská revolu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453 – Turci dobývají Konstantinop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Vývojový diagram: spojka 2"/>
          <p:cNvSpPr/>
          <p:nvPr/>
        </p:nvSpPr>
        <p:spPr>
          <a:xfrm>
            <a:off x="395280" y="2421000"/>
            <a:ext cx="216000" cy="216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Vývojový diagram: spojka 3"/>
          <p:cNvSpPr/>
          <p:nvPr/>
        </p:nvSpPr>
        <p:spPr>
          <a:xfrm>
            <a:off x="395280" y="3141720"/>
            <a:ext cx="216000" cy="216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Vývojový diagram: spojka 4"/>
          <p:cNvSpPr/>
          <p:nvPr/>
        </p:nvSpPr>
        <p:spPr>
          <a:xfrm>
            <a:off x="395280" y="4941720"/>
            <a:ext cx="216000" cy="216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5"/>
          <p:cNvSpPr/>
          <p:nvPr/>
        </p:nvSpPr>
        <p:spPr>
          <a:xfrm>
            <a:off x="4140360" y="189000"/>
            <a:ext cx="4032000" cy="43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vstání a revoluce – vnitřní k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6"/>
          <p:cNvSpPr/>
          <p:nvPr/>
        </p:nvSpPr>
        <p:spPr>
          <a:xfrm>
            <a:off x="4140360" y="692280"/>
            <a:ext cx="4032000" cy="3603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oupeření mezi státy - vál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Vývojový diagram: spojka 7"/>
          <p:cNvSpPr/>
          <p:nvPr/>
        </p:nvSpPr>
        <p:spPr>
          <a:xfrm>
            <a:off x="395280" y="4221000"/>
            <a:ext cx="216000" cy="21600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Vývojový diagram: spojka 8"/>
          <p:cNvSpPr/>
          <p:nvPr/>
        </p:nvSpPr>
        <p:spPr>
          <a:xfrm>
            <a:off x="395280" y="2781360"/>
            <a:ext cx="216000" cy="21600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Vývojový diagram: spojka 9"/>
          <p:cNvSpPr/>
          <p:nvPr/>
        </p:nvSpPr>
        <p:spPr>
          <a:xfrm>
            <a:off x="395280" y="3500280"/>
            <a:ext cx="216000" cy="216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12"/>
          <p:cNvSpPr/>
          <p:nvPr/>
        </p:nvSpPr>
        <p:spPr>
          <a:xfrm>
            <a:off x="4140360" y="1125360"/>
            <a:ext cx="4032000" cy="358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pidemie – demografická k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délník 13"/>
          <p:cNvSpPr/>
          <p:nvPr/>
        </p:nvSpPr>
        <p:spPr>
          <a:xfrm>
            <a:off x="4140360" y="1557360"/>
            <a:ext cx="4032000" cy="358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írkevní a společenská k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Vývojový diagram: spojka 14"/>
          <p:cNvSpPr/>
          <p:nvPr/>
        </p:nvSpPr>
        <p:spPr>
          <a:xfrm>
            <a:off x="395280" y="4581360"/>
            <a:ext cx="216000" cy="2160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15"/>
          <p:cNvSpPr/>
          <p:nvPr/>
        </p:nvSpPr>
        <p:spPr>
          <a:xfrm>
            <a:off x="4140360" y="1989000"/>
            <a:ext cx="4032000" cy="36036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stup Turků – vnější nebezpe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Vývojový diagram: spojka 16"/>
          <p:cNvSpPr/>
          <p:nvPr/>
        </p:nvSpPr>
        <p:spPr>
          <a:xfrm>
            <a:off x="395280" y="5300640"/>
            <a:ext cx="216000" cy="21600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erv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5"/>
          <p:cNvSpPr/>
          <p:nvPr/>
        </p:nvSpPr>
        <p:spPr>
          <a:xfrm>
            <a:off x="539640" y="549360"/>
            <a:ext cx="804708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HAY, Denys. </a:t>
            </a:r>
            <a:r>
              <a:rPr b="0" i="1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Evropa pozdního středověku, 1300-1500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. Vyd. 1. Praha: Vyšehrad, 2010, 412 s. Dějiny Evropy. ISBN 978-80 -7021-986 -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0:15:36Z</dcterms:created>
  <dc:creator>mvelik</dc:creator>
  <dc:description/>
  <dc:language>en-US</dc:language>
  <cp:lastModifiedBy>hchotovinska</cp:lastModifiedBy>
  <dcterms:modified xsi:type="dcterms:W3CDTF">2014-06-10T09:08:49Z</dcterms:modified>
  <cp:revision>6</cp:revision>
  <dc:subject/>
  <dc:title>Snímek 1</dc:title>
</cp:coreProperties>
</file>