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7DDC8-5F34-4E14-A0AB-E499D38096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95AF5-E0CD-4C79-963D-FD17BB2B6D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00CF-F4AE-4F7A-B6B5-852BD7E0F3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87DD2-85F1-45F0-BFDA-862133EC6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8668-8D6D-4F22-B97A-E0575C628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8F88-C43C-4F71-BE0C-6B5C24EF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F3B94-4E8A-4C34-9990-76498A2E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45F2-2225-4922-9B90-8F0C31631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F32F-E70D-4CEA-8CF7-6BF80BC3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0A0A-E888-4CEB-A17A-03FB5AC5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81DF4-B8DB-47F8-9083-F1CB5D383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CE4C-17C8-44CF-B077-BF004CB0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357CC-43E9-4689-B75F-B75C9DA68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F2EB-ACAF-455A-8168-DCEB278BC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72072-C698-4E07-9FD8-341A3AD7877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handgemalt24.de/media/images/product/popup/Portraet-von-Philipp-der-Gute-von-Rogier-van-der-Weyden-17475.jpg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ojekt: Inovace vybavení        Registrační číslo projektu: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Times New Roman - 16"/>
                <a:ea typeface="Arial"/>
              </a:rPr>
              <a:t>    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395360" y="530856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51" name="TextovéPole 4"/>
          <p:cNvSpPr/>
          <p:nvPr/>
        </p:nvSpPr>
        <p:spPr>
          <a:xfrm>
            <a:off x="812880" y="4854600"/>
            <a:ext cx="75675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Arial - 16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Arial - 16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Arial - 16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ovéPole 7"/>
          <p:cNvSpPr/>
          <p:nvPr/>
        </p:nvSpPr>
        <p:spPr>
          <a:xfrm>
            <a:off x="331920" y="903240"/>
            <a:ext cx="19429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ovéPole 8"/>
          <p:cNvSpPr/>
          <p:nvPr/>
        </p:nvSpPr>
        <p:spPr>
          <a:xfrm>
            <a:off x="395280" y="2349360"/>
            <a:ext cx="7779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ovéPole 9"/>
          <p:cNvSpPr/>
          <p:nvPr/>
        </p:nvSpPr>
        <p:spPr>
          <a:xfrm>
            <a:off x="5943600" y="1908000"/>
            <a:ext cx="13510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ěje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ovéPole 12"/>
          <p:cNvSpPr/>
          <p:nvPr/>
        </p:nvSpPr>
        <p:spPr>
          <a:xfrm>
            <a:off x="5943600" y="2182680"/>
            <a:ext cx="21938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1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ovéPole 17"/>
          <p:cNvSpPr/>
          <p:nvPr/>
        </p:nvSpPr>
        <p:spPr>
          <a:xfrm>
            <a:off x="2160720" y="903240"/>
            <a:ext cx="3706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ozdní středověk – osobnosti stoleté vál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ovéPole 18"/>
          <p:cNvSpPr/>
          <p:nvPr/>
        </p:nvSpPr>
        <p:spPr>
          <a:xfrm>
            <a:off x="2160720" y="1165320"/>
            <a:ext cx="16002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Miroslav Velí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ovéPole 19"/>
          <p:cNvSpPr/>
          <p:nvPr/>
        </p:nvSpPr>
        <p:spPr>
          <a:xfrm>
            <a:off x="1120680" y="1908000"/>
            <a:ext cx="4662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íprava na dvojjazyčné studiu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ruhý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ovéPole 21"/>
          <p:cNvSpPr/>
          <p:nvPr/>
        </p:nvSpPr>
        <p:spPr>
          <a:xfrm>
            <a:off x="1187280" y="2349360"/>
            <a:ext cx="24148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_DNL_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ovéPole 24"/>
          <p:cNvSpPr/>
          <p:nvPr/>
        </p:nvSpPr>
        <p:spPr>
          <a:xfrm>
            <a:off x="2160720" y="3429000"/>
            <a:ext cx="31240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2.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ovéPole 25"/>
          <p:cNvSpPr/>
          <p:nvPr/>
        </p:nvSpPr>
        <p:spPr>
          <a:xfrm>
            <a:off x="2160720" y="291456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17.6.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"/>
          <p:cNvSpPr/>
          <p:nvPr/>
        </p:nvSpPr>
        <p:spPr>
          <a:xfrm>
            <a:off x="5574600" y="3159000"/>
            <a:ext cx="2242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603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PhDr. František Mrázek, CSc.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Obdélník 1"/>
          <p:cNvSpPr/>
          <p:nvPr/>
        </p:nvSpPr>
        <p:spPr>
          <a:xfrm>
            <a:off x="153000" y="189000"/>
            <a:ext cx="5037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 - 16"/>
                <a:ea typeface="Arial"/>
              </a:rPr>
              <a:t>Podle smyslu přiřaďte osobnosti stoleté vál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453px-King_Edward_III_from_NPG"/>
          <p:cNvPicPr/>
          <p:nvPr/>
        </p:nvPicPr>
        <p:blipFill>
          <a:blip r:embed="rId1"/>
          <a:stretch/>
        </p:blipFill>
        <p:spPr>
          <a:xfrm>
            <a:off x="5651640" y="4508640"/>
            <a:ext cx="1657080" cy="2190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Plantagenet%2C_Edward%2C_The_Black_Prince%2C_Iconic_Image"/>
          <p:cNvPicPr/>
          <p:nvPr/>
        </p:nvPicPr>
        <p:blipFill>
          <a:blip r:embed="rId2"/>
          <a:stretch/>
        </p:blipFill>
        <p:spPr>
          <a:xfrm>
            <a:off x="3924360" y="4508640"/>
            <a:ext cx="1655640" cy="2176200"/>
          </a:xfrm>
          <a:prstGeom prst="rect">
            <a:avLst/>
          </a:prstGeom>
          <a:ln w="0">
            <a:noFill/>
          </a:ln>
        </p:spPr>
      </p:pic>
      <p:sp>
        <p:nvSpPr>
          <p:cNvPr id="76" name="Obdélník 7"/>
          <p:cNvSpPr/>
          <p:nvPr/>
        </p:nvSpPr>
        <p:spPr>
          <a:xfrm>
            <a:off x="2484360" y="620640"/>
            <a:ext cx="6335640" cy="72072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A) anglický král, který přišel s nárokem na francouzský trůn a zahájil konflikt s Francií. V roce 1346 triumfoval nad francouzským vojskem u Kresčak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bdélník 8"/>
          <p:cNvSpPr/>
          <p:nvPr/>
        </p:nvSpPr>
        <p:spPr>
          <a:xfrm>
            <a:off x="2484360" y="1413000"/>
            <a:ext cx="6335640" cy="86364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B) princ z Walesu a také známý jako Černý princ, nejstarší syn anglického krále Eduarda III. Výjimečný vojenský velitel, vítěz od Poitiers (1356), kde zajal francouzského krále Jana I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bdélník 9"/>
          <p:cNvSpPr/>
          <p:nvPr/>
        </p:nvSpPr>
        <p:spPr>
          <a:xfrm>
            <a:off x="2484360" y="2349360"/>
            <a:ext cx="6335640" cy="107964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C) francouzský král, v bitvě u Poitiers byl zajat a skonal v anglickém žaláři, kam se dobrovolně vrátil, když jeho syn držený jako rukojmí prchl ze svého vězení v Calais. Jeho první manželkou byla Jitka Lucemburská, dcera Jana a Elišky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bdélník 12"/>
          <p:cNvSpPr/>
          <p:nvPr/>
        </p:nvSpPr>
        <p:spPr>
          <a:xfrm>
            <a:off x="2484360" y="3500280"/>
            <a:ext cx="6335640" cy="865440"/>
          </a:xfrm>
          <a:prstGeom prst="rect">
            <a:avLst/>
          </a:prstGeom>
          <a:noFill/>
          <a:ln w="255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D) burgundský vévoda, spojenec Anglie v poslední fázi stoleté války. Jeho vojska zajala Janu z Arku a předala ji Angličanům. Rozšířil burgundská panství. Byl zakladatelem Řádu zlatého rou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Jan II"/>
          <p:cNvPicPr/>
          <p:nvPr/>
        </p:nvPicPr>
        <p:blipFill>
          <a:blip r:embed="rId3"/>
          <a:stretch/>
        </p:blipFill>
        <p:spPr>
          <a:xfrm>
            <a:off x="7380360" y="4508640"/>
            <a:ext cx="1368360" cy="2160360"/>
          </a:xfrm>
          <a:prstGeom prst="rect">
            <a:avLst/>
          </a:prstGeom>
          <a:ln w="0">
            <a:noFill/>
          </a:ln>
        </p:spPr>
      </p:pic>
      <p:pic>
        <p:nvPicPr>
          <p:cNvPr id="81" name="Zástupný symbol pro obsah 4" descr="Filip Dobrý.jpg"/>
          <p:cNvPicPr/>
          <p:nvPr/>
        </p:nvPicPr>
        <p:blipFill>
          <a:blip r:embed="rId4"/>
          <a:stretch/>
        </p:blipFill>
        <p:spPr>
          <a:xfrm>
            <a:off x="2340000" y="4508640"/>
            <a:ext cx="1511280" cy="2233440"/>
          </a:xfrm>
          <a:prstGeom prst="rect">
            <a:avLst/>
          </a:prstGeom>
          <a:ln w="0">
            <a:noFill/>
          </a:ln>
        </p:spPr>
      </p:pic>
      <p:sp>
        <p:nvSpPr>
          <p:cNvPr id="82" name="Obdélník 15"/>
          <p:cNvSpPr/>
          <p:nvPr/>
        </p:nvSpPr>
        <p:spPr>
          <a:xfrm>
            <a:off x="-5400" y="620640"/>
            <a:ext cx="2244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Arial"/>
              </a:rPr>
              <a:t>Obr 1. Filip III. Dobr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Arial"/>
              </a:rPr>
              <a:t>Obr. 2 Eduard z Woodstock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Arial"/>
              </a:rPr>
              <a:t>Obr. 3 Eduard II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  <a:ea typeface="Arial"/>
              </a:rPr>
              <a:t>Obr. 4 Jan II. Dobr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Obdélník 1"/>
          <p:cNvSpPr/>
          <p:nvPr/>
        </p:nvSpPr>
        <p:spPr>
          <a:xfrm>
            <a:off x="332640" y="333360"/>
            <a:ext cx="1695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Klí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  <a:ea typeface="Arial"/>
              </a:rPr>
              <a:t>1 D, 2 B, 3 A, 4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Miroslav Velí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velik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erven 20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ovéPole 3"/>
          <p:cNvSpPr/>
          <p:nvPr/>
        </p:nvSpPr>
        <p:spPr>
          <a:xfrm>
            <a:off x="2217600" y="2514600"/>
            <a:ext cx="4708800" cy="5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bjekty použité k vytvoření sešitu jsou součástí SW Smart Notebook nebo pocházejí z veřejných knihoven obrázků (public domain) nebo jsou vlastní originální tvorbou autora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ovéPole 5"/>
          <p:cNvSpPr/>
          <p:nvPr/>
        </p:nvSpPr>
        <p:spPr>
          <a:xfrm>
            <a:off x="628560" y="514440"/>
            <a:ext cx="8047080" cy="158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Arial"/>
              </a:rPr>
              <a:t>HAY, Denys. </a:t>
            </a:r>
            <a:r>
              <a:rPr b="0" i="1" lang="cs-CZ" sz="1100" spc="-1" strike="noStrike">
                <a:solidFill>
                  <a:srgbClr val="000000"/>
                </a:solidFill>
                <a:latin typeface="Calibri"/>
                <a:ea typeface="Arial"/>
              </a:rPr>
              <a:t>Evropa pozdního středověku, 1300-1500</a:t>
            </a: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Arial"/>
              </a:rPr>
              <a:t>. Vyd. 1. Praha: Vyšehrad, 2010, 412 s. Dějiny Evropy. ISBN 978-80 -7021-986 -7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Arial"/>
              </a:rPr>
              <a:t>Obr. 1 </a:t>
            </a:r>
            <a:r>
              <a:rPr b="0" lang="cs-CZ" sz="11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http://www.handgemalt24.de/media/images/product/popup/Portraet-von-Philipp-der-Gute-von-Rogier-van-der-Weyden-17475.jp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Arial"/>
              </a:rPr>
              <a:t>Obr. 2http://www.myheritageimages.com/Z/storage/site66704871/files/00/05/74/000574_9208023e8cg34cu0at8idf.jp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Arial"/>
              </a:rPr>
              <a:t>Obr.3 http://www.fotosimagenes.org/imagenes/ricardo-ii-de-inglaterra-6.jp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  <a:ea typeface="Arial"/>
              </a:rPr>
              <a:t>Obr. 4 http://www.malerei-meisterwerke.de/images_large/meister-des-portraets-des-jean-le-bon-portraet-des-franzoesischen-koenigs-jean-le-bon-(johann-ii.-der-gute)-06545.jp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14T09:36:41Z</dcterms:created>
  <dc:creator>mvelik</dc:creator>
  <dc:description/>
  <dc:language>en-US</dc:language>
  <cp:lastModifiedBy>hchotovinska</cp:lastModifiedBy>
  <dcterms:modified xsi:type="dcterms:W3CDTF">2014-06-10T09:07:49Z</dcterms:modified>
  <cp:revision>7</cp:revision>
  <dc:subject/>
  <dc:title>Snímek 1</dc:title>
</cp:coreProperties>
</file>