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29D-B3DF-4A3D-AC8B-7D78F2B0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C56-2741-4CF4-BCC1-7330B9ED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B938-1954-4434-BF88-92C53414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65CF-7EF9-472A-BD3B-CDC9F07A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2104-6BB1-4660-9029-5C2175B5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4B6E-01F4-4018-91D3-B18765B4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49A4-871B-4305-A9FE-BB2AFE93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2612-D3C6-4623-BDB1-6060480A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CAEC-6D27-4F92-BDD5-D1DF435D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3C12-4AA9-4811-BA4E-4E039300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6637-D7C2-44A8-8AA7-990E803B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3B0-C321-4BB6-8F71-A5435AE4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33A1-B942-4647-B9CD-A0821ED2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C4DF-B418-4C45-A2EC-B13C3CD2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DC0B-A249-44F0-902D-C4675D18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8751-6353-42F9-B50A-5BC4C0E9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7B2C-354F-4294-B0F5-40248A26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84A16-15AD-440D-B800-43A98FCF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49ACA-2834-45DC-936E-02F54360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BE556-4E12-4896-8697-7CECFBA5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AB426-D65E-4D8E-8BCD-6F3E05EE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617DA-C738-40BC-9057-7D9B1EDA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E7CA-CAF9-440C-AD7F-54A5E553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3B46F-0A26-458D-BD9E-529BB7DE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8D8CF-F7C3-4602-9305-2FD96A8A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AD60E-E590-48CD-8E41-833FBED0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353E5-59CF-458D-BDB8-06F5325D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E2D6E-CD7F-4ABE-A439-8A8953F8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AA49A-D698-4C0E-A763-77CD583A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1BCD4-49BD-4BA4-A2D1-AFBF9EF4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7BE7C-C5BD-4792-B1CD-FE38A362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2AC26-D42E-4EA2-86A7-4D4ED567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83A50-AB54-4F5C-915F-AD4AE842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B646-928F-4A2F-BD8C-43179B61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54CF3-6AB5-4461-A5C6-B31FCB1E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A3138-3111-4CE8-BC52-9BC0E6C5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EE89C-57AB-4176-AE65-856929D2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38ECB-748E-42E4-A5FB-EBBAE624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CEF20-3575-4942-A9D5-B65A0F3C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F30AC-B2D4-4AFC-AEE2-AC562861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B893B-6B10-45C0-97A5-C360E81B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1D266-4043-4596-A25C-040DE5CC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1DF7E-83FE-4D6D-A950-004B261A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EBFC3-4454-4122-825B-324F1DCD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7F11-D0CB-4C94-BDE1-3B76BAA0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9F018-9418-4938-9C1E-F2E89C00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D93DB-8F2F-4FB0-81FF-7A8CFD14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E7FD4-722D-4D35-8569-94C0C55E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2261B-2D41-43AC-964A-3DA176C6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425DC-83FD-4902-90EC-AD7745C4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FBAE8-6FE5-4546-AAA7-95ABD009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6A70C-3508-46D6-AC05-EF4A6E64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21CFF-9E08-4C99-843A-69EF8491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47A1F-D05C-45AE-A507-658E6121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402F5-B8F9-4C45-82C7-6AA4B04F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57B-2696-4BEC-9A37-DAF983CF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76AEE-2F59-4AFB-BB64-89AD9627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8292B-55C2-4644-AFA0-2B86DFC5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F7BCE-5A33-41EE-85A9-D65FCDD8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385E9-FFE8-4877-8B76-0C964FCD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EF40D-5BE0-40DE-976D-550DC2B4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CEDFA-205B-497D-9BE4-8480C1F6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28A56-AB47-478F-B49F-85C48F9F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71D5C-34CE-4764-9762-195664F7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00159-349C-46E7-84E0-3E74F598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2A6D2-4DBC-4948-A2AA-CE6DB813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FD5-CFD3-4D38-8532-38463633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33604-19FB-4756-9803-32AA143D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C3D0E-00FC-4FFF-863B-00F32825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F83C0-50DD-4F0F-9698-71DC402A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71E-AD70-412E-8775-6E355530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4015-14C7-41B5-8698-D7AEB31F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délní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Obdélní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FC22-0208-4D73-A561-B3B5695507F8}" type="slidenum">
              <a:rPr b="0" lang="cs-CZ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49A2-1C13-4DEA-88F4-635A7D91E3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Obdélní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86" name="Obdélní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8" name="Přímá spojnice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6087-2EF2-4242-A994-D4BE631DC63A}" type="slidenum"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Obdélní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31" name="Obdélní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0F08-2485-4AF6-9EE1-03DABDF52621}" type="slidenum">
              <a:rPr b="0" lang="cs-CZ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bdélní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Obdélní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48F8-2C09-49EA-9C20-EF5CA79B3634}" type="slidenum">
              <a:rPr b="0" lang="cs-CZ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Obdélní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18" name="Obdélní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8872-4748-4D36-94E1-63F1A93B4DA0}" type="slidenum">
              <a:rPr b="0" lang="cs-CZ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ovéPole 1"/>
          <p:cNvSpPr/>
          <p:nvPr/>
        </p:nvSpPr>
        <p:spPr>
          <a:xfrm>
            <a:off x="1619280" y="26028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Inovace vybavení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TextovéPole 2"/>
          <p:cNvSpPr/>
          <p:nvPr/>
        </p:nvSpPr>
        <p:spPr>
          <a:xfrm>
            <a:off x="684360" y="54936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264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TextovéPole 9"/>
          <p:cNvSpPr/>
          <p:nvPr/>
        </p:nvSpPr>
        <p:spPr>
          <a:xfrm>
            <a:off x="4572000" y="1916280"/>
            <a:ext cx="45720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Seminář z občanského a společenskovědního základu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7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TextovéPole 17"/>
          <p:cNvSpPr/>
          <p:nvPr/>
        </p:nvSpPr>
        <p:spPr>
          <a:xfrm>
            <a:off x="2160720" y="903240"/>
            <a:ext cx="4643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oruchy emocí - fobie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TextovéPole 20"/>
          <p:cNvSpPr/>
          <p:nvPr/>
        </p:nvSpPr>
        <p:spPr>
          <a:xfrm>
            <a:off x="7667640" y="2205000"/>
            <a:ext cx="11523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třetí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TextovéPole 21"/>
          <p:cNvSpPr/>
          <p:nvPr/>
        </p:nvSpPr>
        <p:spPr>
          <a:xfrm>
            <a:off x="1120680" y="2171880"/>
            <a:ext cx="4459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OSZ_3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TextovéPole 24"/>
          <p:cNvSpPr/>
          <p:nvPr/>
        </p:nvSpPr>
        <p:spPr>
          <a:xfrm>
            <a:off x="2160720" y="3429000"/>
            <a:ext cx="10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V7.G, 3.C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TextovéPole 25"/>
          <p:cNvSpPr/>
          <p:nvPr/>
        </p:nvSpPr>
        <p:spPr>
          <a:xfrm>
            <a:off x="2160720" y="2914560"/>
            <a:ext cx="1258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1. 10. 2013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ptackova@gymta.cz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říjen 2013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TextovéPole 4"/>
          <p:cNvSpPr/>
          <p:nvPr/>
        </p:nvSpPr>
        <p:spPr>
          <a:xfrm>
            <a:off x="468360" y="404640"/>
            <a:ext cx="44337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TextovéPole 5"/>
          <p:cNvSpPr/>
          <p:nvPr/>
        </p:nvSpPr>
        <p:spPr>
          <a:xfrm>
            <a:off x="611280" y="981000"/>
            <a:ext cx="79930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Aaron, T. Beck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Kognitivní terapie a emoční poruch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Praha: Portál, 2005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Nadpis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108400" cy="32004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rebuchet MS"/>
              </a:rPr>
              <a:t>Fobi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Nadpis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107640" y="2205000"/>
            <a:ext cx="799308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Jedná se o úzkostnou emocionální poruchu, kterou lze charakterizovat naprosto bezdůvodným strachem z věcí, zvířat, míst či situací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Osoba, která trpí určitou fobií, si svůj strach uvědomuje, ale není schopna svůj strach potlačit či vysvětlit důvod, proč úzkostným strachem trpí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Nadpis 1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594560" cy="1395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250560" y="1557360"/>
            <a:ext cx="77770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Každá fobie má svůj předmět- zdroj strachu, podle kterého je fobie pojmenován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Nejčastějším zdrojem strachu jsou živá zvířata (pavouci, psi, hadi….), otevřené prostory, výšky, ale dokonce i lidé (=sociální fobie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Podle zdroje strachu rozlišujeme asi 500 druhů různých fobií, jejichž názvy obvykle vychází z latinského názvosloví (např. arachnofobie-&gt; arachné= pavouk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Nadpis 1" descr=""/>
          <p:cNvPicPr/>
          <p:nvPr/>
        </p:nvPicPr>
        <p:blipFill>
          <a:blip r:embed="rId1"/>
          <a:stretch/>
        </p:blipFill>
        <p:spPr>
          <a:xfrm>
            <a:off x="225360" y="334800"/>
            <a:ext cx="7480440" cy="12081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6840" y="1483920"/>
            <a:ext cx="7427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rebuchet MS"/>
              </a:rPr>
              <a:t>Psychické příznak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-&gt; pocit ohrožení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-&gt; pocit ze ztráty kontrol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-&gt; obava ze ztráty vědomí/ ze smrt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-&gt; nervozita, nekli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rebuchet MS"/>
              </a:rPr>
              <a:t>Tělesné příznak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-&gt; bušení srdce, rychlý pulz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-&gt; chvění, tř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-&gt; obtížné dýchání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-&gt; bolest na hrud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-&gt; závrať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-&gt; bolest či točení hlavy,…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Nadpis 1" descr=""/>
          <p:cNvPicPr/>
          <p:nvPr/>
        </p:nvPicPr>
        <p:blipFill>
          <a:blip r:embed="rId1"/>
          <a:stretch/>
        </p:blipFill>
        <p:spPr>
          <a:xfrm>
            <a:off x="225360" y="262080"/>
            <a:ext cx="7480440" cy="12063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250920" y="1557360"/>
            <a:ext cx="763416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Fobie mohou mít celou řadu příčin-&gt; nejčastější příčinou fobie je trauma, které postižené prožil v dětství (např. v dětství někoho pokouše pes-&gt; v dospělosti strach ze psů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Další příčinou vzniku fobie může být, když člověk slyší o nějakém traumatickém zážitku (nehoda, vážné zranění, úmrtí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Mezi příčiny fobie také patří: psychické poruchy osobnosti, dědičnost, fyzické či sexuální zneužívání v dětství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Nadpis 1" descr=""/>
          <p:cNvPicPr/>
          <p:nvPr/>
        </p:nvPicPr>
        <p:blipFill>
          <a:blip r:embed="rId1"/>
          <a:stretch/>
        </p:blipFill>
        <p:spPr>
          <a:xfrm>
            <a:off x="182520" y="262080"/>
            <a:ext cx="7589880" cy="1096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457200" y="1609560"/>
            <a:ext cx="74995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Trebuchet MS"/>
              </a:rPr>
              <a:t>Při diagnostice fobie postupujeme takto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Sledování specifických příznaků (nepřiměřený strach, vyhýbání se situaci setkání se zdrojem strachu)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Objevení alespoň 2 příznaků úzkosti (bušení srdce, sucho v ústech, chvění…)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Postižený fobií si svůj strach uvědomuje, ví, že je přehnaný a nebojí se, pokud není v kontaktu se zdrojem strachu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Za fobii se nepovažuje úzkostné či vyhýbavé chování, které je následkem bludů či jiných psychických poruch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Nadpis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468360" y="1844280"/>
            <a:ext cx="73548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Expoziční terapi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Kognitivně behaviorální terapi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Farmakoterapie (antidepresiv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Léčba šoke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Nadpis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468000" y="1988640"/>
            <a:ext cx="742644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Jaké znáš konkrétní typy fobi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Odhadni, jaká je míra rozšíření fobií v populaci? Jak je to u mužů, jak u že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Který „psycholog“se jako první zabýval fobií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16:35:53Z</dcterms:created>
  <dc:creator>doma</dc:creator>
  <dc:description/>
  <dc:language>en-US</dc:language>
  <cp:lastModifiedBy>hchotovinska</cp:lastModifiedBy>
  <dcterms:modified xsi:type="dcterms:W3CDTF">2014-06-09T13:12:25Z</dcterms:modified>
  <cp:revision>20</cp:revision>
  <dc:subject/>
  <dc:title>Prezentace aplikace PowerPoint</dc:title>
</cp:coreProperties>
</file>