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063-E2FE-4A19-AE09-BA87271E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529-84A2-4F80-BD9E-F0C499BA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192-6FB6-4472-8067-3FE82C03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433-BB85-498E-8132-672F36AB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3180-169D-4C6A-97BC-173712B2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CFF5-6561-409E-A2CE-94914BF7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7E56-AF48-4078-BC45-3950E1FB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68A4-86A4-4F42-9C6D-F41075BF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655A-2A7D-4E3B-9CD0-6E55F4EE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C815-FC55-4FF9-9518-79C34E36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CFBF-C87C-4685-8A40-1DAAB779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369-4DA3-452E-9B4C-0A12AD81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303D-0201-4062-ACD9-C9A1E11A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75B4-FA69-4CC1-AEF9-B293C11A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7754-C3F1-4AF7-AEC4-4816624E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E7BA-CB24-4E0B-A527-F94168F2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7E42-00DB-4B51-96BF-ACF019CF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3844-888C-411C-A782-D231A261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6E9D4-E94E-441B-AD0D-F9EDE4A2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0483-DF8B-450B-BCB8-8CAF8FC3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1D99E-8532-4389-9C51-EBB41128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07A0-7119-4F4C-AF7D-DB836704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B40-0525-4483-90B9-0511F5E7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849D-D0CE-4166-8AFD-01FA7F3F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76DD-F1D6-4B55-AE89-6DEEBA5D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CA168-DB11-49E1-8AB3-95168ECE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8E8CF-A651-417B-A532-94B9758D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474B4-9217-4AE9-B11F-90905DA3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C8A2-3700-4848-899A-76AC136D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7523-029F-41F7-9BD8-DCD5CAB0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419-7426-441C-8097-BFC42AC8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87B-5617-44F3-81E9-C8062300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AA5-1403-4BD2-8958-3329135E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3CD-4D89-4239-B1DF-A874BA40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72E-3043-4606-BB6B-8D0F495D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E50-E305-4EE0-93EA-BB4C29AF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B65E-ABFA-446B-A68B-6EE973A2F0D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C348-718B-433B-8E46-0824BE6A323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F455-6844-421C-B8F3-82457E0F4CB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Inovace vybavení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9"/>
          <p:cNvSpPr/>
          <p:nvPr/>
        </p:nvSpPr>
        <p:spPr>
          <a:xfrm>
            <a:off x="4572000" y="1916280"/>
            <a:ext cx="4572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Seminář z občanského a společenskovědního základ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17"/>
          <p:cNvSpPr/>
          <p:nvPr/>
        </p:nvSpPr>
        <p:spPr>
          <a:xfrm>
            <a:off x="2160720" y="903240"/>
            <a:ext cx="4643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ývoj dětské kresb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20"/>
          <p:cNvSpPr/>
          <p:nvPr/>
        </p:nvSpPr>
        <p:spPr>
          <a:xfrm>
            <a:off x="7667640" y="2205000"/>
            <a:ext cx="11523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čtvrt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21"/>
          <p:cNvSpPr/>
          <p:nvPr/>
        </p:nvSpPr>
        <p:spPr>
          <a:xfrm>
            <a:off x="1120680" y="2171880"/>
            <a:ext cx="4459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OSZ_3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24"/>
          <p:cNvSpPr/>
          <p:nvPr/>
        </p:nvSpPr>
        <p:spPr>
          <a:xfrm>
            <a:off x="2160720" y="3429000"/>
            <a:ext cx="10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4. D, 4. 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1. 2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38988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Ukázka kresby z období „intelektuálního realismu“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Picture 4" descr="kresby_0001"/>
          <p:cNvPicPr/>
          <p:nvPr/>
        </p:nvPicPr>
        <p:blipFill>
          <a:blip r:embed="rId1"/>
          <a:stretch/>
        </p:blipFill>
        <p:spPr>
          <a:xfrm>
            <a:off x="4859280" y="404640"/>
            <a:ext cx="3503520" cy="5257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3780000" y="5776920"/>
            <a:ext cx="48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Jedná se o typickou ukázku rentgenového vidě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4. fáze- realistická kresb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06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ato fáze je typická pro dítě školního vě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ítě umí skutečně realisticky zobrazit skutečnost, kresba přestává být spontánní, zvyšuje sebekritika k vlastnímu výko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Ukázka tzv. realistické kresb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5" name="Picture 4" descr="kresby_0014"/>
          <p:cNvPicPr/>
          <p:nvPr/>
        </p:nvPicPr>
        <p:blipFill>
          <a:blip r:embed="rId1"/>
          <a:stretch/>
        </p:blipFill>
        <p:spPr>
          <a:xfrm>
            <a:off x="1116000" y="1125360"/>
            <a:ext cx="6796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Úkoly k zamyšlení </a:t>
            </a:r>
            <a:r>
              <a:rPr b="1" lang="cs-CZ" sz="4200" spc="-1" strike="noStrike" u="sng">
                <a:solidFill>
                  <a:srgbClr val="006633"/>
                </a:solidFill>
                <a:uFillTx/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mysli se nad tím, jaký význam má kresba (a její vývoj) z hlediska psycholog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íš, jak funguje kresba jako diagnostický prostředek u dětí? Uveď příkl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náš pojem tzv.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automatické kresb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ovéPole 3"/>
          <p:cNvSpPr/>
          <p:nvPr/>
        </p:nvSpPr>
        <p:spPr>
          <a:xfrm>
            <a:off x="2217600" y="2514600"/>
            <a:ext cx="4708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bjekty, použité k vytvoření sešitu, jsou součástí SW Smart Notebook nebo pocházejí z veřejných knihoven obrázků (public domain) nebo jsou vlastní originální tvorbou auto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5"/>
          <p:cNvSpPr/>
          <p:nvPr/>
        </p:nvSpPr>
        <p:spPr>
          <a:xfrm>
            <a:off x="611280" y="981000"/>
            <a:ext cx="799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edlichová, I., Heřmanová, V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Kapitoly z vývojové psychologi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Ústí nad Labem: UJEP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brázky použity z archivu aut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6633"/>
                </a:solidFill>
                <a:latin typeface="Arial Black"/>
              </a:rPr>
              <a:t>Vývoj dětské kresb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Picture 4" descr="kresby_0005"/>
          <p:cNvPicPr/>
          <p:nvPr/>
        </p:nvPicPr>
        <p:blipFill>
          <a:blip r:embed="rId1"/>
          <a:stretch/>
        </p:blipFill>
        <p:spPr>
          <a:xfrm>
            <a:off x="2124000" y="197496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Obecné poznatk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1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resbu můžeme z hlediska psychologie považovat za způsob vyjádření člověka (zejména dítěte) k zobrazovanému ob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sychologii se využívá kresby jako jedné z diagnostických metod (hlavně u dětí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resba je závislá na dosažení určité úrovně schopností  dovedností, které se týkají motoriky, senzomotoriky, kognitivních procesů at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Vývojové fáze dětské kresb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785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Obvykle psychologie rozděluje vývoj kresby u dětí do 4 fáz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čmáran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prvotní obr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intelektuální realism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realistická kres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1. fáze- čmáran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jevuje se na konci 1. roku dítě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zniká neúmyslně, z radosti z výtvoru či pohybu, který je do 18. měsíce nahodil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d 18. měsíce dítě kontroluje pohyb ruky, rychlost i směr kresby, rozvíjí se percepčně motorická koordin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Ukázka kresby z období „čmáranice“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kresby_0006"/>
          <p:cNvPicPr/>
          <p:nvPr/>
        </p:nvPicPr>
        <p:blipFill>
          <a:blip r:embed="rId1"/>
          <a:stretch/>
        </p:blipFill>
        <p:spPr>
          <a:xfrm>
            <a:off x="1187280" y="1125360"/>
            <a:ext cx="6796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2. fáze- „prvotní obrys“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ická okolo 3. rok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ítě kreslí „něco“, jedná se o prvotní obrys, lineární znázornění „něčeho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káže napodobit různý směr čáry (vertikální, horizontální, kruhov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rázek obvykle dítě nejprve „načmárá“, pak ho nějak pojmenuje (nemusí se podobat realitě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Ukázka z období „prvotního obrysu“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4" descr="kresby_0002"/>
          <p:cNvPicPr/>
          <p:nvPr/>
        </p:nvPicPr>
        <p:blipFill>
          <a:blip r:embed="rId1"/>
          <a:stretch/>
        </p:blipFill>
        <p:spPr>
          <a:xfrm>
            <a:off x="395280" y="1052640"/>
            <a:ext cx="6797520" cy="453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064480" y="5734080"/>
            <a:ext cx="34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Na obrázku je podle výpovědi dítěte dů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3. fáze- intelektuální realism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jevuje se okolo 4. roku dítě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dstatným rysem kresby v této fázi je, že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dítě kreslí to, co ví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&gt; nekreslí, co vid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ntgenové vi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rtoskopické viděn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8:30:36Z</dcterms:created>
  <dc:creator>TERKA</dc:creator>
  <dc:description/>
  <dc:language>en-US</dc:language>
  <cp:lastModifiedBy>hchotovinska</cp:lastModifiedBy>
  <dcterms:modified xsi:type="dcterms:W3CDTF">2014-06-09T13:09:51Z</dcterms:modified>
  <cp:revision>14</cp:revision>
  <dc:subject/>
  <dc:title>Snímek 1</dc:title>
</cp:coreProperties>
</file>