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168-67BB-4E65-A1A6-8FAA916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976-36BA-43DB-809D-932F8D16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3C2-4A29-43EF-979F-5D0F8237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1D5-E2C9-4733-8D35-F49169BE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697-1712-47BC-BB90-9B119354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B787-666C-49E1-A08D-05E36BC6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719-F0CE-469D-B653-F63B5B5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FCFA-2003-41FF-8E03-EDFC133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6DF6-B2F7-40F9-ABC8-D0F5A925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733-58B9-4BCE-92FC-68177F20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5E02-50E3-4138-9F81-194D1AE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81F-86D5-45DC-9377-DF1C86A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4A5E-D6A3-4135-BC41-197EC9A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B2C-EE81-425E-9256-0405C05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5727-9231-4331-8819-1F1DA342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D58B-D516-4925-8B1C-EFBB2AC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7B7B-EA0E-4B7B-AAE5-53E042FE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970-FA4F-4E45-B906-87227E2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537-36BF-4986-9A48-25F51CC1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32D-1B13-40C2-8747-23329E7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19A-5E5E-4F87-8CA7-B34FA63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AFA-88A8-418E-A78E-41D708E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AD8-1791-4B3B-BE61-1D12FFD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E04-B75A-4081-891D-497933C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742-0ACB-4AF9-85B7-00C910BAE69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559-BCD4-40D9-87AA-CC4A0C524DF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684360" y="549360"/>
            <a:ext cx="7727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</a:t>
            </a:r>
            <a:r>
              <a:rPr b="0" lang="cs-CZ" sz="1600" spc="-1" strike="noStrike">
                <a:solidFill>
                  <a:srgbClr val="000000"/>
                </a:solidFill>
                <a:latin typeface="Arial - 16"/>
                <a:ea typeface="Arial"/>
              </a:rPr>
              <a:t>Pierra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9"/>
          <p:cNvSpPr/>
          <p:nvPr/>
        </p:nvSpPr>
        <p:spPr>
          <a:xfrm>
            <a:off x="5435640" y="1916280"/>
            <a:ext cx="3240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Občanský a společenskovědní zákl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12"/>
          <p:cNvSpPr/>
          <p:nvPr/>
        </p:nvSpPr>
        <p:spPr>
          <a:xfrm>
            <a:off x="5580000" y="2421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Kupní smlouva jako příklad závazku občanského prá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0"/>
          <p:cNvSpPr/>
          <p:nvPr/>
        </p:nvSpPr>
        <p:spPr>
          <a:xfrm>
            <a:off x="5508720" y="2133720"/>
            <a:ext cx="1622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6. 1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6633"/>
                </a:solidFill>
                <a:latin typeface="Garamond"/>
              </a:rPr>
              <a:t>KUPNÍ SMLOUVA </a:t>
            </a:r>
            <a:br>
              <a:rPr sz="4000"/>
            </a:br>
            <a:r>
              <a:rPr b="1" lang="cs-CZ" sz="4000" spc="-1" strike="noStrike">
                <a:solidFill>
                  <a:srgbClr val="006633"/>
                </a:solidFill>
                <a:latin typeface="Garamond"/>
              </a:rPr>
              <a:t>jako příklad závazku občanského práv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upní smlou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Jeden ze základních typů smluv, které jsou součástí tzv. závazkového občanského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smlouva je založena na tom, že prodávajícímu vzniká povinnost odevzdat kupujícímu předmět koupě, zároveň kupujícímu vzniká povinnost převzít si předmět koupě a zaplatit za něj prodávajícímu dohodnutou c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Garamond"/>
              </a:rPr>
              <a:t>Sché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4724280"/>
            <a:ext cx="648000" cy="649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5796000" y="4653000"/>
            <a:ext cx="647640" cy="6490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411280" y="4869000"/>
            <a:ext cx="2305080" cy="431640"/>
          </a:xfrm>
          <a:prstGeom prst="rightArrow">
            <a:avLst>
              <a:gd name="adj1" fmla="val 50000"/>
              <a:gd name="adj2" fmla="val 133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340000" y="4508640"/>
            <a:ext cx="2232000" cy="433080"/>
          </a:xfrm>
          <a:prstGeom prst="leftArrow">
            <a:avLst>
              <a:gd name="adj1" fmla="val 50000"/>
              <a:gd name="adj2" fmla="val 1288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132000" y="5373720"/>
            <a:ext cx="792360" cy="719280"/>
          </a:xfrm>
          <a:prstGeom prst="cube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3132000" y="400536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55800 h 431640"/>
              <a:gd name="textAreaBottom" fmla="*/ 3758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0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1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áva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51640" y="5516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726520" y="5445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p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2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Vzor kupní smlouv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31720" y="1600200"/>
          <a:ext cx="388944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600200"/>
                    <a:ext cx="3889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0"/>
          <p:cNvSpPr/>
          <p:nvPr/>
        </p:nvSpPr>
        <p:spPr>
          <a:xfrm>
            <a:off x="395280" y="1052640"/>
            <a:ext cx="374508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upní smlou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odle §588 občanského zákoník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málie Kocourková, trvale bytem: Navrátilova 789, Letenice 563 07 (prodáva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udolf Brtnický, trvale bytem: Hořická 67, Chvalkovice 358 00 (kupu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zavírají tuto kupní smlouv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. Předmět koupě, doba a způsob dod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ávající se zavazuje na základě této smlouvy dne 14. 2. 2013 osobně předat kupujícímu notebook značky Lenovo I60 v.č. 76904831894 (stáří 1 rok) včetně technické dokumen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I. Kupní 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upující se zavazuje zaplatit do 7 dní od dodání notebooku kupní cenu ve výši 10 200,- Kč na bankovní účet prodávajícího číslo 8970643612/ 057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II. Prohlášení kupující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upující tímto prohlašuje, že byl detailně seznámen s technickým stavem notebooku i s jeho stáří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88000" y="1052640"/>
            <a:ext cx="3960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V. Možnost odstoupení od smlou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jedna ze stran poruší některé z ustanovení této smlouvy, je druhá strana oprávněna od smlouvy odstoup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. Prohlášení s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ě strany prohlašují, že kupní smlouva byla sepsána na základě svobodné vůle. Obě strany si smlouvu přečetly a s jejím obsahem souhlasí a ztvrzují to svými podpi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Letenicích dne 6. 1.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málie Kocour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rodávající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udolf Brtnick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kupu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k vyprac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Garamond"/>
              </a:rPr>
              <a:t>Na základě vzorové kupní smlouvy urč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účastníky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obsah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áva a povinnosti vyplývající z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nezbytnosti“ pro platnost kupní smlou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dle vzorové kupní smlouvy vytvoř svou vlastní kup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mlouvu, kde předmětem koupě bude osobní automob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(není nutná reálná existence údaj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5"/>
          <p:cNvSpPr/>
          <p:nvPr/>
        </p:nvSpPr>
        <p:spPr>
          <a:xfrm>
            <a:off x="611280" y="981000"/>
            <a:ext cx="74721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EMMERT, F. a ko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maturuj ze společenských vě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Brno: Didakti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e sady Off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Vzor kupní smlouvy 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31:52Z</dcterms:created>
  <dc:creator>TERKA</dc:creator>
  <dc:description/>
  <dc:language>en-US</dc:language>
  <cp:lastModifiedBy>hchotovinska</cp:lastModifiedBy>
  <cp:lastPrinted>2013-01-27T14:55:19Z</cp:lastPrinted>
  <dcterms:modified xsi:type="dcterms:W3CDTF">2014-06-09T12:50:56Z</dcterms:modified>
  <cp:revision>8</cp:revision>
  <dc:subject/>
  <dc:title>Snímek 1</dc:title>
</cp:coreProperties>
</file>