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6CC-6ADE-43FA-83F2-B7AF321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954-29C5-43E8-ACF7-B7CBA8AC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81F-E741-430A-BD88-6274AA45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648-9FD6-4F70-87DD-78789CE5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BD1-DB7F-4B58-928B-D4C4BDD3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2A35-83CF-4448-95F0-8822EB14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A91-BD60-40BC-9FAF-53BF20AA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A677-60CC-4537-87CF-F6F998A7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7D9A-C59E-4728-9084-2EDB117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82BD-7A5F-455F-B24D-DCA0098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006-439C-4843-A1EA-2E15362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9C7-9480-431F-8C9C-30B2F03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0592-7E83-4A3D-A0B7-0C87193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21D2-5884-4D07-B19A-E1EDEBC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B79-EC45-4F5B-B3E0-1385A654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D683-034E-49E2-97AA-04DA808D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341C-89E2-46DB-ACCC-85D4EC69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CF6F-C1AF-45C5-887A-99B1CFCA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F41E-BCC5-459E-A887-D27256D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20C7-65F3-4F92-B2DF-56A7D028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D206-63DD-4119-850F-0AF9D80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4066-B6AA-4B82-AD50-8E933402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003-D62E-4F2E-A239-9F26D54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8BEA-A355-4014-937A-ED0A736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FE0D-192E-4193-9928-EB805D8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5A64-A541-4EB4-8A8C-C940EC9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879E-F5F3-4CEF-9FC9-09D9879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AA5F-E3F8-414C-A8D4-31E95037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9C55-C0EC-447F-A717-50758BF3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5D16-E2D7-415F-9CB4-A9F00F6A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320-88C5-412B-A8F2-850D11B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92D-4A19-41DF-89A4-207ED5C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A6C-ABD8-4C5C-9570-5B4560F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F27-0406-4D99-A826-D5F0ABF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5E7-F8BC-4D53-BF44-CDBE292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520-D7BA-4559-B229-28DF55C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A71-9B13-4164-9460-F9D312FB0D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2C3B-37FB-43FA-9B7E-CB6AC3A0242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550F-76D7-40E5-9F6F-EE511B1DD98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     Inovace vybavení  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3274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tavba publicistických projev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5. 2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Stavba publicistických projev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ě jako u jiných útvarů, tak i u publicistiky platí, že by jednotlivé útvary měly mít logickou výstav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ublicistických útvarů hovoříme o tzv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obrácené pyramid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, kde jsou nejprve umístěny ty nejdůležitější informace a směrem ke konci stojí méně a méně podstatná data a fakta, která doplňují informace na počátku tex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„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brácená pyramida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AutoShape 4"/>
          <p:cNvSpPr/>
          <p:nvPr/>
        </p:nvSpPr>
        <p:spPr>
          <a:xfrm rot="3573000">
            <a:off x="1189440" y="1410120"/>
            <a:ext cx="3024000" cy="259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619280" y="1628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ITU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187280" y="2349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O, CO, KDY, K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547640" y="3068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Č, J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88000" y="18446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408560" y="1432080"/>
            <a:ext cx="41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140360" y="4653000"/>
            <a:ext cx="41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úvodu je shrnutý celý obsah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„</a:t>
            </a: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Stavební kameny“ publicistického útvaru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ITU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livňuje přitažlivost člá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značuje obsah člá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ležitá je působivost, neotře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obsahují dějová slov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é texty jsou rozděleny na menší části pomocí tzv.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mezititul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titulek navazuj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LASTNÍ TEXT (dle charakteru členěný do odstavců, replik…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který je zakončen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isovou zkratko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a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Noviny či časopisy dále zahrnují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hlav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ázev periodika v ustálené grafické formě - výraznost, estetičn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řádek pod záhlaví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atum, den, číslo, ročník, vydání, popř. c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dtituly stra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stálené názvy jednotlivých stran; např. Z regio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ubri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obsahové i graficky ustálené druhy článků; např. Galerie velikánů lidst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razový materiá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fotografie, kresby, karikatury,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pis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oprovodné pro obrazový materiá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zer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lošná, řádková)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iráž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technické a vydavatelské informace; obvykle na poslední stran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na závě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786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 titulek k následujícím fotografiím, který by odpovídal požadavkům publicistického sty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424225_291599384239117_1131905019_n"/>
          <p:cNvPicPr/>
          <p:nvPr/>
        </p:nvPicPr>
        <p:blipFill>
          <a:blip r:embed="rId1"/>
          <a:stretch/>
        </p:blipFill>
        <p:spPr>
          <a:xfrm>
            <a:off x="1619280" y="1916280"/>
            <a:ext cx="5689440" cy="3786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441480" y="580536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309309_189919274407129_106220_n"/>
          <p:cNvPicPr/>
          <p:nvPr/>
        </p:nvPicPr>
        <p:blipFill>
          <a:blip r:embed="rId1"/>
          <a:stretch/>
        </p:blipFill>
        <p:spPr>
          <a:xfrm>
            <a:off x="684360" y="692280"/>
            <a:ext cx="302076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2390400" y="53722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finale_0119"/>
          <p:cNvPicPr/>
          <p:nvPr/>
        </p:nvPicPr>
        <p:blipFill>
          <a:blip r:embed="rId2"/>
          <a:stretch/>
        </p:blipFill>
        <p:spPr>
          <a:xfrm>
            <a:off x="4976640" y="549360"/>
            <a:ext cx="3122640" cy="468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9"/>
          <p:cNvSpPr/>
          <p:nvPr/>
        </p:nvSpPr>
        <p:spPr>
          <a:xfrm>
            <a:off x="6710040" y="53722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5"/>
          <p:cNvSpPr/>
          <p:nvPr/>
        </p:nvSpPr>
        <p:spPr>
          <a:xfrm>
            <a:off x="611280" y="981000"/>
            <a:ext cx="747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užíková, O. a ko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maturuj z českého jazyk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Druhé vydání. Brno: Didaktis, 200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Fotografie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21:30Z</dcterms:created>
  <dc:creator>TERKA</dc:creator>
  <dc:description/>
  <dc:language>en-US</dc:language>
  <cp:lastModifiedBy>doma</cp:lastModifiedBy>
  <dcterms:modified xsi:type="dcterms:W3CDTF">2014-05-05T22:57:40Z</dcterms:modified>
  <cp:revision>10</cp:revision>
  <dc:subject/>
  <dc:title>Snímek 1</dc:title>
</cp:coreProperties>
</file>