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46E-87BD-4030-B324-58C967AD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D337-CCF1-4615-BFF4-C533BAED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8A8-D50B-4DBD-935C-2F60654C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023-F4FC-4A8C-9171-635529EE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00DA-6DCF-4E10-8E2A-38A56D1C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ADB7-7D30-4B17-8C1C-BF5F0425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4207-B78F-4BBA-96CF-4672203B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E37B-7B75-4CD2-92DE-216081F6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26A5-586C-4FB9-9F04-3B982715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267F-CAD1-4D77-AF9A-86570942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DDCB-72BB-41B4-BDC0-F5113824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9C78-ACE7-4490-ACBA-D81B6C37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6115-947C-425F-87EC-B5551B4D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4FD7-1C4D-4390-B7CF-784B959C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2FB6-E003-4434-8102-99166D2E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57A7-22D7-4159-87F5-FE624258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7AD2-39A3-46A2-BDDD-F729E43A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882B2-18A5-4C39-ADBF-37904086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3C3E-34D4-4F55-B4D1-FCBA8073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87EB9-8642-4646-A714-63BFFC20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9E836-CFE7-47EF-978F-099E6643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F7246-CEDB-4900-9B0B-8023DFEF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7A8-AEC2-49EC-812F-726EE9AD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0B7DB-49D6-4658-A89F-F2C8D6A3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B483-8297-4DE9-A346-54DA7743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AFEF3-E441-4150-BF07-99B23120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DBD6D-7C25-4865-9D59-2D0C54D4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0F994-50D2-4F3E-8915-6EEE5BC1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188AD-2A8A-47D0-8672-D10C2639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0E92-71BD-4FE0-AC43-F519313C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877-C414-4EC5-B215-18165C63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D9A-C5F2-489D-A6BB-78427D42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FF4-38C5-405D-A4BC-6743A52F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0DA-F6E4-45CC-84EE-BB54A827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B2E-7A13-41BA-BB2B-047B7BC4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9DC-924B-41FD-B39F-40393EAE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8C1A-D61C-495A-B5A4-018A2F46E31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F1AD-1BE6-4941-81A9-7191AEF55314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DAF9-9A30-49F9-9632-A3E44E24D8D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Inovace vybavení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"/>
          <p:cNvSpPr/>
          <p:nvPr/>
        </p:nvSpPr>
        <p:spPr>
          <a:xfrm>
            <a:off x="684360" y="54936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9"/>
          <p:cNvSpPr/>
          <p:nvPr/>
        </p:nvSpPr>
        <p:spPr>
          <a:xfrm>
            <a:off x="4859280" y="1908000"/>
            <a:ext cx="21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mediální vých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2"/>
          <p:cNvSpPr/>
          <p:nvPr/>
        </p:nvSpPr>
        <p:spPr>
          <a:xfrm>
            <a:off x="5003640" y="220500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véPole 17"/>
          <p:cNvSpPr/>
          <p:nvPr/>
        </p:nvSpPr>
        <p:spPr>
          <a:xfrm>
            <a:off x="2160720" y="903240"/>
            <a:ext cx="428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ociální sítě jako prostředek komunik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Mv_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6. 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9. 4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ub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ovéPole 5"/>
          <p:cNvSpPr/>
          <p:nvPr/>
        </p:nvSpPr>
        <p:spPr>
          <a:xfrm>
            <a:off x="611280" y="981000"/>
            <a:ext cx="74721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Pospíšil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ediální výchov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První vydání. Kralice na Hané: Computer Media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6633"/>
                </a:solidFill>
                <a:uFillTx/>
                <a:latin typeface="Garamond"/>
              </a:rPr>
              <a:t>SOCIÁLNÍ SÍTĚ jako prostředek komunikac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ociální síť (Social Networking) lze vymezit jako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společenský prostor na internet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jež umožňuje uživatelům založit si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vlastní profil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a jeho prostřednictvím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komunikovat s dalšími uživatel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ůžeme jej definovat jako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internetovou službu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která je určená lidem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sdílejícím svá data ve virtuálním světě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6633"/>
                </a:solidFill>
                <a:uFillTx/>
                <a:latin typeface="Garamond"/>
              </a:rPr>
              <a:t>Způsoby komunikace na sociálních sítíc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Jaké znáš způsoby, kterými lze komunikovat prostřednictvím sociálních sítí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cha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zprá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e-ma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diskusní skupiny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Historie sociálních sít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 u="sng">
                <a:solidFill>
                  <a:srgbClr val="000000"/>
                </a:solidFill>
                <a:uFillTx/>
                <a:latin typeface="Arial"/>
              </a:rPr>
              <a:t>Odhadni, jak je starý pojem sociální síť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-&gt; tento termín je z roku 1954 a označoval skupinu lidí, která využívala ke komunikaci běžné e-maily (poprvé ho použil J. A. Barn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-&gt; 1. vzkaz odeslaný na vzdálený PC byl odeslán roku 197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-&gt; 1. uživateli sociální sítě byli vojáci v síti Arpanet, následovalo objevení IRC (cha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-&gt; 1. sociální sítí (vybudovanou) byla CLASSMATES.COM (1995, Randy Conrad) a sloužila k hledání a udržování vztahů mezi spolužáky, studenty i jinými známý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Funkce sociálních sít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Pokus se pojmenovat funkce, které sociální sítě plní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komunikač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poznáv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emoč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sociální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Vlastnosti sociálních sít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možňují vytvářet vztahy mezi jednotlivými uživateli (přítel/ není příte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ungují na principu postupného odkrývání a rozšiřování sítě. Jako uživatel vidím své kontakty a kontakty kontaktů…a požádám své „přátele“ o zprostředkování kontaktů k jejich „přátelům“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munikace na sociálních sítích probíhá zejména výměnou textových zpráv doplněných o tzv. smajlíky (emotikon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Klasifikace sociálních sít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e obsahu, dle způsobu vzniku, dle způsobu propojení uživatelů, míry interaktivity, dle způsobu přístupu a dle použité technologie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Konkrétní sociální sítě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Jaké znáš sociální sítě?</a:t>
            </a: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Facebook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Hi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My Space,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ze starších: Libimseti.cz, Spoluzaci.cz,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Otázky na závěr</a:t>
            </a:r>
            <a:r>
              <a:rPr b="1" lang="cs-CZ" sz="4200" spc="-1" strike="noStrike" u="sng">
                <a:solidFill>
                  <a:srgbClr val="006633"/>
                </a:solidFill>
                <a:uFillTx/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užíváš sociální sítě? Pokud ano, jak čas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stavují sociální sítě nějaké nebezpečí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kterou sociální skupinu je zaměřený Facebook.co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4:54:21Z</dcterms:created>
  <dc:creator>TERKA</dc:creator>
  <dc:description/>
  <dc:language>en-US</dc:language>
  <cp:lastModifiedBy>doma</cp:lastModifiedBy>
  <dcterms:modified xsi:type="dcterms:W3CDTF">2014-05-05T22:46:40Z</dcterms:modified>
  <cp:revision>9</cp:revision>
  <dc:subject/>
  <dc:title>Snímek 1</dc:title>
</cp:coreProperties>
</file>