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AF4-5354-41B2-80D8-46509782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3BC-70FA-4CEE-A283-53858854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63F-99D5-49C1-8523-E8E768E4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574-F29D-49A0-A59F-3AC6286B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7B8B-56B9-4BD4-9797-C251E714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D9E7-56BD-47C6-A5E2-D90B2407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C885-3CEC-4ACA-BA9C-BC5F5BCE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184F-8CA6-4B25-A19A-DAB3DC91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5ED0-FDE1-4287-91FD-A60093EE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BD99-1473-4EC8-9F59-77D7087F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DAAA-83EF-4CEC-8F8C-FEF0994A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206-A1B0-4B25-8347-8E5B8ADE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04C9-AE08-4DBB-9AA3-45CD3B0F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337E-4098-48A1-8AAE-707EEB9C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C35D-E34F-4746-BBD9-CE91E980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A8F2-2D12-4FEB-8D58-9B72BB5F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A9B0-6487-4C69-BF98-CC251D7F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C1C2-8746-479A-8AF3-29F6AE74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667D9-ECEE-48BB-A211-180AB8EA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9C889-F6B3-428A-B50E-FD8309B2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7D8D-ED34-4CB3-84AE-8E855C92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7458C-679D-46ED-98B3-A4AF90D3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7EB-144A-4C9C-BD34-D9CB46E3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00FB1-16DB-4B58-A6AE-7EE5ABBA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6BA7C-F8D9-4D97-A344-1FA6F913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8C873-135D-4C87-BF17-E5541370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061B1-9328-46E6-9B6E-59E3F66C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789DB-C083-4209-AC26-99C3AE71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6CF82-C44A-4BB7-9185-4FBAB3C9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12397-CDE9-47CC-BC6A-AE9DD637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D05-A156-4C23-BFEA-4375D3DA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8F2-E7E6-4DBE-8BF4-68349233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0D9-47BA-4C78-99E5-81474E91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10B-F9E9-448D-8563-8347754F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A1F-F228-48AD-88F1-C5D57256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308-602A-4BD9-A24A-BDAB1EF2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EBA1-4A59-4E08-B48F-EE08A65B0A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8486-396C-4705-AD77-7FAD31AC59C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B7CE-73D0-4898-A57C-8247DFC771A1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ovéPole 1"/>
          <p:cNvSpPr/>
          <p:nvPr/>
        </p:nvSpPr>
        <p:spPr>
          <a:xfrm>
            <a:off x="1619280" y="26028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Inovace vybavení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ovéPole 2"/>
          <p:cNvSpPr/>
          <p:nvPr/>
        </p:nvSpPr>
        <p:spPr>
          <a:xfrm>
            <a:off x="684360" y="54936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143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ovéPole 9"/>
          <p:cNvSpPr/>
          <p:nvPr/>
        </p:nvSpPr>
        <p:spPr>
          <a:xfrm>
            <a:off x="4859280" y="1908000"/>
            <a:ext cx="21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mediální výchov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ovéPole 12"/>
          <p:cNvSpPr/>
          <p:nvPr/>
        </p:nvSpPr>
        <p:spPr>
          <a:xfrm>
            <a:off x="5003640" y="220500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1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ovéPole 17"/>
          <p:cNvSpPr/>
          <p:nvPr/>
        </p:nvSpPr>
        <p:spPr>
          <a:xfrm>
            <a:off x="2160720" y="903240"/>
            <a:ext cx="428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ternet jako prostředek komunikac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druhý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Mv_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6. 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ovéPole 25"/>
          <p:cNvSpPr/>
          <p:nvPr/>
        </p:nvSpPr>
        <p:spPr>
          <a:xfrm>
            <a:off x="2160720" y="2914560"/>
            <a:ext cx="1258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5. 4. 2013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333399"/>
                </a:solidFill>
                <a:latin typeface="Tahoma"/>
              </a:rPr>
              <a:t>Co je to internet?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 současné době se jedná o nejfrekventovanější elektronické médiu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čet uživatelů internetu roste každým dnem; téměř 50 % domácností v ČR vlastní připojení k interne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Lze ho definovat jako prostředek sloužící masové komunik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333399"/>
                </a:solidFill>
                <a:latin typeface="Tahoma"/>
              </a:rPr>
              <a:t>Princip interne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2421000"/>
            <a:ext cx="48956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rincip fungování internetu je založen na celosvětovém propojení počítačových sítí. Prostřednictvím těchto sítí mezi sebou uživatelé zařízení s připojením k internetu komunikují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Internet je založen na přenosu informací- dat z jednoho zařízení do druhého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5" descr="Soubor:Internet map 1024.jpg"/>
          <p:cNvPicPr/>
          <p:nvPr/>
        </p:nvPicPr>
        <p:blipFill>
          <a:blip r:embed="rId1"/>
          <a:stretch/>
        </p:blipFill>
        <p:spPr>
          <a:xfrm>
            <a:off x="5292720" y="2170080"/>
            <a:ext cx="3662280" cy="3662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5208120" y="5877000"/>
            <a:ext cx="365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Obr. 1 Grafické zobrazení jedné z částí internetu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333399"/>
                </a:solidFill>
                <a:latin typeface="Tahoma"/>
              </a:rPr>
              <a:t>WWW služb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www z angl.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Worl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Wide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Web-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jedná se o nejposkytovanější službu, kterou internet nabízí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e to služba, která je kombinací grafiky, textu a multimediálních obsahů, jež jsou propojené hypertextovými odkaz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v současné době se služba www stala symbolem internetu jako takovéh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>
                <a:solidFill>
                  <a:srgbClr val="333399"/>
                </a:solidFill>
                <a:latin typeface="Tahoma"/>
              </a:rPr>
              <a:t>Elektronická pošta (e-mail)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569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enoménem dnešního způsobu komunikace je tzv. e-mail (e= electronic + mail= pošt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E-mail slouží k rychlému odesílání, doručování a přijímání zpráv, jehož nositeli jsou elektronické komunikační systém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ajímavostí je, že elektronická pošta je mnohem starší než internet samotný. O vzniku tohoto způsobu komunikace se hovoří od roku 1965 (1. e-mail byl dle dostupných pramenů odeslaný na podzim v roce 1971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333399"/>
                </a:solidFill>
                <a:latin typeface="Tahoma"/>
              </a:rPr>
              <a:t>On-line komunikace (cha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kud hovoříme o chatu, máme na mysli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komunikaci dvou či více lidí, kteří spolu „mluví“ prostřednictví komunikační sítě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á se o komunikaci probíhající v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reálném čas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kdy se slova a věty zapisují do příslušných polí chatovacího softwaru či webové stránky, po odeslání se text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ihned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zobrazí druhému u účastníků komunikace.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n-line komunikace nemusí probíhat pouze psaným projevem. Existují i komunikační sítě, které umožňují on-line komunikaci prostřednictvím internetové telefonie či vid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333399"/>
                </a:solidFill>
                <a:latin typeface="Tahoma"/>
              </a:rPr>
              <a:t>Otázky na závěr </a:t>
            </a:r>
            <a:r>
              <a:rPr b="1" i="1" lang="cs-CZ" sz="44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íš, kdy byla zprovozněna 1. webová stránka, jejímž „stvořitelem“ byl Thimothy John Berners-Le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K čemu nejčastěji používáte interne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yjmenuj nejznámější poskytovatele e-mailových schráne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Které programy využíváš nejčastěji při on-line komunikaci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Odhadni, kolik se denně odešle ve světě zpráv pomocí e-mail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Tereza Ptáč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ptackova@gymta.cz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uben 2013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ovéPole 4"/>
          <p:cNvSpPr/>
          <p:nvPr/>
        </p:nvSpPr>
        <p:spPr>
          <a:xfrm>
            <a:off x="468360" y="404640"/>
            <a:ext cx="4433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ovéPole 5"/>
          <p:cNvSpPr/>
          <p:nvPr/>
        </p:nvSpPr>
        <p:spPr>
          <a:xfrm>
            <a:off x="611280" y="981000"/>
            <a:ext cx="7472160" cy="26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Pospíšil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ediální výchov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První vydání. Kralice na Hané: Computer Media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Zdroj obrázku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ttp://cs.wikipedia.org/wiki/Soubor:Internet_map_1024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7:48:28Z</dcterms:created>
  <dc:creator>TERKA</dc:creator>
  <dc:description/>
  <dc:language>en-US</dc:language>
  <cp:lastModifiedBy>doma</cp:lastModifiedBy>
  <dcterms:modified xsi:type="dcterms:W3CDTF">2014-05-05T22:46:06Z</dcterms:modified>
  <cp:revision>13</cp:revision>
  <dc:subject/>
  <dc:title>Snímek 1</dc:title>
</cp:coreProperties>
</file>