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3022-5E41-41F8-B771-A506AEDC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FB45-7C6E-4E9D-B5F0-3D8D2CF3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780-E4FE-4FFF-A2DC-52A11089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64E9-2927-42FA-863E-FADF88FF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C529-C2EE-45D5-87C8-2BC1452D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919C-0600-4B9E-ADE2-E95626B3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95A6-BB0E-4471-90A8-935062F8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5F5E-0CD1-437C-B6B3-9BE8B2F3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F297-C6AA-4ED7-B57B-3EA364EB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579E-B45B-41E1-9DBE-56581986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6361-F380-4C67-AB09-B2882A07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74D8-BC06-4999-8F01-C1E1C91A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FE87-EDE1-4BAF-B399-611AE3A5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34E0-27B6-499D-BE6B-B92FC4B3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163D-3C05-4641-8E6F-EA3F69AA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1435-EBCD-41A3-BCF2-F1C23F27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711E-8305-4B06-87E7-999C58B2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E1FCD-753D-4F01-B324-CE79C35F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FC512-63FF-485C-971C-A46DB93A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A3882-0B3D-4F0E-BBFE-19C2CFC4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58101-AEA5-4AB4-8150-7141F9B3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A3CD3-E779-4AE0-A16A-F7ED3712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6327-A109-4918-9528-A32B5C96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3F015-06BB-49E0-9AA3-AFD47C35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BA39E-801A-4333-A410-FE38CD77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509B9-8D4E-4622-9888-4860B666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4E838-D7E3-42D4-84DB-CF8BC8C7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70D3B-AA3C-4B8B-A483-2A1B8EBC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03D1F-0644-40E3-AB36-1EF44F9C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F12E5-1CE0-4444-A32A-236E9B87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FC4-6992-4FAB-8711-14541848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3E05-1497-40EC-BE5D-F78594F2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E207-55DE-450F-91B4-95B3B8C5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F20B-95F6-44B7-B1D9-0F7BD6CE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3F7D-EF3B-4138-BC5E-BE945A71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3738-BF68-425E-BF37-3DE1F525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3EB9-E1C8-4E2B-B090-4EADC57DE23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E3C1-1716-49F2-B2F7-91D215C9E20B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8449-8393-4B36-8F87-6127E11A8919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ovéPole 1"/>
          <p:cNvSpPr/>
          <p:nvPr/>
        </p:nvSpPr>
        <p:spPr>
          <a:xfrm>
            <a:off x="1619280" y="26028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  Inovace vybavení  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"/>
          <p:cNvSpPr/>
          <p:nvPr/>
        </p:nvSpPr>
        <p:spPr>
          <a:xfrm>
            <a:off x="684360" y="54936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130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ovéPole 9"/>
          <p:cNvSpPr/>
          <p:nvPr/>
        </p:nvSpPr>
        <p:spPr>
          <a:xfrm>
            <a:off x="4859280" y="1908000"/>
            <a:ext cx="21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mediální výcho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ovéPole 12"/>
          <p:cNvSpPr/>
          <p:nvPr/>
        </p:nvSpPr>
        <p:spPr>
          <a:xfrm>
            <a:off x="5003640" y="220500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ovéPole 17"/>
          <p:cNvSpPr/>
          <p:nvPr/>
        </p:nvSpPr>
        <p:spPr>
          <a:xfrm>
            <a:off x="2160720" y="903240"/>
            <a:ext cx="428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pravodajské zdroje masové komunik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druh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Mv_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ovéPole 23"/>
          <p:cNvSpPr/>
          <p:nvPr/>
        </p:nvSpPr>
        <p:spPr>
          <a:xfrm>
            <a:off x="2160720" y="316548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V6. 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ovéPole 25"/>
          <p:cNvSpPr/>
          <p:nvPr/>
        </p:nvSpPr>
        <p:spPr>
          <a:xfrm>
            <a:off x="2160720" y="2914560"/>
            <a:ext cx="1258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8. 4.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6633"/>
                </a:solidFill>
                <a:uFillTx/>
                <a:latin typeface="Garamond"/>
              </a:rPr>
              <a:t>Zpravodajské zdroje masové komunikac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m (=komunikátorem, odesílatelem) masové komunikace (např. zpravodajského sdělení) jsou tzv.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MEDIÁLNÍ INSTITU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vým specifickým postavením na trhu vytvářejí odvětví, kterému říkáme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MEDIÁLNÍ PRŮMYS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Charakteristika mediální institu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jedná se o </a:t>
            </a:r>
            <a:r>
              <a:rPr b="1" i="1" lang="cs-CZ" sz="2600" spc="-1" strike="noStrike">
                <a:solidFill>
                  <a:srgbClr val="000000"/>
                </a:solidFill>
                <a:latin typeface="Arial"/>
              </a:rPr>
              <a:t>společenskou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(plní svou funkci pro obecné blaho společnosti), ale především o </a:t>
            </a:r>
            <a:r>
              <a:rPr b="1" i="1" lang="cs-CZ" sz="2600" spc="-1" strike="noStrike">
                <a:solidFill>
                  <a:srgbClr val="000000"/>
                </a:solidFill>
                <a:latin typeface="Arial"/>
              </a:rPr>
              <a:t>výrobní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instituci, která se účastní svou činností hospodářského procesu dané zem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becně lze říci, že mediálními institucemi jsou  firmy, které poskytují služby (terciální ekonomický sekto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charakteristickým rysem jejich vzniku a chodu je orientovanost na úspěch, což v mediálním průmyslu znamená orientaci na z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Činnost mediálních instituc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hlavní činností mediálních institucí je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reagovat na řadu událostí a názorů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, které se vyskytují ve společn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ediální instituce mohou svou činností komunikaci ve společnosti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omezovat a mírnit či podněcovat k tvorbě nových té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Mediální instituce a společnos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ediální instituce (zdroje masové komunikace) jsou významnou měrou ovlivněna </a:t>
            </a:r>
            <a:r>
              <a:rPr b="1" i="1" lang="cs-CZ" sz="2600" spc="-1" strike="noStrike">
                <a:solidFill>
                  <a:srgbClr val="000000"/>
                </a:solidFill>
                <a:latin typeface="Arial"/>
              </a:rPr>
              <a:t>kulturním kontexte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ve kterém se pohybuj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innost mediálních institucí ovlivňuje také </a:t>
            </a:r>
            <a:r>
              <a:rPr b="1" i="1" lang="cs-CZ" sz="2600" spc="-1" strike="noStrike">
                <a:solidFill>
                  <a:srgbClr val="000000"/>
                </a:solidFill>
                <a:latin typeface="Arial"/>
              </a:rPr>
              <a:t>ekonomické a politické zázemí země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které má velký podíl na tom, jaká bude forma a obsah sdělení předávaného společnos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ůležitý vliv na činnost mediálních institucí má také </a:t>
            </a:r>
            <a:r>
              <a:rPr b="1" i="1" lang="cs-CZ" sz="2600" spc="-1" strike="noStrike">
                <a:solidFill>
                  <a:srgbClr val="000000"/>
                </a:solidFill>
                <a:latin typeface="Arial"/>
              </a:rPr>
              <a:t>očekávání publi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800" spc="-1" strike="noStrike" u="sng">
                <a:solidFill>
                  <a:srgbClr val="006633"/>
                </a:solidFill>
                <a:uFillTx/>
                <a:latin typeface="Garamond"/>
              </a:rPr>
              <a:t>Typy mediálních institucí, tj. zdrojů masové komunikac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vykle rozlišujeme mediální instituce na základě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echnolog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kterou při masové komunikaci využívají-&gt;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jsou ji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zh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ternet, a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kro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ě jiného rozlišujeme mediální instituce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elostát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ok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Úkoly na závěr </a:t>
            </a:r>
            <a:r>
              <a:rPr b="1" lang="cs-CZ" sz="4200" spc="-1" strike="noStrike" u="sng">
                <a:solidFill>
                  <a:srgbClr val="006633"/>
                </a:solidFill>
                <a:uFillTx/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náš nějaké mediální instituce, které působí na území Č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íš, které globální mediální instituce je považována za nejprestižnější zdroj informací?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Nápověda: V listopadu 2011 uběhlo 75 let od zahájení její činnost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ptac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ub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3"/>
          <p:cNvSpPr/>
          <p:nvPr/>
        </p:nvSpPr>
        <p:spPr>
          <a:xfrm>
            <a:off x="2217600" y="2514600"/>
            <a:ext cx="47088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4"/>
          <p:cNvSpPr/>
          <p:nvPr/>
        </p:nvSpPr>
        <p:spPr>
          <a:xfrm>
            <a:off x="468360" y="404640"/>
            <a:ext cx="44337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5"/>
          <p:cNvSpPr/>
          <p:nvPr/>
        </p:nvSpPr>
        <p:spPr>
          <a:xfrm>
            <a:off x="611280" y="981000"/>
            <a:ext cx="74721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Pospíšil,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Mediální výchov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. První vydání. Kralice na Hané : Computer Media,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3:55:48Z</dcterms:created>
  <dc:creator>TERKA</dc:creator>
  <dc:description/>
  <dc:language>en-US</dc:language>
  <cp:lastModifiedBy>doma</cp:lastModifiedBy>
  <dcterms:modified xsi:type="dcterms:W3CDTF">2014-05-05T22:45:31Z</dcterms:modified>
  <cp:revision>12</cp:revision>
  <dc:subject/>
  <dc:title>Snímek 1</dc:title>
</cp:coreProperties>
</file>