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A531-CE02-443F-9C0F-429BC5B9A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DA90-A175-416F-8F43-202BA39EF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0D04-2089-46EB-B53B-0E60EF5E3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3FA1-5CC5-419B-A4EE-B68B24D6A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1AE2F-514F-40CE-884C-1511D1047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FEA56-8DE0-4E75-BB22-9948F104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0416A-F003-4C2C-8A92-75615D9B1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27C32-F492-4314-A4A9-E76FB2E06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0F720-073E-4FF6-AC10-B33C46B59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B7830-FD7F-4EC5-9399-47F00056A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21E0B-AD57-440E-89D3-0A2FF1B9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A547-A24F-4986-83B2-E71321339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F0961-D5B1-4438-951F-EA4B5CE7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1C5EA-2283-46A6-9CE5-0D19A73A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6FB0C-9092-4CF5-891D-EB7D0FBBF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0FD9A-B3CE-475F-BDE9-691427E8F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2A68D-0DBD-4703-A2DC-959A58F18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75A16-75B5-41F4-9302-7A60D0DBF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F47BA-AC57-4868-B08F-B68FB2B2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029CC-5CE0-4037-8BD9-5A7975D80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B9275-3189-463D-9776-E16E4838F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7D6C6-3BD6-469E-B892-20888B4B9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AA70-8408-4FF4-8E8D-0282DA365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48EB1-1A41-49E3-BF70-37264DECD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C59E8-6A4D-4B3F-B42C-6F617532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545B5-419D-4D3F-B8B8-897CD945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7687A-F2B8-49BE-9716-0BEAFFC1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01821-A6DC-471E-8977-C3D2FE012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E3BA1-151A-4671-B47A-934C2C3FF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3943F-051A-454E-8ACA-B03FEFA58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32C0-1C99-493A-9EC5-97A4DA85A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A1EE-8CED-40A0-88E6-E7BC16173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DA44-BF87-42CD-A2EC-1100B1A75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06EE-F86C-4243-87B7-7E91545C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D934-590A-4008-98A2-25882B5A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1AC1-5942-42F5-9144-898669FE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CAECD-7D57-4CE3-B257-9EF13E6E0C8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2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3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6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81B11-7A27-4F7F-9A0E-558C5295AF6C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0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3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7D7B0-513F-43D9-925C-9EAAF608A9C1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ovéPole 1"/>
          <p:cNvSpPr/>
          <p:nvPr/>
        </p:nvSpPr>
        <p:spPr>
          <a:xfrm>
            <a:off x="1619280" y="260280"/>
            <a:ext cx="5851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                </a:t>
            </a: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Projekt: Inovace vybavení    Registrační číslo projektu CZ.1.07/1.5.00/34.03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ovéPole 2"/>
          <p:cNvSpPr/>
          <p:nvPr/>
        </p:nvSpPr>
        <p:spPr>
          <a:xfrm>
            <a:off x="684360" y="549360"/>
            <a:ext cx="77277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Příjemce: Gymnázium Pierra de Coubertina, Tábor, Náměstí Františka Křižíka 860, 390 01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Obrázek 3" descr="Logolink OPVK - oříznutý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436760" y="5292720"/>
            <a:ext cx="6272280" cy="1208160"/>
          </a:xfrm>
          <a:prstGeom prst="rect">
            <a:avLst/>
          </a:prstGeom>
          <a:ln w="0">
            <a:noFill/>
          </a:ln>
        </p:spPr>
      </p:pic>
      <p:sp>
        <p:nvSpPr>
          <p:cNvPr id="139" name="TextovéPole 4"/>
          <p:cNvSpPr/>
          <p:nvPr/>
        </p:nvSpPr>
        <p:spPr>
          <a:xfrm>
            <a:off x="789120" y="4869000"/>
            <a:ext cx="75657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Tento výukový materiál vznikl v rámci Operačního programu Vzdělání pro konkurenceschopnos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ovéPole 5"/>
          <p:cNvSpPr/>
          <p:nvPr/>
        </p:nvSpPr>
        <p:spPr>
          <a:xfrm>
            <a:off x="0" y="4354560"/>
            <a:ext cx="930420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Materiál je určen k bezplatnému používání pro potřeby výuky a vzdělávání na všech typech škol a školských zařízení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Jakékoliv další používání podléhá autorskému zákonu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ovéPole 6"/>
          <p:cNvSpPr/>
          <p:nvPr/>
        </p:nvSpPr>
        <p:spPr>
          <a:xfrm>
            <a:off x="320760" y="1165320"/>
            <a:ext cx="17143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ovéPole 7"/>
          <p:cNvSpPr/>
          <p:nvPr/>
        </p:nvSpPr>
        <p:spPr>
          <a:xfrm>
            <a:off x="331920" y="903240"/>
            <a:ext cx="1942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Název materiálu:</a:t>
            </a: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ovéPole 8"/>
          <p:cNvSpPr/>
          <p:nvPr/>
        </p:nvSpPr>
        <p:spPr>
          <a:xfrm>
            <a:off x="320760" y="217188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Sa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ovéPole 9"/>
          <p:cNvSpPr/>
          <p:nvPr/>
        </p:nvSpPr>
        <p:spPr>
          <a:xfrm>
            <a:off x="4859280" y="1908000"/>
            <a:ext cx="2135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ředmět: mediální výchov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ovéPole 10"/>
          <p:cNvSpPr/>
          <p:nvPr/>
        </p:nvSpPr>
        <p:spPr>
          <a:xfrm>
            <a:off x="320760" y="1646280"/>
            <a:ext cx="19875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Zařazení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ovéPole 11"/>
          <p:cNvSpPr/>
          <p:nvPr/>
        </p:nvSpPr>
        <p:spPr>
          <a:xfrm>
            <a:off x="320760" y="1908000"/>
            <a:ext cx="1028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Šablon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ovéPole 12"/>
          <p:cNvSpPr/>
          <p:nvPr/>
        </p:nvSpPr>
        <p:spPr>
          <a:xfrm>
            <a:off x="5003640" y="2205000"/>
            <a:ext cx="1235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Číslo DUM: 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ovéPole 13"/>
          <p:cNvSpPr/>
          <p:nvPr/>
        </p:nvSpPr>
        <p:spPr>
          <a:xfrm>
            <a:off x="320760" y="2651040"/>
            <a:ext cx="2765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ení materiálu ve výuc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ovéPole 14"/>
          <p:cNvSpPr/>
          <p:nvPr/>
        </p:nvSpPr>
        <p:spPr>
          <a:xfrm>
            <a:off x="320760" y="2914560"/>
            <a:ext cx="15541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Datum ověření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ovéPole 15"/>
          <p:cNvSpPr/>
          <p:nvPr/>
        </p:nvSpPr>
        <p:spPr>
          <a:xfrm>
            <a:off x="320760" y="342900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Tří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ovéPole 16"/>
          <p:cNvSpPr/>
          <p:nvPr/>
        </p:nvSpPr>
        <p:spPr>
          <a:xfrm>
            <a:off x="320760" y="3178080"/>
            <a:ext cx="1576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ující učitel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ovéPole 17"/>
          <p:cNvSpPr/>
          <p:nvPr/>
        </p:nvSpPr>
        <p:spPr>
          <a:xfrm>
            <a:off x="2160720" y="903240"/>
            <a:ext cx="4282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Typy zpravodajství - součást masové komunik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ovéPole 18"/>
          <p:cNvSpPr/>
          <p:nvPr/>
        </p:nvSpPr>
        <p:spPr>
          <a:xfrm>
            <a:off x="2160720" y="1165320"/>
            <a:ext cx="16002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Tereza Ptáč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ovéPole 19"/>
          <p:cNvSpPr/>
          <p:nvPr/>
        </p:nvSpPr>
        <p:spPr>
          <a:xfrm>
            <a:off x="1120680" y="1908000"/>
            <a:ext cx="46627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Inovace a zkvalitnění výuky prostřednictvím ICT (III/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ovéPole 20"/>
          <p:cNvSpPr/>
          <p:nvPr/>
        </p:nvSpPr>
        <p:spPr>
          <a:xfrm>
            <a:off x="7246800" y="1908000"/>
            <a:ext cx="1622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ročník: druh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ovéPole 21"/>
          <p:cNvSpPr/>
          <p:nvPr/>
        </p:nvSpPr>
        <p:spPr>
          <a:xfrm>
            <a:off x="1120680" y="2171880"/>
            <a:ext cx="2414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32_Mv_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ovéPole 22"/>
          <p:cNvSpPr/>
          <p:nvPr/>
        </p:nvSpPr>
        <p:spPr>
          <a:xfrm>
            <a:off x="7246800" y="2149560"/>
            <a:ext cx="1189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ovéPole 23"/>
          <p:cNvSpPr/>
          <p:nvPr/>
        </p:nvSpPr>
        <p:spPr>
          <a:xfrm>
            <a:off x="2160720" y="3165480"/>
            <a:ext cx="16002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Tereza Ptáč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ovéPole 24"/>
          <p:cNvSpPr/>
          <p:nvPr/>
        </p:nvSpPr>
        <p:spPr>
          <a:xfrm>
            <a:off x="2160720" y="3429000"/>
            <a:ext cx="6616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V6. 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ovéPole 25"/>
          <p:cNvSpPr/>
          <p:nvPr/>
        </p:nvSpPr>
        <p:spPr>
          <a:xfrm>
            <a:off x="2160720" y="2914560"/>
            <a:ext cx="1258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25. 3. 20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006666"/>
                </a:solidFill>
                <a:uFillTx/>
                <a:latin typeface="Arial"/>
              </a:rPr>
              <a:t>Typy zpravodajství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126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Rozlišujeme </a:t>
            </a:r>
            <a:r>
              <a:rPr b="1" i="1" lang="cs-CZ" sz="2400" spc="-1" strike="noStrike">
                <a:solidFill>
                  <a:srgbClr val="003366"/>
                </a:solidFill>
                <a:latin typeface="Arial"/>
              </a:rPr>
              <a:t>3 základní typy zpravodajství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 (zpráv), a to dle toho, jakým způsobem zpravodajství podává „publiku“ informaci či o jaký druh informací se jedná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1. zpravodajství seriózní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2. zpravodajství bulvární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3. zpravodajství fíčrové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 u="sng">
                <a:solidFill>
                  <a:srgbClr val="006666"/>
                </a:solidFill>
                <a:uFillTx/>
                <a:latin typeface="Arial"/>
              </a:rPr>
              <a:t>Seriózní zpravodajství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126640" cy="43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jedná se o </a:t>
            </a:r>
            <a:r>
              <a:rPr b="0" i="1" lang="cs-CZ" sz="1800" spc="-1" strike="noStrike">
                <a:solidFill>
                  <a:srgbClr val="003366"/>
                </a:solidFill>
                <a:latin typeface="Arial"/>
              </a:rPr>
              <a:t>ZÁKLAD</a:t>
            </a: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 zpravodajství jako takového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mluvíme o tzv. ryzím informování o aktuálních událostec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3366"/>
                </a:solidFill>
                <a:uFillTx/>
                <a:latin typeface="Arial"/>
              </a:rPr>
              <a:t>Charakteristickými rysy seriózního zpravodajství je</a:t>
            </a: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věcno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přesno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úplno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spolehlivo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včasno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citová nezabarveno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*</a:t>
            </a: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je nezbytné zmínit </a:t>
            </a:r>
            <a:r>
              <a:rPr b="0" i="1" lang="cs-CZ" sz="1800" spc="-1" strike="noStrike">
                <a:solidFill>
                  <a:srgbClr val="003366"/>
                </a:solidFill>
                <a:latin typeface="Arial"/>
              </a:rPr>
              <a:t>PROMĚNLIVOST</a:t>
            </a: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 zpravodajských postupů-&gt; některé nové přístupy a metody mohou vést k tomu, že se seriózní zpravodajství přibližuje bulváru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 u="sng">
                <a:solidFill>
                  <a:srgbClr val="006666"/>
                </a:solidFill>
                <a:uFillTx/>
                <a:latin typeface="Arial"/>
              </a:rPr>
              <a:t>Bulvární zpravodajství I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003366"/>
                </a:solidFill>
                <a:uFillTx/>
                <a:latin typeface="Arial"/>
              </a:rPr>
              <a:t>Odhadnete, kdy vzniklo bulvární zpravodajství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Vznik „bulváru“ se datuje na začátek 20. století (původně se jednalo o tisk, který se prodával na bulvárech- ulicích v Anglii-&gt; odtud název „bulvár“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Tvůrci bulvárního zpravodajství zohledňují lidskou psychiku (zejména pudy)-&gt; odtud pramení i výběr té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i="1" lang="cs-CZ" sz="2000" spc="-1" strike="noStrike" u="sng">
                <a:solidFill>
                  <a:srgbClr val="003366"/>
                </a:solidFill>
                <a:uFillTx/>
                <a:latin typeface="Arial"/>
              </a:rPr>
              <a:t>Jaká jsou nejčastější bulvární témata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smrt, strach, neštěstí, erotika, násilí, sex, loupeže, atd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003366"/>
                </a:solidFill>
                <a:uFillTx/>
                <a:latin typeface="Arial"/>
              </a:rPr>
              <a:t>Kde získává bulvární zpravodajství informace pro své zprávy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3366"/>
                </a:solidFill>
                <a:latin typeface="Arial"/>
              </a:rPr>
              <a:t>pochybné, těžko ověřitelné zdroj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 u="sng">
                <a:solidFill>
                  <a:srgbClr val="006666"/>
                </a:solidFill>
                <a:uFillTx/>
                <a:latin typeface="Arial"/>
              </a:rPr>
              <a:t>Bulvární zpravodajství II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3366"/>
                </a:solidFill>
                <a:uFillTx/>
                <a:latin typeface="Arial"/>
              </a:rPr>
              <a:t>Charakteristika bulváru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- není věcný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- píše o nesmyslech či nedůležitých věcec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- nepřesnost (pracuje s domněnkami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- neúplnost (téma soustředěno jedním směrem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- bez citové neutrálnost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- snaha o co nejrychlejší informace-&gt; předjímání událostí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Typické rysy-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velké titulky, krátké texty a barevné fotografi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Druhy bulváru-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měkký (neškodný) X tvrdý (škodí, vymýšlí si, atd.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 u="sng">
                <a:solidFill>
                  <a:srgbClr val="006666"/>
                </a:solidFill>
                <a:uFillTx/>
                <a:latin typeface="Arial"/>
              </a:rPr>
              <a:t>Fíčrové zpravodajství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971280" y="256500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nachází se na pomezí seriózní a „měkce“ bulvární zpráv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vycházíme z angl. Spojení </a:t>
            </a:r>
            <a:r>
              <a:rPr b="0" i="1" lang="cs-CZ" sz="2000" spc="-1" strike="noStrike">
                <a:solidFill>
                  <a:srgbClr val="003366"/>
                </a:solidFill>
                <a:latin typeface="Arial"/>
              </a:rPr>
              <a:t>FEATURE NEWS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(„lidová, zábavní zpráva“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jedná se o taková mediální sdělení, která nejsou až tak důležitá (pro svou věcnost), ale uveřejňují se zejména z důvodu vtipnosti, zajímavosti a zábavnost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od bulváru se odlišuje tím, že toto zpravodajství není primitivní, drsné ani odpudivé (neodporuje slušnému vychování či dobrému vkusu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006666"/>
                </a:solidFill>
                <a:uFillTx/>
                <a:latin typeface="Arial"/>
              </a:rPr>
              <a:t>Úkoly na závěr </a:t>
            </a:r>
            <a:r>
              <a:rPr b="1" lang="cs-CZ" sz="3600" spc="-1" strike="noStrike" u="sng">
                <a:solidFill>
                  <a:srgbClr val="006666"/>
                </a:solidFill>
                <a:uFillTx/>
                <a:latin typeface="Wingdings"/>
                <a:ea typeface="Wingdings"/>
              </a:rPr>
              <a:t>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Která média můžeme považovat za nositele seriózní komunikac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Znáte nějaký televizní pořad (vysílaný v ČR), který bychom mohli označit za bulvární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Uveď příklad fíčrového zpravodajství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Volný tvar 1"/>
          <p:cNvSpPr/>
          <p:nvPr/>
        </p:nvSpPr>
        <p:spPr>
          <a:xfrm>
            <a:off x="2617920" y="3576600"/>
            <a:ext cx="3908160" cy="1405080"/>
          </a:xfrm>
          <a:custGeom>
            <a:avLst/>
            <a:gdLst>
              <a:gd name="textAreaLeft" fmla="*/ 0 w 3908160"/>
              <a:gd name="textAreaRight" fmla="*/ 3908520 w 3908160"/>
              <a:gd name="textAreaTop" fmla="*/ 0 h 1405080"/>
              <a:gd name="textAreaBottom" fmla="*/ 1405440 h 1405080"/>
            </a:gdLst>
            <a:ahLst/>
            <a:rect l="textAreaLeft" t="textAreaTop" r="textAreaRight" b="textAreaBottom"/>
            <a:pathLst>
              <a:path w="4342131" h="1562101">
                <a:moveTo>
                  <a:pt x="0" y="1562100"/>
                </a:moveTo>
                <a:lnTo>
                  <a:pt x="0" y="0"/>
                </a:lnTo>
                <a:lnTo>
                  <a:pt x="4342130" y="0"/>
                </a:lnTo>
                <a:lnTo>
                  <a:pt x="4342130" y="1562100"/>
                </a:lnTo>
                <a:lnTo>
                  <a:pt x="0" y="15621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ovéPole 2"/>
          <p:cNvSpPr/>
          <p:nvPr/>
        </p:nvSpPr>
        <p:spPr>
          <a:xfrm>
            <a:off x="2811600" y="3714840"/>
            <a:ext cx="35668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Tereza Ptáč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Gymnázium Pierra de Coubertina,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tptackova@gymta.c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březen 20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ovéPole 4"/>
          <p:cNvSpPr/>
          <p:nvPr/>
        </p:nvSpPr>
        <p:spPr>
          <a:xfrm>
            <a:off x="468360" y="404640"/>
            <a:ext cx="443376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 - 20"/>
                <a:ea typeface="Arial"/>
              </a:rPr>
              <a:t>Seznam použité literatury a pramenů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ovéPole 5"/>
          <p:cNvSpPr/>
          <p:nvPr/>
        </p:nvSpPr>
        <p:spPr>
          <a:xfrm>
            <a:off x="611280" y="981000"/>
            <a:ext cx="747216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Pospíšil, J.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Mediální výchova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. První vydání. Kralice na Hané: Computer Media, 200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4T19:09:06Z</dcterms:created>
  <dc:creator>TERKA</dc:creator>
  <dc:description/>
  <dc:language>en-US</dc:language>
  <cp:lastModifiedBy>doma</cp:lastModifiedBy>
  <dcterms:modified xsi:type="dcterms:W3CDTF">2014-05-05T22:44:54Z</dcterms:modified>
  <cp:revision>13</cp:revision>
  <dc:subject/>
  <dc:title>Snímek 1</dc:title>
</cp:coreProperties>
</file>