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CF8F-7264-4E32-8C20-688EA2DDC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D25A-A008-434B-A804-BD5175FC1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7C57-662A-4855-BE05-F7DB32C1C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5C01-85E6-4C3C-88BC-DDC8619A3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F5528-695D-494C-91DB-AB88C7E2B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26FA7-C8C9-4024-ADB6-1A55A64EE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8F108-D4D8-4A06-BF34-FF2A86A91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1699D-CA7E-4150-BCD7-3A08BEF9B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2DAC6-E104-4F4D-BC11-A20550D2E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73542-A34D-4538-8B3E-7A7498DA5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45F49-EA28-432F-A1E1-49934392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82E6-67A4-4EEA-AEB3-4C833508F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A0AE0-B3C3-4621-A008-0E6EBB7E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EE27E-36B1-4773-858B-73DC8AFA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6D563-C4A8-48A0-A992-1E14464AB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54719-CA97-4252-B83C-998804C5F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4A8D2-64D8-4603-A5AF-C8A6D39AC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540FC-77EE-45A7-B7CD-F2543B64E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16D99-EC6D-404F-A5DC-0D1A76C8E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49753-B1B4-4D9C-8ABA-60D892CA5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FB81E-81DA-49F1-998A-42AFD8657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A5056-FFFA-4588-8B86-02A57F461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562C-CDCE-4044-85FA-C0A9F1663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22854-2E90-42A7-B90D-11B1BA1C9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34D7B-7FD6-448F-B4FE-841FA206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F7143-127B-4E46-9FE3-9AFA4262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996E5-370C-477A-9C62-78457088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61D5A-EE2B-4B3A-9840-05ADAEA0C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A6071-9C07-4ED6-81EE-652630081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FF4EE-4FC9-4FFB-B940-E59DD7B0F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FE62-04FB-473D-B84D-7BF4CCE22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2F51-EF8F-4B4D-B173-0FAE182CE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258C-7E3E-4D77-86FD-EEFBD53D3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652E-8010-4636-A153-69A1C38B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34E3-1D20-49D3-9640-82A50C7D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AA49-02BD-46A6-BB33-81C2A97D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B2438-9832-49A4-A5A2-CC1B8E46523F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707C3-E91F-43BB-97D5-0EE1DFFF01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564B0-F41E-439B-A60C-B0F21CEDF128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ovéPole 1"/>
          <p:cNvSpPr/>
          <p:nvPr/>
        </p:nvSpPr>
        <p:spPr>
          <a:xfrm>
            <a:off x="1619280" y="260280"/>
            <a:ext cx="5851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               </a:t>
            </a: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Projekt: Inovace vybavení     Registrační číslo projektu CZ.1.07/1.5.00/03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"/>
          <p:cNvSpPr/>
          <p:nvPr/>
        </p:nvSpPr>
        <p:spPr>
          <a:xfrm>
            <a:off x="684360" y="549360"/>
            <a:ext cx="77277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Příjemce: Gymnázium Pierra de Coubertina, Tábor, Náměstí Františka Křižíka 860, 390 01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Obrázek 3" descr="Logolink OPVK - oříznutý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436760" y="5292720"/>
            <a:ext cx="6272280" cy="1208160"/>
          </a:xfrm>
          <a:prstGeom prst="rect">
            <a:avLst/>
          </a:prstGeom>
          <a:ln w="0">
            <a:noFill/>
          </a:ln>
        </p:spPr>
      </p:pic>
      <p:sp>
        <p:nvSpPr>
          <p:cNvPr id="130" name="TextovéPole 4"/>
          <p:cNvSpPr/>
          <p:nvPr/>
        </p:nvSpPr>
        <p:spPr>
          <a:xfrm>
            <a:off x="789120" y="4869000"/>
            <a:ext cx="75657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Tento výukový materiál vznikl v rámci Operačního programu Vzdělání pro konkurenceschopnos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5"/>
          <p:cNvSpPr/>
          <p:nvPr/>
        </p:nvSpPr>
        <p:spPr>
          <a:xfrm>
            <a:off x="0" y="4354560"/>
            <a:ext cx="930420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Materiál je určen k bezplatnému používání pro potřeby výuky a vzdělávání na všech typech škol a školských zařízení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Jakékoliv další používání podléhá autorskému zákonu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6"/>
          <p:cNvSpPr/>
          <p:nvPr/>
        </p:nvSpPr>
        <p:spPr>
          <a:xfrm>
            <a:off x="320760" y="1165320"/>
            <a:ext cx="17143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7"/>
          <p:cNvSpPr/>
          <p:nvPr/>
        </p:nvSpPr>
        <p:spPr>
          <a:xfrm>
            <a:off x="331920" y="903240"/>
            <a:ext cx="1942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Název materiálu:</a:t>
            </a: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ovéPole 8"/>
          <p:cNvSpPr/>
          <p:nvPr/>
        </p:nvSpPr>
        <p:spPr>
          <a:xfrm>
            <a:off x="320760" y="217188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Sa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ovéPole 9"/>
          <p:cNvSpPr/>
          <p:nvPr/>
        </p:nvSpPr>
        <p:spPr>
          <a:xfrm>
            <a:off x="4859280" y="1908000"/>
            <a:ext cx="2135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ředmět: mediální výchov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ovéPole 10"/>
          <p:cNvSpPr/>
          <p:nvPr/>
        </p:nvSpPr>
        <p:spPr>
          <a:xfrm>
            <a:off x="320760" y="1646280"/>
            <a:ext cx="19875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Zařazení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ovéPole 11"/>
          <p:cNvSpPr/>
          <p:nvPr/>
        </p:nvSpPr>
        <p:spPr>
          <a:xfrm>
            <a:off x="320760" y="1908000"/>
            <a:ext cx="1028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Šablon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ovéPole 12"/>
          <p:cNvSpPr/>
          <p:nvPr/>
        </p:nvSpPr>
        <p:spPr>
          <a:xfrm>
            <a:off x="5003640" y="2205000"/>
            <a:ext cx="1235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Číslo DUM: 0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ovéPole 13"/>
          <p:cNvSpPr/>
          <p:nvPr/>
        </p:nvSpPr>
        <p:spPr>
          <a:xfrm>
            <a:off x="320760" y="2651040"/>
            <a:ext cx="2765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ení materiálu ve výuc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ovéPole 14"/>
          <p:cNvSpPr/>
          <p:nvPr/>
        </p:nvSpPr>
        <p:spPr>
          <a:xfrm>
            <a:off x="320760" y="2914560"/>
            <a:ext cx="15541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Datum ověření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ovéPole 15"/>
          <p:cNvSpPr/>
          <p:nvPr/>
        </p:nvSpPr>
        <p:spPr>
          <a:xfrm>
            <a:off x="320760" y="342900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Tří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ovéPole 16"/>
          <p:cNvSpPr/>
          <p:nvPr/>
        </p:nvSpPr>
        <p:spPr>
          <a:xfrm>
            <a:off x="320760" y="3178080"/>
            <a:ext cx="1576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ující učitel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ovéPole 17"/>
          <p:cNvSpPr/>
          <p:nvPr/>
        </p:nvSpPr>
        <p:spPr>
          <a:xfrm>
            <a:off x="2160720" y="903240"/>
            <a:ext cx="4282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Televizní pravodajství jako součást masové komunik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ovéPole 18"/>
          <p:cNvSpPr/>
          <p:nvPr/>
        </p:nvSpPr>
        <p:spPr>
          <a:xfrm>
            <a:off x="2160720" y="1165320"/>
            <a:ext cx="16002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Tereza Ptáč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ovéPole 19"/>
          <p:cNvSpPr/>
          <p:nvPr/>
        </p:nvSpPr>
        <p:spPr>
          <a:xfrm>
            <a:off x="1120680" y="1908000"/>
            <a:ext cx="46627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Inovace a zkvalitnění výuky prostřednictvím ICT (III/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ovéPole 20"/>
          <p:cNvSpPr/>
          <p:nvPr/>
        </p:nvSpPr>
        <p:spPr>
          <a:xfrm>
            <a:off x="7246800" y="1908000"/>
            <a:ext cx="1622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ročník: druh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ovéPole 21"/>
          <p:cNvSpPr/>
          <p:nvPr/>
        </p:nvSpPr>
        <p:spPr>
          <a:xfrm>
            <a:off x="1120680" y="2171880"/>
            <a:ext cx="2414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32_Mv_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ovéPole 22"/>
          <p:cNvSpPr/>
          <p:nvPr/>
        </p:nvSpPr>
        <p:spPr>
          <a:xfrm>
            <a:off x="7246800" y="2149560"/>
            <a:ext cx="1189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ovéPole 23"/>
          <p:cNvSpPr/>
          <p:nvPr/>
        </p:nvSpPr>
        <p:spPr>
          <a:xfrm>
            <a:off x="2160720" y="3165480"/>
            <a:ext cx="16002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Tereza Ptáč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ovéPole 24"/>
          <p:cNvSpPr/>
          <p:nvPr/>
        </p:nvSpPr>
        <p:spPr>
          <a:xfrm>
            <a:off x="2160720" y="3429000"/>
            <a:ext cx="6616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V6. 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ovéPole 25"/>
          <p:cNvSpPr/>
          <p:nvPr/>
        </p:nvSpPr>
        <p:spPr>
          <a:xfrm>
            <a:off x="2160720" y="2914560"/>
            <a:ext cx="1258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18. 3. 20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333360"/>
            <a:ext cx="893916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6633"/>
                </a:solidFill>
                <a:uFillTx/>
                <a:latin typeface="Garamond"/>
              </a:rPr>
              <a:t>Televizní zpravodajství jako součást masové komunikace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</a:rPr>
              <a:t>Pozorně zhlédni/poslechni následující ukázky a pokus se charakterizovat stěžejní rysy zpravodajství (popř. odlišnosti mezi jednotlivými ukázkami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</a:rPr>
              <a:t>Komerční TV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</a:rPr>
              <a:t>http://doma.nova.cz/multimedia/poledni-televizni-noviny-8-3-2013.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</a:rPr>
              <a:t>Veřejnoprávní TV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</a:rPr>
              <a:t>http://www.ceskatelevize.cz/ivysilani/10253066674-zpravy-ve-12/213411012000308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200" spc="-1" strike="noStrike" u="sng">
                <a:solidFill>
                  <a:srgbClr val="006633"/>
                </a:solidFill>
                <a:uFillTx/>
                <a:latin typeface="Garamond"/>
              </a:rPr>
              <a:t>Základní rysy zpravodajství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ěcnost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potřebné a důležité údaj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esnost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přesnost informac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úplnost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nesmí být nic úmyslně vynecháno, opomenu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polehlivost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souvisí s důvěryhodností informac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časnos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citová neutrálno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200" spc="-1" strike="noStrike" u="sng">
                <a:solidFill>
                  <a:srgbClr val="006633"/>
                </a:solidFill>
                <a:uFillTx/>
                <a:latin typeface="Garamond"/>
              </a:rPr>
              <a:t>Konstrukce zpráv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 u="sng">
                <a:solidFill>
                  <a:srgbClr val="000000"/>
                </a:solidFill>
                <a:uFillTx/>
                <a:latin typeface="Arial"/>
              </a:rPr>
              <a:t>Jak by měla být zpráva vystavěna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Arial"/>
              </a:rPr>
              <a:t>Kd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Arial"/>
              </a:rPr>
              <a:t>C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Arial"/>
              </a:rPr>
              <a:t>Kd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Arial"/>
              </a:rPr>
              <a:t>Kd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Arial"/>
              </a:rPr>
              <a:t>Jak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Arial"/>
              </a:rPr>
              <a:t>Proč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Arial"/>
              </a:rPr>
              <a:t>Komu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200" spc="-1" strike="noStrike" u="sng">
                <a:solidFill>
                  <a:srgbClr val="006633"/>
                </a:solidFill>
                <a:uFillTx/>
                <a:latin typeface="Garamond"/>
              </a:rPr>
              <a:t>Délka zpráv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 u="sng">
                <a:solidFill>
                  <a:srgbClr val="000000"/>
                </a:solidFill>
                <a:uFillTx/>
                <a:latin typeface="Arial"/>
              </a:rPr>
              <a:t>Jaká by měla být optimální délka zpráv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výzkumu francouzských odborníků se člověk dokáže v případě mediálního vysílání plně soustředit na zprávu asi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!!!20 vteřin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&gt; žurnalisté proto využívají tzv. 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„klipové zpravodajstv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průměrná délka jednoho „klipu“ je 39 sekund (veřejnoprávní televize) a 36 sekund (komerční televiz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u rozhlasu je to asi 25 sekund/ 1 zprá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200" spc="-1" strike="noStrike" u="sng">
                <a:solidFill>
                  <a:srgbClr val="006633"/>
                </a:solidFill>
                <a:uFillTx/>
                <a:latin typeface="Garamond"/>
              </a:rPr>
              <a:t>Úkol na závěr </a:t>
            </a:r>
            <a:r>
              <a:rPr b="1" lang="cs-CZ" sz="4200" spc="-1" strike="noStrike" u="sng">
                <a:solidFill>
                  <a:srgbClr val="006633"/>
                </a:solidFill>
                <a:uFillTx/>
                <a:latin typeface="Wingdings"/>
                <a:ea typeface="Wingdings"/>
              </a:rPr>
              <a:t>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8964720" cy="158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</a:rPr>
              <a:t>Podívej se na večerní zpravodajství (veřejnoprávní i komerční TV) a změř, jaká byla průměrná délka jednotlivých zpráv („klipů“). Odpovídala délka jednotlivých zpráv průměru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Volný tvar 1"/>
          <p:cNvSpPr/>
          <p:nvPr/>
        </p:nvSpPr>
        <p:spPr>
          <a:xfrm>
            <a:off x="2617920" y="3576600"/>
            <a:ext cx="3908160" cy="1405080"/>
          </a:xfrm>
          <a:custGeom>
            <a:avLst/>
            <a:gdLst>
              <a:gd name="textAreaLeft" fmla="*/ 0 w 3908160"/>
              <a:gd name="textAreaRight" fmla="*/ 3908520 w 3908160"/>
              <a:gd name="textAreaTop" fmla="*/ 0 h 1405080"/>
              <a:gd name="textAreaBottom" fmla="*/ 1405440 h 1405080"/>
            </a:gdLst>
            <a:ahLst/>
            <a:rect l="textAreaLeft" t="textAreaTop" r="textAreaRight" b="textAreaBottom"/>
            <a:pathLst>
              <a:path w="4342131" h="1562101">
                <a:moveTo>
                  <a:pt x="0" y="1562100"/>
                </a:moveTo>
                <a:lnTo>
                  <a:pt x="0" y="0"/>
                </a:lnTo>
                <a:lnTo>
                  <a:pt x="4342130" y="0"/>
                </a:lnTo>
                <a:lnTo>
                  <a:pt x="4342130" y="15621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ovéPole 2"/>
          <p:cNvSpPr/>
          <p:nvPr/>
        </p:nvSpPr>
        <p:spPr>
          <a:xfrm>
            <a:off x="2811600" y="3714840"/>
            <a:ext cx="35668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Tereza Ptáč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Gymnázium Pierra de Coubertina,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tptackova@gymta.c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březen 20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ovéPole 4"/>
          <p:cNvSpPr/>
          <p:nvPr/>
        </p:nvSpPr>
        <p:spPr>
          <a:xfrm>
            <a:off x="468360" y="404640"/>
            <a:ext cx="443376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 - 20"/>
                <a:ea typeface="Arial"/>
              </a:rPr>
              <a:t>Seznam použité literatury a pramenů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5"/>
          <p:cNvSpPr/>
          <p:nvPr/>
        </p:nvSpPr>
        <p:spPr>
          <a:xfrm>
            <a:off x="611280" y="981000"/>
            <a:ext cx="747216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Pospíšil, J.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Mediální výchova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. První vydání. Kralice na Hané : Computer Media, 200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ttp://doma.nova.cz/multimedia/poledni-televizni-noviny-8-3-2013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ttp://www.ceskatelevize.cz/ivysilani/10253066674-zpravy-ve-12/213411012000308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7T17:08:00Z</dcterms:created>
  <dc:creator>TERKA</dc:creator>
  <dc:description/>
  <dc:language>en-US</dc:language>
  <cp:lastModifiedBy>marcela</cp:lastModifiedBy>
  <dcterms:modified xsi:type="dcterms:W3CDTF">2013-05-07T13:53:00Z</dcterms:modified>
  <cp:revision>12</cp:revision>
  <dc:subject/>
  <dc:title>Snímek 1</dc:title>
</cp:coreProperties>
</file>