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A5E-383D-4658-A751-9A05D57A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AAA1-87FE-48CD-A469-CEAF2E96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252E-B99C-46AC-94D6-734E1DCB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571-D5B1-497B-B390-139FFA5D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90257-F469-4E9B-9D55-05F7C265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CD337-9477-43F0-ADD0-F8772A2E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1D121-3F51-4665-9535-810DBA4D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65145-243C-47DA-ADB1-504B19AC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736B7-2036-4216-AEE7-739533EC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A0345-0C95-4763-A12C-30676F1C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8373D-DC6D-421A-A3D9-70830177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C60D-B0AE-4BD1-9469-6D8AA2E8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FCA70-0045-4DCF-860F-65FD2F59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5FED1-8E69-4381-B690-3C3C8160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93461-910B-4488-A3B7-8997290D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9A1B1-7495-445B-8CFE-E354BE92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9E0A3-BC55-4A15-94C3-CE6C5DE2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9D95E-4DAC-490B-83C9-AC10BCC0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15F52-7DA0-4213-B25B-CA184AD3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97655-40B6-476C-AE56-B6167660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1AF3E-12AF-4A68-A97C-82ADA0F8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E73B9-4085-4AC0-8F34-8B038112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A65-7DA3-405C-9A6A-EEB65ED8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045D5-4AE8-46C5-B2F5-D46842AE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520ED-D552-4FE1-940E-7552D87B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50C84-81D0-4C5D-A086-D3021486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2E414-70AD-4CB7-BCF3-FD997AF0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CD795-D3F4-4641-B81D-1F67B756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98945-369D-4E11-A14C-D8C3ACEB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E62B1-8CAF-413D-9602-6EBEF90E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17F6B9-C3BB-41D1-A612-9B207C0F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BD3491-79E6-4F2B-A06C-FE07B17A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400310-A0A7-41A2-9B83-183082D4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0BF-26EF-460E-95C3-5665D384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5601FB-0CA5-4F2E-A55A-DEC88F00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224B0B-8367-4AAB-B33D-69E94573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E260C4-EE2D-45F8-B08D-B257A364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3D0ECE-3CF5-43D7-AC4F-956FE292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3952E0-C4B5-4069-B8E7-86859396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F6F45C-7CFC-42AA-9467-DB70E90E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CB257D-F042-4C43-99D6-7DD18632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79B3CE-CAEB-4085-AA93-282DC21E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49695B-B12E-45DB-BDF3-A1C6D1D3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1EFE08-C491-4916-A1DA-F3713227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77A3-59AF-4B9F-9C0F-19701820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71B8BB-A78F-4DED-8347-0A849C2E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080566-1520-4AB9-8675-EF7631F9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04E536-6E98-4800-8F74-A899F6DF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4B47D-48F4-4B2A-AFE1-3489C447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433571-6055-40E4-BCE3-99B15B17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E413B0-BAD4-41DD-A35F-32288664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97E916-2B13-4F20-89E7-53356BAA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CB0BD1-8D87-4125-83A2-35D8C47D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F24FB6-8EED-4EB8-932A-AAFD40BA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094CB-90B9-4DF4-B120-E225F1A9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CF89-1DF8-47B7-9636-E2CEAC29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495673-1C5D-49BF-9C6E-D335C091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D2EC10-9DE3-4A72-BF2F-AA3D12B1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C9FDAF-458E-4B62-889F-951D1C54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FB28FF-4F3C-4025-8090-5EB0AAA3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AF2DBB-9CE4-4325-B50B-8F9A8F29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DCA4E0-F104-48BE-9F27-9AAE192E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B84929-97AE-488B-B076-DB28A5BE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14124B-F806-4C1A-87F5-DCA2807F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28A384-5738-43B5-B4AA-851D290B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523650-0BE4-4886-9F1E-666DF3C8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E0A-093A-432A-A923-D723C23B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ECAE13-3038-4F9D-B69B-95C9B91A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7DF1F3-E301-4EA7-8111-5C588214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F144C1-9BE2-40E5-BC7D-837D4326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B59-A8D4-42F7-A163-4E77836C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C053-B8C8-40CA-8C37-7A593415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nice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římá spojnice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římá spojnice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římá spojnice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á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10D3-2EF6-4062-827B-AB84CE00A002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římá spojnice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římá spojnice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římá spojnice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římá spojnice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Ová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A712-F30E-450A-A873-4F98A5B8F630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římá spojnice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římá spojnice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římá spojnice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římá spojnice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římá spojnice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Ová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Ová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Ová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Ová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Ová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římá spojnice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325D-292E-4123-B388-F2400559CA3B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římá spojnice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římá spojnice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římá spojnice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římá spojnice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Ová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DE30-D8AE-402D-9B14-814A984B93DA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římá spojnice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římá spojnice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římá spojnice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římá spojnice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římá spojnice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Ová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8402-3392-4B82-B62C-EB08DDA7F188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římá spojnice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Ová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římá spojnice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římá spojnice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římá spojnice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římá spojnice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42C8-2826-4CBC-AB6C-AAF03305B087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ojekt: Inovace vybavení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96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297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TextovéPole 9"/>
          <p:cNvSpPr/>
          <p:nvPr/>
        </p:nvSpPr>
        <p:spPr>
          <a:xfrm>
            <a:off x="5076720" y="1916280"/>
            <a:ext cx="22320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mediální výchova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07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TextovéPole 17"/>
          <p:cNvSpPr/>
          <p:nvPr/>
        </p:nvSpPr>
        <p:spPr>
          <a:xfrm>
            <a:off x="2160720" y="903240"/>
            <a:ext cx="3274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Komunikační proces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druhý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TextovéPole 21"/>
          <p:cNvSpPr/>
          <p:nvPr/>
        </p:nvSpPr>
        <p:spPr>
          <a:xfrm>
            <a:off x="1120680" y="2171880"/>
            <a:ext cx="24145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Mv_2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V6. G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7. 1. 2013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76000" y="2204640"/>
            <a:ext cx="61722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575f6d"/>
                </a:solidFill>
                <a:latin typeface="Century Schoolbook"/>
              </a:rPr>
              <a:t>KOMUNIKAČNÍ PROCES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00000" y="2349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CO JE TO KOMUNIKAČNÍ PROC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575f6d"/>
                </a:solidFill>
                <a:uFillTx/>
                <a:latin typeface="Century Schoolbook"/>
              </a:rPr>
              <a:t>DEFINICE KOMUNIKAČNÍHO PROCES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26560" y="2060640"/>
            <a:ext cx="7572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edná se o proces vzájemného působení mezi komunikujícími partne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e to proces, jehož cílem je přenos sdělení (informace) od komunikátora k adresátovi (příjemci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575f6d"/>
                </a:solidFill>
                <a:uFillTx/>
                <a:latin typeface="Century Schoolbook"/>
              </a:rPr>
              <a:t>SCHÉMA KOMUNIKAČNÍHO PROCES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4" name="Veselý obličej 3"/>
          <p:cNvSpPr/>
          <p:nvPr/>
        </p:nvSpPr>
        <p:spPr>
          <a:xfrm>
            <a:off x="684360" y="2227320"/>
            <a:ext cx="885600" cy="8618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Mrak 5"/>
          <p:cNvSpPr/>
          <p:nvPr/>
        </p:nvSpPr>
        <p:spPr>
          <a:xfrm>
            <a:off x="2627280" y="2316240"/>
            <a:ext cx="1368360" cy="7729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070c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Veselý obličej 8"/>
          <p:cNvSpPr/>
          <p:nvPr/>
        </p:nvSpPr>
        <p:spPr>
          <a:xfrm>
            <a:off x="7754760" y="2120760"/>
            <a:ext cx="863640" cy="892440"/>
          </a:xfrm>
          <a:prstGeom prst="smileyFace">
            <a:avLst>
              <a:gd name="adj" fmla="val 9282"/>
            </a:avLst>
          </a:prstGeom>
          <a:solidFill>
            <a:srgbClr val="f8ef3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Šipka doprava 9"/>
          <p:cNvSpPr/>
          <p:nvPr/>
        </p:nvSpPr>
        <p:spPr>
          <a:xfrm>
            <a:off x="4284720" y="2479680"/>
            <a:ext cx="718920" cy="39996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e8637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Rovnoramenný trojúhelník 11"/>
          <p:cNvSpPr/>
          <p:nvPr/>
        </p:nvSpPr>
        <p:spPr>
          <a:xfrm>
            <a:off x="5219640" y="2222640"/>
            <a:ext cx="1008000" cy="68724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Šipka doprava 12"/>
          <p:cNvSpPr/>
          <p:nvPr/>
        </p:nvSpPr>
        <p:spPr>
          <a:xfrm>
            <a:off x="6372360" y="2462040"/>
            <a:ext cx="1152360" cy="4003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ff00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TextovéPole 13"/>
          <p:cNvSpPr/>
          <p:nvPr/>
        </p:nvSpPr>
        <p:spPr>
          <a:xfrm>
            <a:off x="96840" y="3284640"/>
            <a:ext cx="173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Komunikátor</a:t>
            </a:r>
            <a:r>
              <a:rPr b="0" lang="cs-CZ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TextovéPole 14"/>
          <p:cNvSpPr/>
          <p:nvPr/>
        </p:nvSpPr>
        <p:spPr>
          <a:xfrm>
            <a:off x="2627280" y="32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Sdělení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TextovéPole 15"/>
          <p:cNvSpPr/>
          <p:nvPr/>
        </p:nvSpPr>
        <p:spPr>
          <a:xfrm>
            <a:off x="4967280" y="33066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Symbol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Šipka doprava 16"/>
          <p:cNvSpPr/>
          <p:nvPr/>
        </p:nvSpPr>
        <p:spPr>
          <a:xfrm>
            <a:off x="1778040" y="2509920"/>
            <a:ext cx="720720" cy="39996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fe8637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TextovéPole 17"/>
          <p:cNvSpPr/>
          <p:nvPr/>
        </p:nvSpPr>
        <p:spPr>
          <a:xfrm>
            <a:off x="7524720" y="3284640"/>
            <a:ext cx="12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Příjem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TextovéPole 18"/>
          <p:cNvSpPr/>
          <p:nvPr/>
        </p:nvSpPr>
        <p:spPr>
          <a:xfrm>
            <a:off x="6372360" y="20415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Kaná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46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575f6d"/>
                </a:solidFill>
                <a:uFillTx/>
                <a:latin typeface="Century Schoolbook"/>
              </a:rPr>
              <a:t>SLOŽKY KOMUNIKAČNÍHO PROCESU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1. Komunikátor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= ten, kdo komunikuje; autor sděle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2. Sděle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= to, co sděluji; informa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3. Symboly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= řeč, písmo, signály…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- přenášeny prostřednictvím kanál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4. Kanál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= mluvená řeč, gesta, doteky, ale také tištěný text, televize, internet.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5. Příjemc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= recipient (adresát) sděle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- 1 či více oso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575f6d"/>
                </a:solidFill>
                <a:uFillTx/>
                <a:latin typeface="Century Schoolbook"/>
              </a:rPr>
              <a:t>ÚKOLY K ZAMYŠLENÍ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0000"/>
                </a:solidFill>
                <a:latin typeface="comic"/>
              </a:rPr>
              <a:t>? 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amysli se nad tím, co je nezbytné pro správnou recepci (přijetí) sdělení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0000"/>
                </a:solidFill>
                <a:latin typeface="comic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zpomeň si na nějaký příklad toho, jakým způsobem probíhá komunikace ve třídě, a zakresli schéma této komunika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ptackova@gymta.cz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leden 2013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TextovéPole 3"/>
          <p:cNvSpPr/>
          <p:nvPr/>
        </p:nvSpPr>
        <p:spPr>
          <a:xfrm>
            <a:off x="2217600" y="2514600"/>
            <a:ext cx="470880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bjekty použité k vytvoření sešitu jsou součástí SW Smart Notebook nebo pocházejí z veřejných knihoven obrázků (public domain) nebo jsou vlastní originální tvorbou autora.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TextovéPole 5"/>
          <p:cNvSpPr/>
          <p:nvPr/>
        </p:nvSpPr>
        <p:spPr>
          <a:xfrm>
            <a:off x="611280" y="981000"/>
            <a:ext cx="747216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Pospíšil,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Mediální výchov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První vydání. Kralice na Hané: Computer Media, 2009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brázky použity ze sady Office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18:20:38Z</dcterms:created>
  <dc:creator>doma</dc:creator>
  <dc:description/>
  <dc:language>en-US</dc:language>
  <cp:lastModifiedBy>doma</cp:lastModifiedBy>
  <cp:lastPrinted>2013-01-27T13:49:41Z</cp:lastPrinted>
  <dcterms:modified xsi:type="dcterms:W3CDTF">2014-05-05T22:43:46Z</dcterms:modified>
  <cp:revision>13</cp:revision>
  <dc:subject/>
  <dc:title>Komunikační proces</dc:title>
</cp:coreProperties>
</file>