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EDC9-C13A-4B9D-BCF0-6F4D33CA0B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A9C-2847-4922-B7F7-4AC8398C41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BAB-22A0-466F-9CA6-0F3F75F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34B-A55F-4EC0-BFAB-77CB671D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3B2-1A8D-4CB6-B7E6-1E5DBBE2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916-E7F0-414C-AFCB-0D10C3FA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3C3-4E1C-47B5-8F27-3CE923F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879A-15C1-46E5-AC4C-8636CFF3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989F-B6DB-4F80-8AFB-9EF1A001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F03-E24C-46D1-8556-437B5D3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0DF8-6119-4D60-BB69-AE2D2A95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EF04-C991-4B95-B7F0-652A4792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E212-76B3-4C95-862B-54BC6088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F69-6D43-4ED4-B593-FE2BE418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544-E861-4786-8BCD-D5BB57CA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57A-3E05-4894-9674-7011065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4F98-8B7A-4E07-81CE-5A5EECB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DA9F-9888-44F5-8911-3739BBB0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5DCD-C897-4143-B986-AB3A19BE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877E-8C28-4021-8F3E-DD362C66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77B9-CF54-4AA4-BC93-4286DFC7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0148-6AF8-4BED-B7C1-EE68FED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FF96-8CF3-42E2-BB15-4B7CD1BB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1D8A-208F-4DD9-B191-4D50B96C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96F-257B-48D0-80C6-51162D1C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0761-398D-4397-B0A7-1A5BD6E2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801F-524D-4064-914C-35B8654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33E0E-A361-4819-A666-FA85EB7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D4E00-125D-4E70-87B2-440E76BC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56D1-34D7-47DD-B9D1-FA099580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1B88-DD34-42F1-959B-EDB959BF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E7C3-6823-4D45-AE28-D32FFDA4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8A5D-F4CA-4E7A-BC41-A477CB2E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AF3D-6977-498F-B535-DE9CD661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79C0-E887-48D2-9ED3-396F3842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963-4E8D-41A8-9589-E8EA8E3A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84D1-FE3F-45A3-AEA2-085E1636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954A-58DE-4A19-B3C9-BCBEB541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C641-6716-4428-A2C2-0A62DF74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EEEF-4E21-459B-92ED-EDB483D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10FB-6D00-4A62-B836-6CFB2B0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9FA9C-F978-47EF-99D9-956634D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EC18-0F8C-45A8-A966-E30D67A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B9BB-9796-470F-AE55-4C52478B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B1A2-7A07-49D4-9478-C33C29FD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C018-9236-40D4-A190-B8D0EA45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41A-7533-4B83-A5EA-942D076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1148-AC39-4A88-8D94-D6FA8467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DF67-19C3-4C9E-8B5B-08911C49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0A71E-F363-41D0-A0B5-A25BA549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A3D9-3384-4E53-8668-56AB6C4C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A2AB-254A-4709-B4D4-A54F4C3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294A6-BD04-41B0-8392-781B00B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1F90-59DE-4737-BA64-D33D058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29BD-C185-4AEA-94B6-B2183769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AB59-4C20-4D30-B828-E8908C51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CB32-0390-4495-9439-91F53F27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A67-93FA-44EB-894C-B2B6641F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DD36-97BC-43EB-B305-744F928C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3104-3BEE-4A3E-A79E-CFC4F2E3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5F1D8-91E5-4352-B844-115294C9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C28A-B8CF-4661-A9EA-FDDC8D7B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6C515-3D95-4600-8782-D9D073ED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0595E-FF52-4FC4-A3D8-021F0C03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FE38-04D3-4689-99BB-081B4887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0857-2944-475F-BAED-601941B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549B-5A95-4DF3-BDDC-8091C84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79EA5-D440-415A-8819-767C7D3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F38-D079-4307-A601-D8B0CD5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D7D22-71C8-4B4E-9FC0-3675FE40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97D7E-C4F0-49C9-9444-E888A89D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F1DEF-B2E3-4ED6-B851-4F51D009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AF19-B5FF-4F9C-8921-CC85487A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2A4E-4A17-4E37-8D63-58447B92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9FC89-E68C-4EA9-9A40-3086D32C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3B5D-90CB-455D-9997-EEA43939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1F67-9B8A-43E3-BCB7-25F9A7C6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89C1F-0DE4-48A7-B73D-5CCFFCFD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7A32-4CEF-43A2-A5FB-31C9341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170-B88A-4128-8B54-D32D1231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B2650-7360-4762-B111-089C7F01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DB499-CBF7-4E13-9D4F-2B4C991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E33B0-6667-4105-85D9-784FDDE6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845D-6ED7-4959-8E3A-02908997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ACD53-5A86-4460-9B5D-1DB2320B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4770F-E44B-4F28-A4C5-C1F6DD90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AB97-8F98-4C02-9D97-805C277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7E688-AC0A-4871-BE80-45E39140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5121-F53B-4DD8-9055-75C8ED59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11F72-3705-4818-B234-3D91A16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555-4A3B-49A5-9419-64C78BB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0A50-A8F3-4016-841C-8E5AF415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CE38-FA3E-4C89-A6E1-C14A8908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9318C-4055-4B7C-AEA8-3422BF5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52F6D-E87A-4CD0-AB8B-91D2A20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7960" y="42732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1F1F-EAA4-4592-9D4D-29704923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720" y="16462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93720" y="42732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B023F-C88C-4DC6-A5F4-5B10AD81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796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9964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91320" y="16462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796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9964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91320" y="42732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F785-F1A9-4A33-9D42-115C334E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D7E3-613D-4E25-8F36-C41CEC4AF84E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5181480"/>
            <a:ext cx="101678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400" bIns="-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4680" y="5504040"/>
            <a:ext cx="10164600" cy="2124000"/>
            <a:chOff x="-4680" y="5504040"/>
            <a:chExt cx="10164600" cy="2124000"/>
          </a:xfrm>
        </p:grpSpPr>
        <p:sp>
          <p:nvSpPr>
            <p:cNvPr id="49" name="Volný tvar 16"/>
            <p:cNvSpPr/>
            <p:nvPr/>
          </p:nvSpPr>
          <p:spPr>
            <a:xfrm>
              <a:off x="1879200" y="5504040"/>
              <a:ext cx="8272440" cy="541800"/>
            </a:xfrm>
            <a:custGeom>
              <a:avLst/>
              <a:gdLst>
                <a:gd name="textAreaLeft" fmla="*/ 0 w 8272440"/>
                <a:gd name="textAreaRight" fmla="*/ 8272800 w 82724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819040"/>
              <a:ext cx="10106280" cy="874440"/>
            </a:xfrm>
            <a:custGeom>
              <a:avLst/>
              <a:gdLst>
                <a:gd name="textAreaLeft" fmla="*/ 0 w 10106280"/>
                <a:gd name="textAreaRight" fmla="*/ 10106640 w 1010628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1080" y="5553360"/>
              <a:ext cx="10158840" cy="2074680"/>
              <a:chOff x="1080" y="5553360"/>
              <a:chExt cx="10158840" cy="207468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5553360"/>
                <a:ext cx="10158840" cy="20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480" y="5556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4680" y="5541120"/>
              <a:ext cx="1016460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107-E11C-4B94-8D5B-1E6834A7996E}" type="slidenum">
              <a:rPr b="0" lang="cs-CZ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102" name="Dvojitá šipka 10"/>
          <p:cNvSpPr/>
          <p:nvPr/>
        </p:nvSpPr>
        <p:spPr>
          <a:xfrm>
            <a:off x="4040280" y="3340080"/>
            <a:ext cx="203040" cy="254160"/>
          </a:xfrm>
          <a:custGeom>
            <a:avLst/>
            <a:gdLst>
              <a:gd name="textAreaLeft" fmla="*/ 0 w 203040"/>
              <a:gd name="textAreaRight" fmla="*/ 203400 w 203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vojitá šipka 15"/>
          <p:cNvSpPr/>
          <p:nvPr/>
        </p:nvSpPr>
        <p:spPr>
          <a:xfrm>
            <a:off x="3833640" y="3340080"/>
            <a:ext cx="203400" cy="254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391B-B946-446D-9B19-F75373875608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148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6DE5-3E62-4597-BA34-EDB15C7FADCB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DE4D-C1A7-433E-9DC6-A5EA2BD2D2B5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olný tvar 12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olný tvar 11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Pravoúhlý trojúhelník 13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23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5D22-0F21-4A79-90AF-67E63448BD02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CA52-1789-491F-9E80-6B73799FB06C}" type="slidenum">
              <a:rPr b="0" lang="cs-CZ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olný tvar 10"/>
          <p:cNvSpPr/>
          <p:nvPr/>
        </p:nvSpPr>
        <p:spPr>
          <a:xfrm>
            <a:off x="554040" y="6605640"/>
            <a:ext cx="5489640" cy="1023840"/>
          </a:xfrm>
          <a:custGeom>
            <a:avLst/>
            <a:gdLst>
              <a:gd name="textAreaLeft" fmla="*/ 0 w 5489640"/>
              <a:gd name="textAreaRight" fmla="*/ 5490000 w 54896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olný tvar 15"/>
          <p:cNvSpPr/>
          <p:nvPr/>
        </p:nvSpPr>
        <p:spPr>
          <a:xfrm>
            <a:off x="539640" y="6599160"/>
            <a:ext cx="4100760" cy="1036800"/>
          </a:xfrm>
          <a:custGeom>
            <a:avLst/>
            <a:gdLst>
              <a:gd name="textAreaLeft" fmla="*/ 0 w 4100760"/>
              <a:gd name="textAreaRight" fmla="*/ 4101120 w 41007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Pravoúhlý trojúhelník 16"/>
          <p:cNvGrpSpPr/>
          <p:nvPr/>
        </p:nvGrpSpPr>
        <p:grpSpPr>
          <a:xfrm>
            <a:off x="-12600" y="6431040"/>
            <a:ext cx="3792600" cy="1212840"/>
            <a:chOff x="-12600" y="6431040"/>
            <a:chExt cx="3792600" cy="1212840"/>
          </a:xfrm>
        </p:grpSpPr>
        <p:pic>
          <p:nvPicPr>
            <p:cNvPr id="324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6431040"/>
              <a:ext cx="3792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07800" y="7135920"/>
              <a:ext cx="1890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6419880"/>
            <a:ext cx="3799080" cy="1230120"/>
          </a:xfrm>
          <a:prstGeom prst="rect">
            <a:avLst/>
          </a:prstGeom>
          <a:ln w="0">
            <a:noFill/>
          </a:ln>
        </p:spPr>
      </p:pic>
      <p:sp>
        <p:nvSpPr>
          <p:cNvPr id="327" name="Dvojitá šipka 19"/>
          <p:cNvSpPr/>
          <p:nvPr/>
        </p:nvSpPr>
        <p:spPr>
          <a:xfrm>
            <a:off x="9626760" y="5541840"/>
            <a:ext cx="203040" cy="254160"/>
          </a:xfrm>
          <a:custGeom>
            <a:avLst/>
            <a:gdLst>
              <a:gd name="textAreaLeft" fmla="*/ 0 w 203040"/>
              <a:gd name="textAreaRight" fmla="*/ 203400 w 203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vojitá šipka 20"/>
          <p:cNvSpPr/>
          <p:nvPr/>
        </p:nvSpPr>
        <p:spPr>
          <a:xfrm>
            <a:off x="9420120" y="5541840"/>
            <a:ext cx="203400" cy="254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6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0480" indent="-252360">
              <a:spcBef>
                <a:spcPts val="45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5400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6828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22440" indent="-252360">
              <a:spcBef>
                <a:spcPts val="45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22440" indent="-252360">
              <a:spcBef>
                <a:spcPts val="4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7473600" y="7120080"/>
            <a:ext cx="213372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867200" y="7120080"/>
            <a:ext cx="2611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9607320" y="7120080"/>
            <a:ext cx="40644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80A9-558C-4011-BA7D-82529D909E63}" type="slidenum">
              <a:rPr b="0" lang="cs-CZ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eklamninosice.cz/ukazky-praci/img_webimg/agnesi-musi-kridla-stanek-1006152551_thumb_big.jpg" TargetMode="External"/><Relationship Id="rId2" Type="http://schemas.openxmlformats.org/officeDocument/2006/relationships/hyperlink" Target="http://www.mediaguru.cz/wp-content/uploads/2011/10/vanish_bra1.jpg" TargetMode="External"/><Relationship Id="rId3" Type="http://schemas.openxmlformats.org/officeDocument/2006/relationships/hyperlink" Target="http://www.reklamablog.cz/wp-content/uploads/macfriespedestriancrossing.preview-500x353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ovéPole 1"/>
          <p:cNvSpPr/>
          <p:nvPr/>
        </p:nvSpPr>
        <p:spPr>
          <a:xfrm>
            <a:off x="1828800" y="190440"/>
            <a:ext cx="650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Registrační číslo projektu: CZ.1.07/1.5.00/03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ovéPole 2"/>
          <p:cNvSpPr/>
          <p:nvPr/>
        </p:nvSpPr>
        <p:spPr>
          <a:xfrm>
            <a:off x="787320" y="482760"/>
            <a:ext cx="858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     </a:t>
            </a: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95520" y="5880240"/>
            <a:ext cx="6968880" cy="1342800"/>
          </a:xfrm>
          <a:prstGeom prst="rect">
            <a:avLst/>
          </a:prstGeom>
          <a:ln w="0">
            <a:noFill/>
          </a:ln>
        </p:spPr>
      </p:pic>
      <p:sp>
        <p:nvSpPr>
          <p:cNvPr id="380" name="TextovéPole 4"/>
          <p:cNvSpPr/>
          <p:nvPr/>
        </p:nvSpPr>
        <p:spPr>
          <a:xfrm>
            <a:off x="876240" y="5410080"/>
            <a:ext cx="840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ovéPole 5"/>
          <p:cNvSpPr/>
          <p:nvPr/>
        </p:nvSpPr>
        <p:spPr>
          <a:xfrm>
            <a:off x="0" y="4838760"/>
            <a:ext cx="1033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ovéPole 6"/>
          <p:cNvSpPr/>
          <p:nvPr/>
        </p:nvSpPr>
        <p:spPr>
          <a:xfrm>
            <a:off x="355680" y="12952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ovéPole 7"/>
          <p:cNvSpPr/>
          <p:nvPr/>
        </p:nvSpPr>
        <p:spPr>
          <a:xfrm>
            <a:off x="368280" y="100332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8"/>
          <p:cNvSpPr/>
          <p:nvPr/>
        </p:nvSpPr>
        <p:spPr>
          <a:xfrm>
            <a:off x="355680" y="24130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9"/>
          <p:cNvSpPr/>
          <p:nvPr/>
        </p:nvSpPr>
        <p:spPr>
          <a:xfrm>
            <a:off x="5800680" y="21207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mediální vých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10"/>
          <p:cNvSpPr/>
          <p:nvPr/>
        </p:nvSpPr>
        <p:spPr>
          <a:xfrm>
            <a:off x="355680" y="1828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ovéPole 11"/>
          <p:cNvSpPr/>
          <p:nvPr/>
        </p:nvSpPr>
        <p:spPr>
          <a:xfrm>
            <a:off x="355680" y="212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ovéPole 12"/>
          <p:cNvSpPr/>
          <p:nvPr/>
        </p:nvSpPr>
        <p:spPr>
          <a:xfrm>
            <a:off x="6603840" y="2425680"/>
            <a:ext cx="243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ovéPole 13"/>
          <p:cNvSpPr/>
          <p:nvPr/>
        </p:nvSpPr>
        <p:spPr>
          <a:xfrm>
            <a:off x="355680" y="294624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ovéPole 14"/>
          <p:cNvSpPr/>
          <p:nvPr/>
        </p:nvSpPr>
        <p:spPr>
          <a:xfrm>
            <a:off x="355680" y="3238560"/>
            <a:ext cx="213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 16. 5.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ovéPole 15"/>
          <p:cNvSpPr/>
          <p:nvPr/>
        </p:nvSpPr>
        <p:spPr>
          <a:xfrm>
            <a:off x="355680" y="380988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 2.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16"/>
          <p:cNvSpPr/>
          <p:nvPr/>
        </p:nvSpPr>
        <p:spPr>
          <a:xfrm>
            <a:off x="355680" y="3530520"/>
            <a:ext cx="40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 PhDr. Jiří Ká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17"/>
          <p:cNvSpPr/>
          <p:nvPr/>
        </p:nvSpPr>
        <p:spPr>
          <a:xfrm>
            <a:off x="2416320" y="1001880"/>
            <a:ext cx="323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utdoorová relama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18"/>
          <p:cNvSpPr/>
          <p:nvPr/>
        </p:nvSpPr>
        <p:spPr>
          <a:xfrm>
            <a:off x="2400480" y="1295280"/>
            <a:ext cx="177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Petra Husá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19"/>
          <p:cNvSpPr/>
          <p:nvPr/>
        </p:nvSpPr>
        <p:spPr>
          <a:xfrm>
            <a:off x="1244520" y="2120760"/>
            <a:ext cx="51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20"/>
          <p:cNvSpPr/>
          <p:nvPr/>
        </p:nvSpPr>
        <p:spPr>
          <a:xfrm>
            <a:off x="8051760" y="2120760"/>
            <a:ext cx="180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ruh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ovéPole 21"/>
          <p:cNvSpPr/>
          <p:nvPr/>
        </p:nvSpPr>
        <p:spPr>
          <a:xfrm>
            <a:off x="1244520" y="2413080"/>
            <a:ext cx="26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Mv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22"/>
          <p:cNvSpPr/>
          <p:nvPr/>
        </p:nvSpPr>
        <p:spPr>
          <a:xfrm>
            <a:off x="8051760" y="238752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471600" y="627480"/>
            <a:ext cx="849636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doorová reklama 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o si představíte pod pojmem outdoorová rekla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V následujících reklamách určete, na jakou cílovou skupinu jsou zaměře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Vytvořte charakteristiku ideálního příjemce. Nápovědou může být,  že v prvním případě se jedná o reklamu na těstoviny, ve druhém na boj s rakovinou prsu, ve třetí na fast fo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Jsou zvolené formy reklamy vhodn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960" y="1646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Obrázek 1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Obrázek 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04640" indent="-28404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Obrázek 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Volný tvar 1"/>
          <p:cNvSpPr/>
          <p:nvPr/>
        </p:nvSpPr>
        <p:spPr>
          <a:xfrm>
            <a:off x="2908440" y="3973680"/>
            <a:ext cx="4343400" cy="15620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ovéPole 2"/>
          <p:cNvSpPr/>
          <p:nvPr/>
        </p:nvSpPr>
        <p:spPr>
          <a:xfrm>
            <a:off x="3124080" y="4127400"/>
            <a:ext cx="3962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Petra Husák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usakov@seznam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květen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ovéPole 3"/>
          <p:cNvSpPr/>
          <p:nvPr/>
        </p:nvSpPr>
        <p:spPr>
          <a:xfrm>
            <a:off x="2463840" y="2793960"/>
            <a:ext cx="52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bjekty použité k vytvoření sešitu pocházejí z veřejných knihoven obrázků (public domain) nebo jsou vlastní originální tvorbou aut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ovéPole 4"/>
          <p:cNvSpPr/>
          <p:nvPr/>
        </p:nvSpPr>
        <p:spPr>
          <a:xfrm>
            <a:off x="228600" y="203040"/>
            <a:ext cx="49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ovéPole 5"/>
          <p:cNvSpPr/>
          <p:nvPr/>
        </p:nvSpPr>
        <p:spPr>
          <a:xfrm>
            <a:off x="399960" y="641520"/>
            <a:ext cx="4103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ttp://www.reklamninosice.cz/ukazky-praci/img_webimg/agnesi-musi-kridla-stanek-1006152551_thumb_bi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ttp://www.mediaguru.cz/wp-content/uploads/2011/10/vanish_bra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http://www.reklamablog.cz/wp-content/uploads/macfriespedestriancrossing.preview-500x35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20:36Z</dcterms:created>
  <dc:creator>svp</dc:creator>
  <dc:description/>
  <dc:language>en-US</dc:language>
  <cp:lastModifiedBy>marcela</cp:lastModifiedBy>
  <dcterms:modified xsi:type="dcterms:W3CDTF">2013-10-27T18:59:13Z</dcterms:modified>
  <cp:revision>33</cp:revision>
  <dc:subject/>
  <dc:title>Snímek 1</dc:title>
</cp:coreProperties>
</file>