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91F-3F7D-41A2-A813-20C01644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570-8D19-4E8A-B9E9-C91A16A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D99-0363-4CE4-A332-59C7B4D6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F3B-00E3-49B6-9E9C-0E82A3E9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A7A-BD08-45C7-B8D7-7E03B8BC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6A26-0DD3-49B7-A043-420F817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D45-1A15-4F78-976A-439AFFC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3DA-FB52-431D-A680-005F024C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949-D578-416C-BF47-4B29EDE1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9A6-BCE1-486D-A1BA-4A888A1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0D1-C4F0-4F9B-964F-EB9F4F7D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914-4FDE-4795-A448-F2025F44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A6F1-D4D9-468A-9C67-3EB6399D0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rojekt: Inovace vybavení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9"/>
          <p:cNvSpPr/>
          <p:nvPr/>
        </p:nvSpPr>
        <p:spPr>
          <a:xfrm>
            <a:off x="5943600" y="1908000"/>
            <a:ext cx="1724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matemati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7"/>
          <p:cNvSpPr/>
          <p:nvPr/>
        </p:nvSpPr>
        <p:spPr>
          <a:xfrm>
            <a:off x="2160720" y="90324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arabo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třet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_M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24"/>
          <p:cNvSpPr/>
          <p:nvPr/>
        </p:nvSpPr>
        <p:spPr>
          <a:xfrm>
            <a:off x="2160720" y="3429000"/>
            <a:ext cx="2340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CvM 4. ročník (4. B, V8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25"/>
          <p:cNvSpPr/>
          <p:nvPr/>
        </p:nvSpPr>
        <p:spPr>
          <a:xfrm>
            <a:off x="2160720" y="2914560"/>
            <a:ext cx="1763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6. 11.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Eva Novotn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enovotn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15. 11.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5"/>
          <p:cNvSpPr/>
          <p:nvPr/>
        </p:nvSpPr>
        <p:spPr>
          <a:xfrm>
            <a:off x="628560" y="514440"/>
            <a:ext cx="81201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1. Kočandrle, M. a Boček, L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. Matematika pro gymnázia – Analytická geometri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. Praha: Prometheus, 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. Bušek, I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pro gymnázia – Analytická geometrie – sbírka úloh.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Praha: Prometheus, 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. Petáková, J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íprava k maturitě a přijímacím zkouškám na VŠ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raha: Prometheus,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4. Černý J. a kol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ijímací zkoušky na ČVUT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ČVUT Praha, 2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5. Šařecová P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ka – příprava na přijímací zkoušky na PEF ČZU v Praz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EF ČZU Praha, 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6. Rosická M. a Eliášová L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Sbírka příkladů z matematiky k přijímacím zkouškám na VŠE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VŠE Praha,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7. Mikulčák J. a Charvát J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ematické, fyzikální a chemické tabulky a vzorce pro střední školy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, Praha: Prometheus,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rovině je dán bod F a přímka d, která jím neprochází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nožina všech bodů roviny, které mají stejnou vzdálenost od bodu F a od přímky d, se nazývá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parabol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ovéPole 1"/>
          <p:cNvSpPr/>
          <p:nvPr/>
        </p:nvSpPr>
        <p:spPr>
          <a:xfrm>
            <a:off x="250920" y="6237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rametr 2p →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p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=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F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|;|VF|=|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|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½p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Zástupný symbol pro obsah 3" descr="parabola5.png"/>
          <p:cNvPicPr/>
          <p:nvPr/>
        </p:nvPicPr>
        <p:blipFill>
          <a:blip r:embed="rId1"/>
          <a:stretch/>
        </p:blipFill>
        <p:spPr>
          <a:xfrm>
            <a:off x="1763640" y="836640"/>
            <a:ext cx="5256360" cy="374472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"/>
          <p:cNvSpPr/>
          <p:nvPr/>
        </p:nvSpPr>
        <p:spPr>
          <a:xfrm>
            <a:off x="250920" y="45086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70c0"/>
                </a:solidFill>
                <a:latin typeface="Calibri"/>
              </a:rPr>
              <a:t>ohnisko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1"/>
          <p:cNvSpPr/>
          <p:nvPr/>
        </p:nvSpPr>
        <p:spPr>
          <a:xfrm>
            <a:off x="250920" y="49417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7030a0"/>
                </a:solidFill>
                <a:latin typeface="Calibri"/>
              </a:rPr>
              <a:t>řídící přímka 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1"/>
          <p:cNvSpPr/>
          <p:nvPr/>
        </p:nvSpPr>
        <p:spPr>
          <a:xfrm>
            <a:off x="250920" y="537372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sa o → přímka procházející ohniskem F kolmá k řídící přím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1"/>
          <p:cNvSpPr/>
          <p:nvPr/>
        </p:nvSpPr>
        <p:spPr>
          <a:xfrm>
            <a:off x="250920" y="5805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1800" spc="-1" strike="noStrike">
                <a:solidFill>
                  <a:srgbClr val="984807"/>
                </a:solidFill>
                <a:latin typeface="Arial"/>
              </a:rPr>
              <a:t>vr</a:t>
            </a:r>
            <a:r>
              <a:rPr b="0" lang="cs-CZ" sz="1800" spc="-1" strike="noStrike">
                <a:solidFill>
                  <a:srgbClr val="984807"/>
                </a:solidFill>
                <a:latin typeface="Calibri"/>
              </a:rPr>
              <a:t>chol V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bod paraboly ležící na o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Nadpis 1"/>
          <p:cNvSpPr/>
          <p:nvPr/>
        </p:nvSpPr>
        <p:spPr>
          <a:xfrm>
            <a:off x="3059280" y="115920"/>
            <a:ext cx="25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900000" y="549360"/>
            <a:ext cx="7272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počátku soustavy souřadné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x je osou parab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4764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08472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parabola_nova_vpravo"/>
          <p:cNvPicPr/>
          <p:nvPr/>
        </p:nvPicPr>
        <p:blipFill>
          <a:blip r:embed="rId1"/>
          <a:stretch/>
        </p:blipFill>
        <p:spPr>
          <a:xfrm>
            <a:off x="32400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parabola_nova_vlevo"/>
          <p:cNvPicPr/>
          <p:nvPr/>
        </p:nvPicPr>
        <p:blipFill>
          <a:blip r:embed="rId2"/>
          <a:stretch/>
        </p:blipFill>
        <p:spPr>
          <a:xfrm>
            <a:off x="4786200" y="2349360"/>
            <a:ext cx="37720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73296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počátku soustavy souřadné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y je osou para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547640" y="54450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148360" y="558972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651640" y="5445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arabola_nova_nahoru"/>
          <p:cNvPicPr/>
          <p:nvPr/>
        </p:nvPicPr>
        <p:blipFill>
          <a:blip r:embed="rId1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p_nova_dolu"/>
          <p:cNvPicPr/>
          <p:nvPr/>
        </p:nvPicPr>
        <p:blipFill>
          <a:blip r:embed="rId2"/>
          <a:stretch/>
        </p:blipFill>
        <p:spPr>
          <a:xfrm>
            <a:off x="478800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80"/>
          </a:xfrm>
          <a:prstGeom prst="rect">
            <a:avLst/>
          </a:prstGeom>
          <a:noFill/>
          <a:ln w="0">
            <a:noFill/>
          </a:ln>
        </p:spPr>
        <p:txBody>
          <a:bodyPr tIns="12960" bIns="129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3" descr="parabola_posun.png"/>
          <p:cNvPicPr/>
          <p:nvPr/>
        </p:nvPicPr>
        <p:blipFill>
          <a:blip r:embed="rId1"/>
          <a:stretch/>
        </p:blipFill>
        <p:spPr>
          <a:xfrm>
            <a:off x="1763640" y="1268280"/>
            <a:ext cx="564192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1979640" y="404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un vrcholu paraboly mimo počá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1332000" y="765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826920" y="54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bodě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n]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 je rovnoběžná s osou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5640" y="5516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y-n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(x-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932360" y="5516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y-n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(x-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prabola_posun_1"/>
          <p:cNvPicPr/>
          <p:nvPr/>
        </p:nvPicPr>
        <p:blipFill>
          <a:blip r:embed="rId1"/>
          <a:stretch/>
        </p:blipFill>
        <p:spPr>
          <a:xfrm>
            <a:off x="-4714920" y="-4019400"/>
            <a:ext cx="3772080" cy="302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parabola_nova_posun_vlevo"/>
          <p:cNvPicPr/>
          <p:nvPr/>
        </p:nvPicPr>
        <p:blipFill>
          <a:blip r:embed="rId2"/>
          <a:stretch/>
        </p:blipFill>
        <p:spPr>
          <a:xfrm>
            <a:off x="4786200" y="2349360"/>
            <a:ext cx="3772080" cy="3022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parabola_nova_posun_vpravo"/>
          <p:cNvPicPr/>
          <p:nvPr/>
        </p:nvPicPr>
        <p:blipFill>
          <a:blip r:embed="rId3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826920" y="54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Vrcholová rovnice paraboly</a:t>
            </a:r>
            <a:br>
              <a:rPr sz="36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) vrchol v bodě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m,n]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b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 je rovnoběžná s osou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00000" y="544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x-m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2p(y-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003640" y="54450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(x-m)</a:t>
            </a:r>
            <a:r>
              <a:rPr b="0" lang="cs-CZ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=-2p(y-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rabola_posun_1"/>
          <p:cNvPicPr/>
          <p:nvPr/>
        </p:nvPicPr>
        <p:blipFill>
          <a:blip r:embed="rId1"/>
          <a:stretch/>
        </p:blipFill>
        <p:spPr>
          <a:xfrm>
            <a:off x="-2700360" y="-3987720"/>
            <a:ext cx="3900600" cy="3128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parabola_nova_posun_nahoru"/>
          <p:cNvPicPr/>
          <p:nvPr/>
        </p:nvPicPr>
        <p:blipFill>
          <a:blip r:embed="rId2"/>
          <a:stretch/>
        </p:blipFill>
        <p:spPr>
          <a:xfrm>
            <a:off x="611280" y="2349360"/>
            <a:ext cx="3771720" cy="302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parabola_nova_posun_dolu"/>
          <p:cNvPicPr/>
          <p:nvPr/>
        </p:nvPicPr>
        <p:blipFill>
          <a:blip r:embed="rId3"/>
          <a:stretch/>
        </p:blipFill>
        <p:spPr>
          <a:xfrm>
            <a:off x="4788000" y="2349360"/>
            <a:ext cx="377172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Obecná rovnice parab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835280" y="2924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Ax+By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11280" y="19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osa rovnoběžná s osou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11280" y="407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 osa rovnoběžná s osou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835280" y="501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+Ax+By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8:15:15Z</dcterms:created>
  <dc:creator>enovotna</dc:creator>
  <dc:description/>
  <dc:language>en-US</dc:language>
  <cp:lastModifiedBy>doma</cp:lastModifiedBy>
  <dcterms:modified xsi:type="dcterms:W3CDTF">2014-05-05T22:24:10Z</dcterms:modified>
  <cp:revision>63</cp:revision>
  <dc:subject/>
  <dc:title>Snímek 1</dc:title>
</cp:coreProperties>
</file>