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747E-5E0A-4095-B550-92EB6BCA4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7772-EBCE-45F2-A88B-C5AB3B24E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A94A-54BF-44DB-B98C-741F4298B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ED07-E473-4CAC-87AC-DB7E74780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C16-21E9-4E4C-AEBB-14533DDD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A44-58B9-4B1B-AD03-AA9039D3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FD9-220B-4630-94F9-1B541B39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E10-4AB3-49C6-8D99-FD0CFABA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735-7D5C-47FA-BC48-99F14F55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A21-F05A-4C25-BF4C-0FF022E0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CB9-1693-4C25-B33C-F10F5B06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15B-EB73-46A6-893D-97D37150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752-E0D5-4FFC-AC62-26855D09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5AE-F886-4619-B9E9-34AE2AD5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2DFB-7D29-4F3C-A0BD-75E3E6E1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BDD-8A9E-4330-A806-D0517174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93C9-5354-48CD-8BEC-F2617EEEF8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n.wikipedia.org/wiki/File:Eug&#232;ne_Delacroix_-_Le_Massacre_de_Scio.jp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tatic1.assistancescolaire.com/ele/images/h_europe_1815z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jekt: Inovace vybavení        Registrační číslo projektu: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95360" y="530856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4"/>
          <p:cNvSpPr/>
          <p:nvPr/>
        </p:nvSpPr>
        <p:spPr>
          <a:xfrm>
            <a:off x="812880" y="4854600"/>
            <a:ext cx="75675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8"/>
          <p:cNvSpPr/>
          <p:nvPr/>
        </p:nvSpPr>
        <p:spPr>
          <a:xfrm>
            <a:off x="324000" y="227664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9"/>
          <p:cNvSpPr/>
          <p:nvPr/>
        </p:nvSpPr>
        <p:spPr>
          <a:xfrm>
            <a:off x="5943600" y="1908000"/>
            <a:ext cx="1351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ěje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2"/>
          <p:cNvSpPr/>
          <p:nvPr/>
        </p:nvSpPr>
        <p:spPr>
          <a:xfrm>
            <a:off x="5943600" y="2182680"/>
            <a:ext cx="2193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17"/>
          <p:cNvSpPr/>
          <p:nvPr/>
        </p:nvSpPr>
        <p:spPr>
          <a:xfrm>
            <a:off x="2160720" y="903240"/>
            <a:ext cx="2987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 soul</a:t>
            </a:r>
            <a:r>
              <a:rPr b="1" lang="en-US" sz="1100" spc="-1" strike="noStrike">
                <a:solidFill>
                  <a:srgbClr val="000000"/>
                </a:solidFill>
                <a:latin typeface="Arial - 16"/>
                <a:ea typeface="Arial"/>
              </a:rPr>
              <a:t>è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ement gre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19"/>
          <p:cNvSpPr/>
          <p:nvPr/>
        </p:nvSpPr>
        <p:spPr>
          <a:xfrm>
            <a:off x="1120680" y="1908000"/>
            <a:ext cx="4662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vojjazyčné stu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tvrt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21"/>
          <p:cNvSpPr/>
          <p:nvPr/>
        </p:nvSpPr>
        <p:spPr>
          <a:xfrm>
            <a:off x="1116000" y="227664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DZ_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24"/>
          <p:cNvSpPr/>
          <p:nvPr/>
        </p:nvSpPr>
        <p:spPr>
          <a:xfrm>
            <a:off x="2160720" y="3429000"/>
            <a:ext cx="3124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4.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9.4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velik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ub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628560" y="514440"/>
            <a:ext cx="85154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Image1: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ttp://en.wikipedia.org/wiki/File:Eug%C3%A8ne_Delacroix_-_Le_Massacre_de_Scio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Image 2: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ttp://static1.assistancescolaire.com/ele/images/h_europe_1815z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AVIES, Norman. 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Evropa: dějiny jednoho kontinentu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 V českém jazyce 2., rev. vyd. Praha: Prostor, 2005, 1365 s. ISBN 80-726-0138-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CARPENTIER, J a François LEBRUN. 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istoire de l'Europe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 Vyd. 1. Překlad Martin Hořák. Paris: Seuil, c1990, 620 p. Dějiny Evropy (Vyšehrad). ISBN 20-201-2494-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ttp://fr.wikipedia.org/wiki/Sc%C3%A8ne_des_massacres_de_Sc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52000" y="25920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Étudier un tabl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E"/>
          <p:cNvPicPr/>
          <p:nvPr/>
        </p:nvPicPr>
        <p:blipFill>
          <a:blip r:embed="rId1"/>
          <a:stretch/>
        </p:blipFill>
        <p:spPr>
          <a:xfrm>
            <a:off x="2195640" y="907920"/>
            <a:ext cx="4449600" cy="54435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0" y="6452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Image 1: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en.wikipedia.org/wiki/File:Eug%C3%A8ne_Delacroix_-_Le_Massacre_de_Scio.jpg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E"/>
          <p:cNvPicPr/>
          <p:nvPr/>
        </p:nvPicPr>
        <p:blipFill>
          <a:blip r:embed="rId1"/>
          <a:stretch/>
        </p:blipFill>
        <p:spPr>
          <a:xfrm>
            <a:off x="1809720" y="0"/>
            <a:ext cx="5607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1766880" y="-22320"/>
            <a:ext cx="57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«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 Scène des massacres de Scio », 1824,  E. Delacro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E"/>
          <p:cNvPicPr/>
          <p:nvPr/>
        </p:nvPicPr>
        <p:blipFill>
          <a:blip r:embed="rId1"/>
          <a:stretch/>
        </p:blipFill>
        <p:spPr>
          <a:xfrm>
            <a:off x="250920" y="260280"/>
            <a:ext cx="3038400" cy="3716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3492360" y="1699200"/>
            <a:ext cx="565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 tableau s´appelle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cène des massacres de Scio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ormulez des hypo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è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s sur le tablea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492360" y="309564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 massacre de qui? Par qui? Pourqu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trouve Chios? Qui le con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ô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h_europe_1815z"/>
          <p:cNvPicPr/>
          <p:nvPr/>
        </p:nvPicPr>
        <p:blipFill>
          <a:blip r:embed="rId1"/>
          <a:srcRect l="2743" t="0" r="0" b="0"/>
          <a:stretch/>
        </p:blipFill>
        <p:spPr>
          <a:xfrm>
            <a:off x="0" y="1557360"/>
            <a:ext cx="9144000" cy="42940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6084720" y="4869000"/>
            <a:ext cx="1006560" cy="503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6732720" y="3429000"/>
            <a:ext cx="1942920" cy="1079640"/>
          </a:xfrm>
          <a:prstGeom prst="wedgeRoundRectCallout">
            <a:avLst>
              <a:gd name="adj1" fmla="val -27370"/>
              <a:gd name="adj2" fmla="val 91175"/>
              <a:gd name="adj3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hios est un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î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e dans la mer Ég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60" y="47628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calisation de Ch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63082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Image 2: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static1.assistancescolaire.com/ele/images/h_europe_1815z.jpg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E"/>
          <p:cNvPicPr/>
          <p:nvPr/>
        </p:nvPicPr>
        <p:blipFill>
          <a:blip r:embed="rId1"/>
          <a:stretch/>
        </p:blipFill>
        <p:spPr>
          <a:xfrm>
            <a:off x="2771640" y="2133720"/>
            <a:ext cx="3568680" cy="4365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250920" y="40464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assacre de Chios (18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ors du so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è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vement des Grecs de Chios contre les Ottomans l´armée ottomane a massacré les habitants de l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î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(20 000 morts). Les 45 000 Grecs auraient été vendus comme esclaves. Le tableau a marqué l´opinion publique europé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E"/>
          <p:cNvPicPr/>
          <p:nvPr/>
        </p:nvPicPr>
        <p:blipFill>
          <a:blip r:embed="rId1"/>
          <a:stretch/>
        </p:blipFill>
        <p:spPr>
          <a:xfrm>
            <a:off x="2411280" y="981000"/>
            <a:ext cx="4276800" cy="52308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50560" y="260280"/>
            <a:ext cx="63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alysons le tableau. Qu´est-ce qu´on obser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539640" y="836640"/>
            <a:ext cx="2952720" cy="720720"/>
          </a:xfrm>
          <a:prstGeom prst="wedgeRoundRectCallout">
            <a:avLst>
              <a:gd name="adj1" fmla="val 43976"/>
              <a:gd name="adj2" fmla="val 2488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a population civ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 quelle nationalit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651640" y="907920"/>
            <a:ext cx="2952720" cy="649440"/>
          </a:xfrm>
          <a:prstGeom prst="wedgeRoundRectCallout">
            <a:avLst>
              <a:gd name="adj1" fmla="val -32796"/>
              <a:gd name="adj2" fmla="val 17909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 sold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 quelle nationalit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50920" y="5445000"/>
            <a:ext cx="2952720" cy="720720"/>
          </a:xfrm>
          <a:prstGeom prst="wedgeRoundRectCallout">
            <a:avLst>
              <a:gd name="adj1" fmla="val 91722"/>
              <a:gd name="adj2" fmla="val -65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 civils morts, blessés ou tortu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5867280" y="5157720"/>
            <a:ext cx="2952720" cy="720720"/>
          </a:xfrm>
          <a:prstGeom prst="wedgeRoundRectCallout">
            <a:avLst>
              <a:gd name="adj1" fmla="val -36990"/>
              <a:gd name="adj2" fmla="val -30242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 soldats triomphants, victori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50200" y="260280"/>
            <a:ext cx="46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Qu´est-ce qu´on peut en concl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24000" y="1700280"/>
            <a:ext cx="84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a population civile grecque de Chios est massacrée par les soldats ottomans. Les habitants de l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 se sont révoltés contre l´occupation ottomane. Il veulent la libert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a liberté et l´exaltation des sentiments sont aussi les valeurs du nouveau mouvement artistique. L´auteur ce tableau Delacroix l´annonce. Il s´agit du romantisme. L´artiste devient alors un agent important dans la création du sentiment na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E"/>
          <p:cNvPicPr/>
          <p:nvPr/>
        </p:nvPicPr>
        <p:blipFill>
          <a:blip r:embed="rId1"/>
          <a:stretch/>
        </p:blipFill>
        <p:spPr>
          <a:xfrm>
            <a:off x="250920" y="765000"/>
            <a:ext cx="3038400" cy="3716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3492360" y="1699200"/>
            <a:ext cx="565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 tableau s´appelle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cène des massacres de Scio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ormulez des hypo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è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s sur le tablea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492360" y="309564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 massacre de qui? Par qui? Pourqu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trouve Chios? Qui le con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ô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24360" y="1890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rrig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24000" y="47242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e massacre de la population civile grec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ar l´armée ottom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es habitants se sont révoltés contre la présence ottom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hios se trouve dans la mer Ég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hios est con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é par l´empire otto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16:04:50Z</dcterms:created>
  <dc:creator>mvelik</dc:creator>
  <dc:description/>
  <dc:language>en-US</dc:language>
  <cp:lastModifiedBy>doma</cp:lastModifiedBy>
  <dcterms:modified xsi:type="dcterms:W3CDTF">2014-05-05T21:04:33Z</dcterms:modified>
  <cp:revision>10</cp:revision>
  <dc:subject/>
  <dc:title>Le soulevement grec DZ_2_15</dc:title>
</cp:coreProperties>
</file>