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076-E7A3-4DEF-ADA9-C870717091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chodní pohled – věž táborské radnice,věž koste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8BA0-C9F9-4340-B55D-57390C6480B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ižní pohled na bývalý táborský pivov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2D9D-4727-4E9D-A803-4708815D1BF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ižní pohled na bývalý táborský pivov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35CA-F3A1-45C4-AA8F-15152B5459F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chod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E1C0-4F1E-4BAE-90EA-FC10E78E9F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ižní pohled na Táb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ACE-56A6-42B8-A044-99A3EBC52F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pět již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0A5-B53B-4650-B7E2-3D88514438A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pět již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D901-1DEB-432C-9DE1-7A4F59B062F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pět již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8CA-BEDB-404C-BA01-BCDE2B43962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69C-8270-48B3-B609-B7A97EC1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E7E-5557-47AA-B7CF-BE6ECBC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003-7A6F-4728-9102-E6C82E56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6F5-C238-4DB8-93DC-93990D12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F301-2F26-45BF-8530-101F6AE0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6BCD-747A-411A-951A-D995303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FF0E-4415-456F-A1A5-A800D76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2B49-4385-4484-8EBC-F8D7E700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303F-A14D-4A9B-B13B-C8575F1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6511-6360-4850-83EC-5B94395E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151-5FC1-4D06-B985-17EB40A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49D-B7E9-402B-9CAF-33468BC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6B7B-FD9B-4681-AFE0-C842940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DF12-4B28-4E7A-AAF6-F2E5324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08A-E6E4-4F23-B7E7-A18539CA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249E-75FA-42E9-A59B-4E86D46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625-F358-4B4A-BAEB-39E49AE6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6BA-24C3-4B08-B7F4-25F8837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58A-2EF0-4D8B-BE0B-996C6C4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15D-DB8A-4202-9FAC-5C589EB1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C62-172F-4C5B-AF25-34837CF0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C5E-7EF6-4B86-998E-BCF9923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DBC-8260-4EB3-A2F7-8456F01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C9C-C89F-46F7-96DE-9AEF1DB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A854-51DB-47F6-8CC2-A78FA4A27EBE}" type="slidenum"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29E3-EBD3-4545-BB0D-437B2EE5AD15}" type="slidenum"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Inovace vybavení  registrační číslo projektu CZ.1.07/1.5.00/34.0325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1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2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TextovéPole 6"/>
          <p:cNvSpPr/>
          <p:nvPr/>
        </p:nvSpPr>
        <p:spPr>
          <a:xfrm>
            <a:off x="320760" y="1165320"/>
            <a:ext cx="6195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  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 Ida 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331920" y="903240"/>
            <a:ext cx="647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  :      Tábor - our hussite heritage, Geography and History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ovéPole 9"/>
          <p:cNvSpPr/>
          <p:nvPr/>
        </p:nvSpPr>
        <p:spPr>
          <a:xfrm>
            <a:off x="5335560" y="1908000"/>
            <a:ext cx="206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anglický jazyk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TextovéPole 12"/>
          <p:cNvSpPr/>
          <p:nvPr/>
        </p:nvSpPr>
        <p:spPr>
          <a:xfrm>
            <a:off x="5214960" y="2205000"/>
            <a:ext cx="241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 18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TextovéPole 14"/>
          <p:cNvSpPr/>
          <p:nvPr/>
        </p:nvSpPr>
        <p:spPr>
          <a:xfrm>
            <a:off x="320760" y="2914560"/>
            <a:ext cx="6338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       19. listopadu  2012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ovéPole 15"/>
          <p:cNvSpPr/>
          <p:nvPr/>
        </p:nvSpPr>
        <p:spPr>
          <a:xfrm>
            <a:off x="320760" y="3429000"/>
            <a:ext cx="4611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                       4.C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TextovéPole 16"/>
          <p:cNvSpPr/>
          <p:nvPr/>
        </p:nvSpPr>
        <p:spPr>
          <a:xfrm>
            <a:off x="320760" y="3178080"/>
            <a:ext cx="6699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       Mgr.  Ida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TextovéPole 17"/>
          <p:cNvSpPr/>
          <p:nvPr/>
        </p:nvSpPr>
        <p:spPr>
          <a:xfrm>
            <a:off x="4572000" y="148428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TextovéPole 19"/>
          <p:cNvSpPr/>
          <p:nvPr/>
        </p:nvSpPr>
        <p:spPr>
          <a:xfrm>
            <a:off x="1096920" y="1919160"/>
            <a:ext cx="466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: čtvrtý  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_ A_2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ázek 1" descr="TABOR II (6).JPG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4508640"/>
          </a:xfrm>
          <a:prstGeom prst="rect">
            <a:avLst/>
          </a:prstGeom>
          <a:ln w="0">
            <a:noFill/>
          </a:ln>
        </p:spPr>
      </p:pic>
      <p:sp>
        <p:nvSpPr>
          <p:cNvPr id="131" name="TextovéPole 1"/>
          <p:cNvSpPr/>
          <p:nvPr/>
        </p:nvSpPr>
        <p:spPr>
          <a:xfrm>
            <a:off x="0" y="4630680"/>
            <a:ext cx="9144000" cy="22269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t played a vital role in politics, it had a strong economy, its own armed forces and it even had its own foreign policy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citizens of Tabor did not respect the authority of the Czech King.</a:t>
            </a:r>
            <a:r>
              <a:rPr b="0" lang="cs-CZ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rázek 1" descr="TABOR II (102)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TextovéPole 1"/>
          <p:cNvSpPr/>
          <p:nvPr/>
        </p:nvSpPr>
        <p:spPr>
          <a:xfrm>
            <a:off x="0" y="4630680"/>
            <a:ext cx="9144000" cy="22269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 1452 it was the first time that the unique fortification system let the citizens of Tabor down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The town surrendered to the troops of the Governor of Bohemia, Jiri of Podebrady; only then the proud town acknowledged the king to be their master.</a:t>
            </a:r>
            <a:r>
              <a:rPr b="0" lang="cs-CZ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rázek 1" descr="TABOR II (102).JPG"/>
          <p:cNvPicPr/>
          <p:nvPr/>
        </p:nvPicPr>
        <p:blipFill>
          <a:blip r:embed="rId1"/>
          <a:stretch/>
        </p:blipFill>
        <p:spPr>
          <a:xfrm>
            <a:off x="468360" y="0"/>
            <a:ext cx="8129520" cy="5084640"/>
          </a:xfrm>
          <a:prstGeom prst="rect">
            <a:avLst/>
          </a:prstGeom>
          <a:ln w="0">
            <a:noFill/>
          </a:ln>
        </p:spPr>
      </p:pic>
      <p:sp>
        <p:nvSpPr>
          <p:cNvPr id="135" name="TextovéPole 1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 1437 Tabor became a royal town; the privilege was granted by the Holy Roman Emperor and Czech King Sigismund of Luxembourg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rázek 1" descr="TABOR II (10).JPG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4619520"/>
          </a:xfrm>
          <a:prstGeom prst="rect">
            <a:avLst/>
          </a:prstGeom>
          <a:ln w="0">
            <a:noFill/>
          </a:ln>
        </p:spPr>
      </p:pic>
      <p:sp>
        <p:nvSpPr>
          <p:cNvPr id="137" name="TextovéPole 1"/>
          <p:cNvSpPr/>
          <p:nvPr/>
        </p:nvSpPr>
        <p:spPr>
          <a:xfrm>
            <a:off x="0" y="4869000"/>
            <a:ext cx="9144000" cy="18003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end of the 15th century brought peace and the town flourished. Tabor underwent a transformation from a military fortress into a real town, and the general features have not changed much ever since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ovéPole 2"/>
          <p:cNvSpPr/>
          <p:nvPr/>
        </p:nvSpPr>
        <p:spPr>
          <a:xfrm>
            <a:off x="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NOW, IT´S YOUR TURN</a:t>
            </a:r>
            <a:endParaRPr b="0" lang="en-US" sz="5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0" name="Picture 5" descr="j0234687"/>
          <p:cNvPicPr/>
          <p:nvPr/>
        </p:nvPicPr>
        <p:blipFill>
          <a:blip r:embed="rId1"/>
          <a:stretch/>
        </p:blipFill>
        <p:spPr>
          <a:xfrm>
            <a:off x="3059280" y="3213000"/>
            <a:ext cx="3095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ovéPole 2"/>
          <p:cNvSpPr/>
          <p:nvPr/>
        </p:nvSpPr>
        <p:spPr>
          <a:xfrm>
            <a:off x="0" y="1484280"/>
            <a:ext cx="86169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c00000"/>
                </a:solidFill>
                <a:latin typeface="Arial"/>
              </a:rPr>
              <a:t>INTERVIEW</a:t>
            </a:r>
            <a:endParaRPr b="0" lang="en-US" sz="7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ovéPole 2"/>
          <p:cNvSpPr/>
          <p:nvPr/>
        </p:nvSpPr>
        <p:spPr>
          <a:xfrm>
            <a:off x="0" y="14842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Describe the location of Tabor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Depict the foundation of the town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Summarize the town process after the Hussite period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What was the policy of the town?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ovéPole 2"/>
          <p:cNvSpPr/>
          <p:nvPr/>
        </p:nvSpPr>
        <p:spPr>
          <a:xfrm>
            <a:off x="2644920" y="4449600"/>
            <a:ext cx="356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           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 Mgr. Ida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auslova@gymta.cz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stopad  2012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TextovéPole 3"/>
          <p:cNvSpPr/>
          <p:nvPr/>
        </p:nvSpPr>
        <p:spPr>
          <a:xfrm>
            <a:off x="2214720" y="2500200"/>
            <a:ext cx="4708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755640" y="549360"/>
            <a:ext cx="81201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commons.wikimedia.org/wiki/File:Bohemiae_Moraviae_et_Silesiae_(Merian)_139.jp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commons.wikimedia.org/wiki/File:Tabor_CoA_CZ.pn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commons.wikimedia.org/wiki/File:Tabor_CoA_CZ.pn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wiki.rvp.cz/@api/deki/files/18563/=Obrysov%25c3%2583%25c2%25a1_mapa_%25c3%2584%25c2%258cR.jp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statní fotografie: autor: Mgr. Ida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Vybíral, Z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Tábor – informační brožura IC.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ábor: vydalo Město Tábor, odbor kultury a cestovního ruchu, 1999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ovéPole 2"/>
          <p:cNvSpPr/>
          <p:nvPr/>
        </p:nvSpPr>
        <p:spPr>
          <a:xfrm>
            <a:off x="324000" y="134136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00000"/>
                </a:solidFill>
                <a:latin typeface="Arial"/>
              </a:rPr>
              <a:t>TABOR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UR  HUSSITE  HERITAGE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81944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ovéPole 2"/>
          <p:cNvSpPr/>
          <p:nvPr/>
        </p:nvSpPr>
        <p:spPr>
          <a:xfrm>
            <a:off x="324000" y="-531720"/>
            <a:ext cx="8820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Obdélník 7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City of Tábor lies on the northern edge of South   Bohemia, on the boundary of the Třeboň Basin and the Vlašim Highlands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83 km south of the capital city of Prague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60 km north of České Budějovice (the centre of South Bohemia)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district is somewhat hilly, there are charming   little hills covered with forests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ovéPole 2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me two marked points and place the town of Tabor on the map according to the previous information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6" name="Obrázek 3" descr="cr_obrys.gif"/>
          <p:cNvPicPr/>
          <p:nvPr/>
        </p:nvPicPr>
        <p:blipFill>
          <a:blip r:embed="rId1"/>
          <a:stretch/>
        </p:blipFill>
        <p:spPr>
          <a:xfrm>
            <a:off x="1692360" y="1773360"/>
            <a:ext cx="6038640" cy="3697200"/>
          </a:xfrm>
          <a:prstGeom prst="rect">
            <a:avLst/>
          </a:prstGeom>
          <a:ln w="0">
            <a:noFill/>
          </a:ln>
        </p:spPr>
      </p:pic>
      <p:sp>
        <p:nvSpPr>
          <p:cNvPr id="117" name="Vývojový diagram: spojka 5"/>
          <p:cNvSpPr/>
          <p:nvPr/>
        </p:nvSpPr>
        <p:spPr>
          <a:xfrm>
            <a:off x="3419640" y="4365720"/>
            <a:ext cx="360360" cy="28728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Vývojový diagram: spojka 6"/>
          <p:cNvSpPr/>
          <p:nvPr/>
        </p:nvSpPr>
        <p:spPr>
          <a:xfrm>
            <a:off x="3564000" y="2852640"/>
            <a:ext cx="457200" cy="43200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TextovéPole 3"/>
          <p:cNvSpPr/>
          <p:nvPr/>
        </p:nvSpPr>
        <p:spPr>
          <a:xfrm>
            <a:off x="1835280" y="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r>
              <a:rPr b="0" lang="cs-CZ" sz="6000" spc="-1" strike="noStrike">
                <a:solidFill>
                  <a:srgbClr val="ff0000"/>
                </a:solidFill>
                <a:latin typeface="Arial Rounded MT Bold"/>
              </a:rPr>
              <a:t>HISTORY</a:t>
            </a:r>
            <a:endParaRPr b="0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056360" cy="547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1" descr="TABOR II (3).JPG"/>
          <p:cNvPicPr/>
          <p:nvPr/>
        </p:nvPicPr>
        <p:blipFill>
          <a:blip r:embed="rId1"/>
          <a:stretch/>
        </p:blipFill>
        <p:spPr>
          <a:xfrm>
            <a:off x="755640" y="404640"/>
            <a:ext cx="7416720" cy="446436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1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The primary functio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of the </a:t>
            </a: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town- fortress was to protect its citizens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against all enemi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it was built on a promontory above the confluence of the River Tismenicky and the River Luznic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1" descr="TABOR II (5).JPG"/>
          <p:cNvPicPr/>
          <p:nvPr/>
        </p:nvPicPr>
        <p:blipFill>
          <a:blip r:embed="rId1"/>
          <a:stretch/>
        </p:blipFill>
        <p:spPr>
          <a:xfrm>
            <a:off x="1187280" y="260280"/>
            <a:ext cx="71298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1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remarkable history of the town started in the spring of 1420 when a group of followers of the great Catholic reformer Jan Hus came here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1" descr="TABOR II (5).JPG"/>
          <p:cNvPicPr/>
          <p:nvPr/>
        </p:nvPicPr>
        <p:blipFill>
          <a:blip r:embed="rId1"/>
          <a:stretch/>
        </p:blipFill>
        <p:spPr>
          <a:xfrm>
            <a:off x="1042920" y="549360"/>
            <a:ext cx="7201080" cy="4363920"/>
          </a:xfrm>
          <a:prstGeom prst="rect">
            <a:avLst/>
          </a:prstGeom>
          <a:ln w="0">
            <a:noFill/>
          </a:ln>
        </p:spPr>
      </p:pic>
      <p:sp>
        <p:nvSpPr>
          <p:cNvPr id="127" name="TextovéPole 1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hill bore the biblical name Tabor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citizens hoped to turn their vision of a just society into reality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ázek 1" descr="TABOR II (5).JPG"/>
          <p:cNvPicPr/>
          <p:nvPr/>
        </p:nvPicPr>
        <p:blipFill>
          <a:blip r:embed="rId1"/>
          <a:stretch/>
        </p:blipFill>
        <p:spPr>
          <a:xfrm>
            <a:off x="826920" y="692280"/>
            <a:ext cx="7201080" cy="407664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1"/>
          <p:cNvSpPr/>
          <p:nvPr/>
        </p:nvSpPr>
        <p:spPr>
          <a:xfrm>
            <a:off x="0" y="5300640"/>
            <a:ext cx="9144000" cy="9471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Rounded MT Bold"/>
              </a:rPr>
              <a:t>The town soon became the power base of the Hussite movemen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8:57:04Z</dcterms:created>
  <dc:creator>Pavel Taušl</dc:creator>
  <dc:description/>
  <dc:language>en-US</dc:language>
  <cp:lastModifiedBy>hchotovinska</cp:lastModifiedBy>
  <dcterms:modified xsi:type="dcterms:W3CDTF">2014-05-15T06:23:15Z</dcterms:modified>
  <cp:revision>137</cp:revision>
  <dc:subject/>
  <dc:title>Snímek 1</dc:title>
</cp:coreProperties>
</file>