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568A0-9F51-4075-A6B8-9954293FFC9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A1D5E-AA6B-4994-849A-0CE6A35CBC5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C6619-68B6-473D-896B-3CD68E7FC52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4AE08-0348-47F4-B88E-777EFB0B012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0E80A-74CB-45FD-A9CC-709EDCC9053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BC0DB-81A8-4F6C-A9C3-ECBF6FACC15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D4A4D-E6EF-418F-889B-CA331662F1E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A0E9E-7100-4AF3-9877-7E65B020F44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B5ED2-EA45-45E0-A786-D04A3FB93D2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A2A38-EA2C-45DF-9E28-0707AB4F7D7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7F5-6291-4360-AD47-7835158E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109-5E63-4A8F-A076-7F6FD577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E44-2383-4571-A03E-55D65BCE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CA1-9269-4A37-A649-0F5AE960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A8C-F043-41FB-B7E3-991C5596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AFA-5266-43ED-BD0E-7837C33C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7B2-F2F2-4149-A97A-450923E6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26D-124B-48ED-A235-025C959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550-0979-484A-BF85-D58A1E57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2C6-35B6-4392-B4DE-DBC42B0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4FD-95DA-4513-AB37-A714AB4C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370-C38E-44DC-8CA8-DC54158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CFF58-71CE-45CE-9361-447367B47C8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731960" y="189000"/>
            <a:ext cx="6451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Registrační číslo projektu: CZ.1.07/1.5.00/34.03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1200" y="479520"/>
            <a:ext cx="85168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82560" y="5834160"/>
            <a:ext cx="6913800" cy="1331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868320" y="5367240"/>
            <a:ext cx="83408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4800600"/>
            <a:ext cx="102553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52440" y="1284120"/>
            <a:ext cx="189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65040" y="995400"/>
            <a:ext cx="2141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52440" y="2394000"/>
            <a:ext cx="855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545080" y="2103480"/>
            <a:ext cx="2165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 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tělesná vých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52440" y="1814400"/>
            <a:ext cx="2192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52440" y="2103480"/>
            <a:ext cx="113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688000" y="2406600"/>
            <a:ext cx="2224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2440" y="2922480"/>
            <a:ext cx="3048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52440" y="3213000"/>
            <a:ext cx="2192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 30.10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52440" y="3780000"/>
            <a:ext cx="1379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 kvi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52440" y="3502080"/>
            <a:ext cx="2759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 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2381400" y="995400"/>
            <a:ext cx="19047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osilování – pojm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381400" y="1284120"/>
            <a:ext cx="17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235160" y="2103480"/>
            <a:ext cx="5140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7561440" y="2103480"/>
            <a:ext cx="2215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ročník: pr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235160" y="2394000"/>
            <a:ext cx="931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Tv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7988400" y="2368440"/>
            <a:ext cx="13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2381400" y="3489480"/>
            <a:ext cx="17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2381400" y="3780000"/>
            <a:ext cx="730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2390760" y="3213000"/>
            <a:ext cx="192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09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Svalová</a:t>
            </a:r>
            <a:r>
              <a:rPr b="1" lang="cs-CZ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kontr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0936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alový stah (kontrakce) a uvolnění (relaxace) jsou základní vlastnosti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33440" y="3600360"/>
            <a:ext cx="9070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Délka svalu při kontrak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048360" y="4967280"/>
            <a:ext cx="180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ne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>
            <a:hlinkClick r:id="rId2" action="ppaction://hlinksldjump"/>
          </p:cNvPr>
          <p:cNvSpPr/>
          <p:nvPr/>
        </p:nvSpPr>
        <p:spPr>
          <a:xfrm>
            <a:off x="1335240" y="4978440"/>
            <a:ext cx="1663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>
            <a:hlinkClick r:id="" action="ppaction://hlinkshowjump?jump=lastslide"/>
          </p:cNvPr>
          <p:cNvSpPr/>
          <p:nvPr/>
        </p:nvSpPr>
        <p:spPr>
          <a:xfrm>
            <a:off x="503280" y="241200"/>
            <a:ext cx="9070920" cy="68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Změny velikosti svalu v závislosti na  jeho činnosti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>
            <a:hlinkClick r:id="rId1" action="ppaction://hlinksldjump"/>
          </p:cNvPr>
          <p:cNvSpPr/>
          <p:nvPr/>
        </p:nvSpPr>
        <p:spPr>
          <a:xfrm>
            <a:off x="431640" y="5543640"/>
            <a:ext cx="5613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ly jsou v úplné nečin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>
            <a:hlinkClick r:id="rId2" action="ppaction://hlinksldjump"/>
          </p:cNvPr>
          <p:cNvSpPr/>
          <p:nvPr/>
        </p:nvSpPr>
        <p:spPr>
          <a:xfrm>
            <a:off x="500040" y="2376360"/>
            <a:ext cx="626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ly jsou pravidelně posil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>
            <a:hlinkClick r:id="rId3" action="ppaction://hlinksldjump"/>
          </p:cNvPr>
          <p:cNvSpPr/>
          <p:nvPr/>
        </p:nvSpPr>
        <p:spPr>
          <a:xfrm>
            <a:off x="488880" y="3887640"/>
            <a:ext cx="685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ly nejsou pravidelně zapoj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1041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Hypertro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60360" y="2592360"/>
            <a:ext cx="71280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objemu svalových vlá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524720" y="82872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3313080" y="41767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>
            <a:hlinkClick r:id="rId3" action="ppaction://hlinksldjump"/>
          </p:cNvPr>
          <p:cNvSpPr/>
          <p:nvPr/>
        </p:nvSpPr>
        <p:spPr>
          <a:xfrm>
            <a:off x="8064360" y="5543640"/>
            <a:ext cx="648000" cy="431640"/>
          </a:xfrm>
          <a:prstGeom prst="leftArrow">
            <a:avLst>
              <a:gd name="adj1" fmla="val 50000"/>
              <a:gd name="adj2" fmla="val 37531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Hypotro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1640" y="2879280"/>
            <a:ext cx="4967280" cy="190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chabování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875200" y="25639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>
            <a:hlinkClick r:id="rId2" action="ppaction://hlinksldjump"/>
          </p:cNvPr>
          <p:cNvSpPr/>
          <p:nvPr/>
        </p:nvSpPr>
        <p:spPr>
          <a:xfrm>
            <a:off x="7199280" y="6048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Atro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907092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bytek svalové tkáně – např. při fixaci zlomeni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527280" y="324000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>
            <a:hlinkClick r:id="rId2" action="ppaction://hlinksldjump"/>
          </p:cNvPr>
          <p:cNvSpPr/>
          <p:nvPr/>
        </p:nvSpPr>
        <p:spPr>
          <a:xfrm>
            <a:off x="7991640" y="5975280"/>
            <a:ext cx="647640" cy="432000"/>
          </a:xfrm>
          <a:prstGeom prst="leftArrow">
            <a:avLst>
              <a:gd name="adj1" fmla="val 50000"/>
              <a:gd name="adj2" fmla="val 37479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Izotonická kontr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210280" y="1871640"/>
            <a:ext cx="2206440" cy="4416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7704000" y="1860480"/>
            <a:ext cx="2127240" cy="4402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76360" y="2386080"/>
            <a:ext cx="41749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al vykonává pohyb 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dynamické cv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 svalu se ne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ní se délka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al se zkracuje koncentr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al se natahuje excentr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7128000" y="676764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Izometrická kontr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983280" y="2087640"/>
            <a:ext cx="1652760" cy="3862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76360" y="2376360"/>
            <a:ext cx="439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drž v určité poloze 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statické cv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ní se napětí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élka svalu se ne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415280" y="640872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1"/>
          <p:cNvSpPr/>
          <p:nvPr/>
        </p:nvSpPr>
        <p:spPr>
          <a:xfrm>
            <a:off x="2879640" y="5724360"/>
            <a:ext cx="4308480" cy="15494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095640" y="6012000"/>
            <a:ext cx="393048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oudova@gymta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říje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27160" y="201600"/>
            <a:ext cx="48877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47640" y="539640"/>
            <a:ext cx="91663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kopová, M., Zítko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Základní gymnastika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Praha: Univerzita Karlova, 200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, Jarkovská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 s vlastním tělem 417krát jinak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 Praha: Grada publishing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: kondiční kruhový trénink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Praha: Grada publishing,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ffice.com: obrázky. MICROSOFT CORPORATIO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ffice.co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12. vyd. [cit. 2012-10-26]. Dostupné z: http://officeimg.vo.msecnd.net/en-us/images/MH90043439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ffice.com: obrázky. MICROSOFT CORPORATIO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ffice.co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12. vyd. [cit. 2012-10-26]. Dostupné z: http://officeimg.vo.msecnd.net/en-us/images/MH900198184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ffice.com: obrázky. MICROSOFT CORPORATIO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ffice.co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12. vyd. [cit. 2012-10-26]. Dostupné z: http://officeimg.vo.msecnd.net/en-us/images/MH900429819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ffice.com: obrázky. MICROSOFT CORPORATIO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ffice.co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12. vyd. [cit. 2012-10-26]. Dostupné z: http://officeimg.vo.msecnd.net/en-us/images/MH900413574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45:39Z</dcterms:created>
  <dc:creator/>
  <dc:description/>
  <dc:language>en-US</dc:language>
  <cp:lastModifiedBy>hchotovinska</cp:lastModifiedBy>
  <dcterms:modified xsi:type="dcterms:W3CDTF">2014-06-10T12:50:24Z</dcterms:modified>
  <cp:revision>17</cp:revision>
  <dc:subject/>
  <dc:title>Snímek 1</dc:title>
</cp:coreProperties>
</file>